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0805-2927-46D2-9DF8-55A4A50D67F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A305-6EC2-4557-ACB4-D05D4ECFE96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lantilles de catalogac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plantilles de Millennium estaran disponible amb els camps 336, 337, i 338 preestablertes. Podeu escollir la plantilla apropiada per al tipus de contingut del recurs i si es necessita més d'un d'aquests camps, podeu copiar els camps i després enganxar-l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C6E9-4B46-492A-BE49-0426EF5F0FB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 l'extensió és un ELEMENT BÀS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s: Useu l’evidència presentada pel recurs mateix (o en qualsevol material d’acompanyament o contenidor) com a base per a enregistrar l’extensió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RDA parla d'"unitat" (p. ex.; un volum) o de subunitats (p. ex., una pàgin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464D-BE2F-40BC-AAD8-8C12EE75D0D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nregistrament de l'extensi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’extensió és un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element bàsic nomé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recurs és complet o si se’n sap l’extens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l'extensió d'un recurs donant el nombre d'unitats i un terme apropiat per al tipus de suport, d'acord a la llista d'RDA 3.3.1.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terme no està a la llista, enregistreu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ces diverse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ropiat, o un terme d'ús comú. (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n aquest cas aviseu a fi de recollir-ho en concreció per a l'ús d'altres institucions)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erme en singular o plural segons correspongui. Si el recurs consta de més d'un tipus de suport físic, enregistreu el número corresponent a cada tip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CE18-AAAF-4239-9EA6-24F8DCF8A0E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  de recursos específic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.2-3.4.6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dóna instruccions especials per a materials cartogràfics, música notada, imatges fixes, textos i objectes tridimensionals. No entrarem a comentar cadascuna d'aquestes instruccions, tanmateix fixeu-vos en els exemples que no hi ha abreviatures. Aquest és un dels canvis d'RDA respecte a les AACR2  o ISB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03E1-2E0F-47C3-8F79-5A6C40F8682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'extensió està tractada sota cada tipus de recurs. Veurem algun exemples de dels recursos que són "text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C516-4E2A-47A1-BCEB-23CC1DA06E6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 del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RDA 3.4.5.2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umera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a un recurs d'un sol volum, enregistreu l'extensió en termes de pàgines, fulls o columnes, segons correspongui, aplicant les instruccions genera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està paginat (si les pàgines tenen números en ambdós costats dels fulls), enregistreu el nombre de pàg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està foliat (si els fulls estan numerats en un sol costat), enregistreu el nombre de fu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consta de pàgines amb més d'una columna per pàgina, i les columnes estan numerades, enregistreu el nombre de colum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té seqüències de fulls i pàgines, o pàgines i columnes numerats, o fulls i columnes numerades, enregistreu cada seqüènc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.5.3 Un volum sol amb les pàgines, els fulls o les columnes no numerat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(RDA 3.4.5.3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ot i que RDA dóna tres opcions per a aquestes situacions, la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4.5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segueix la pràctica d'aplicar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l mètode c) 1 volum (no paginat)" excepte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er a recursos impreso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ntics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instruccions d'RDA 3.4.5 recullen casuístiques de "extensió", incloent canvis en la forma de la numeració dins d'una seqüència, numeració errònia, volums incomplets, paginació complexa o irregular, fulls o pàgines de làmines, més d'un volum, volums amb paginació contínua, actualització de fulls solts, i altres situac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a la paginació complexa o irregular la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 Concreció 3.4.5.8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segueix la pràctica d'aplicar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"el mètode c)  1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 volum (paginació múltiple)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C190-AB73-4E23-BE36-43D06A5F43F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entrarem a comentar cadascun, tanmateix fixeu-vos que no s'utilitzen claudàtors per a les pàgines, etc. no numerades, ni les abreviatures "ca.", "i.e.", 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E4C3-DC49-4EB4-84EB-60D9850D503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rincipals canvis relacionats amb l'extensió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utitizar abreviatures per als termes com per exemple, "pàgines," "volums", (no "p.", "vol.", "v.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ar "aproximadament" (en lloc de "ca.") i "és a dir" (en lloc de "i.e.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ar "pàgines no numerades", "fulls no numerats", etc. en lloc de donar els números entre claudà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ambé cal anar amb compte amb els canvis en el vocabulari, ex: "partitura guió" s'usa tant, per a la "partitura guió" com per a la "partitura reduïda". Consulteu RDA 3.3.1.3, 3.4.2 -3.4.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9033-AB0A-4200-965E-1D6275F8361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im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5 les dimensions són un ELEMENT BÀSIC PER A LA BC I EL CCUC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xcepte en el cas de publicacions en sèrie i recursos en lín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dimensions són un altre element de la descripció del suport d'una manifestació. En el cas de publicacions en sèrie és opcional, si es considera es poden don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dimensions són les mesures del suport físic o dels suports físics i/o del contenidor d’un recurs. Les dimensions inclouen les mesures d’alçada, amplada, profunditat, llargada, format i diàme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les dimensions en centímetres arrodonits al següent centímetre complet, usant el símbol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(ex., 17,2 centímetre, enregistreu 18 cm) o en mil·límetres, useu el símbol mètri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m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9A96-670E-41B5-B95B-CEAA40E6840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aquesta diapositiva  hi ha exemples que mostren l'extensió al camp 300 subcamp $a i als camps 336-337-33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1r exemple és el mateix que hem vist abans; l'extensió està donada en termes de pàg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2n exemple, el terme "disc àudio"  obtingut de la llista que de suports físics (RDA 3.3.1.3), s'utilitza també per a descriure l'extensió de la unitat; per tant, 300 $a i 338 $a porten el mateix terme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CDBD-C10E-4C8D-A761-7B26A05A7BF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escripció de suports fí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ra veurem les instruccions relacionades amb l’enregistrament dels atributs del suport físic de les manifestacions. El propòsit d'aquests elements, és ajudar l'usuari a seleccionar el recurs que vol obten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BC10-EB72-4165-AEDF-2FE6A57EE6A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ràctica conjun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284D-1717-41C4-8C25-0FE4439B859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ràctica conjun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A341-E7CC-4147-8CDF-102CE15C1EA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cas és un lloc web que conté diversos tipus de continguts: el text es considera el predominant, tanmateix la presència de mapes i fotografies  és considerable i és recomanable informar els camps 336 corresponents a aquest tipus de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F70C-02AF-4569-9B53-7A0E2AEB787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exemple mostra l'ús del subcamp $3 en els camps 336-337-338 per identificar les característiques de cada part del recurs.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T</a:t>
            </a: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  <a:ea typeface="Courier New"/>
              </a:rPr>
              <a:t>anmateix  l'ús de $3 és opci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A583-BA5A-4BA3-ACE6-4B97F57C649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exemple és un recull o  col·lecció de fotografies procedent d'un donant. Cal tractar-lo com un tot i proporcionar els camps 33X d'acord amb el seu contingu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F2D5-B839-466C-B2D6-4D905B7C42C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nivell de CSUC s'ha decidit utilitzar els nous camps MARC per a donar la característica del so (MARC 344),  la característica vídeo (MARC 346) i la  característica del fitxer digital (MARC 347 i 35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BB47-A0C4-45D7-82E4-52809FDABC0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aracterística del so – MARC 3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na característica del so és una especificació tècnica relativa a la codificació del so d’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í es llisten les instruccions addicionals que s'han de considerar en el moment de catalogar recursos sonors. No anem a tractar aquests elements en detall, doncs la majoria ja eren enregistrats en els registres MARC, però en el camp 300 o en no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4CE6-CF32-4194-8A93-D5DBF33CC50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aracterística vídeo – MARC 34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na característica vídeo és una especificació tècnica relativa a la codificació de les imatges de vídeo d’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í es llisten les instruccions addicionals que s'han de considerar en el moment de catalogar imatges en moviment. No anem a tractar aquests elements en detall, doncs la majoria ja eren enregistrats en els registres MARC, però en el camp 300 $b o en no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77C5-4A6F-4BA7-B364-E06C90C0E16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ltres característiq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continuació es llisten instruccions addicionals que s'han de considerar en el moment de catalogar recursos fitxers digitals. No anem a tractar aquests elements en det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D000-A52E-4EC0-926C-0A27E889082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 d'enregistraments son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EA74-6F0B-4FB0-97A0-F13F08DD877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Substitució de la designació general de materi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esignació general de material (DGM) del subcamp $h no existeix a RDA. La DGM era un conjunt de termes inconsistents, que de vegades es referia al contingut i altres vegades al supo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Joint Steering Committee, conjuntament amb la comunitat d'editors (ONIX), van desenvolupar tres elements per a “substituir" la DG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nous camps MARC só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contingut - RDA 6.9 (camp MARC 336)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(que en realitat és un atribut de l'expressió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suport - RDA 3.2 (camp MARC 33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suport físic - RDA 3.3 (camp MARC 33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3932-D8C0-4A10-97C8-6886FE56C01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 d'enregistraments de ví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63B5-FFCA-4DB8-AA0F-EE10BE89AFD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ltres característiques - Recursos cartogràf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isposició (RDA 3.11 ) i la característica del fitxer digital (RDA 3.19.8) só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9137-0E99-469E-827A-C7057C61D1D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2A38-6FBF-40B9-8172-F835EBE3154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triccions d'accé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4 les restriccions d'accés són un ELEMENT BÀSIC PER A LA BC I EL CCU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F303-ABEF-4748-BECE-09F5C342B5C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triccions d'ú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5 les restriccions d'ús són un ELEMENT BÀSIC PER A LA B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ón notes que indiquen a l'usuari les limitacions imposades sobre els usos del recurs, com ara la reproducció, la publicació, l’exposició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0658-C885-4ED4-9AFB-AC512DCC529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dreça UR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6 l'adreça URL és un ELEMENT BÀSIC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RL és l'adreça d’un recurs d’accés remot. Les URL inclouen tots els identificadors del recurs, destinats a permetre l'accés en línia a un recurs mitjançant l'ús d'un cercador d'internet normalitz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5FE8-D75F-4A85-890D-2128AAEF255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URL: restriccions i accé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pràctica utilitzada fins ara no canvia amb l'aplicació d'RD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320E-6F68-41EB-84CF-1FD1B2588B4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Canvis que requereixen l’addició, la revisió o l’eliminació d’una adreça UR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4.6.1.4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mostra la pràctica de la BC per a recursos que pertanyen a la Bibliografia nacional de Catalunya i la URL ja no està activa. Es cerca a interne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s troba l'adreça, s'actualitza al regis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no es troba i es considera important de mantenir el recurs a la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BnC,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'informa un $z i $x de la seguent maner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856 40 $zAdreça electrònica (http....) no disponible en fer la cerca el 06/03/2015$xBibliografia nacional de Catalun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D13D-9D9B-4CE3-AF57-DD6052904CD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46A0-06DA-43D2-A87B-9A60B491613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escripció del conting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Deixem el capítol 6, que tracta sobre les obres i les expressions per més endavant, i tractarem primer el capítol 7 perquè inclou una sèrie d'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tributs de les obres i les expression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 associats amb el contingut d’un recurs que són enregistrats en un registre bibliogràfic en el camp 300 i en camps de no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8CCB-8AB4-483D-B069-D2D61EE1293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dificació MARC de cada un d'aquests ca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cada camps conté: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terme,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b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codi i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2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subcamp $2 identifica el vocabulari d’RDA utilitzat (en un camp 336 ha de ser "rdacontent"; en un camp 337 "rdamedia" i en un camp 338 "rdacarrier"). Aquests són codis registrats i validats per MARC 21, no s'han de traduir mai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subcamp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es fa servir, si es considera necessari, per identificar parts d'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correspondència entre el terme, el codi i la font de cada element RDA es troben disponibles en tres documents publicats per la B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[Veurem exemple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C53E-0F41-4A31-AEB5-1678BC40A9D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DA divideix els elements de contingut 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tributs de l'o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tributs de l'express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a distinció no sempre és intuïtiva, però està clarament dividida a les instrucc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analitzarem cada element de contingut d'RDA. Començarem per aquells elements que s'han d'enregistrar en un camp MARC 300 i continuarem pels elements que s'han considerat bàsics o han estat contemplats en els nivells de catalogac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FBCF-8A9C-4B30-82AD-5AD5B754DBA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MARC - Descripció del conting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camp 300 s'han d'enregistrar elements que estan relacionats amb el contingut de les obres i les expressions. És per aquest motiu que es troben en el capítol 7 RDA i no en el capítol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urada, el contingut il·lustratiu, el de color i el sonor són atributs de les obres i/o de l'expressió. Heu de tenir present que en el camp 300 s'hi barregen dades sobre el suport físic i dades del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38A7-70A2-4711-9502-36BC29AA84D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il·lustrati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5 el contingut il·lustratiu és un 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contingut il·lustratiu és el contingut concebut per il·lustrar el contingut principal d’un recurs. Les taules que només contenen paraules i/o dades numèriques no es consideren contingut il·lustratiu. Descarteu les portades, etc., il·lustrades i les il·lustracions men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: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il·lustració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o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il·lustracions,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no useu l'abreviatura "il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33EC-741B-4EF3-B472-34A573E5E76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del col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7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el contingut del color és u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 i si es considera important per a la identificació o la selecció.. Enregistreu les particularitats del contingut de color si es consideren importants; utilitzeu frases com "(algunes en color)", "(principalment en color)", etc.; no utilitzeu l'abreviatura "col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9378-3AD5-49B9-9C8B-4D4E65F8BEB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son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8 el contingut sonor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és u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 i si es considera important per a la identificació o la selecc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onor" per indicar la presència de so en un recurs que no consisteix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rincipalment en so enregistrat.  En el cas d'enregistraments de vídeo, enregistreu: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 "so" o "mut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2F47-5DB3-4BBA-BE26-AA3A6950454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ur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2 la durada és un 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cas de la música notada, enregistraments d'àudio i de vídeo i si es pot  determinar fàcilment; si no, es pot donar una durada aproximada, o ometre-la si es desconeix. No utilitzeu abreviatures com "ca.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eu els símbols d'unitat de temps de l'apèndix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7DAE-5773-48B7-95E7-8170AF98FE8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Informació sobre la tesi o la memòri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9 la informació sobre la tesi o la memòria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 subelements s'enregistren en diferents subcamps del camp 502 (sense puntuar). A diferència d'AACR2/ISBD, amb RDA </a:t>
            </a:r>
            <a:r>
              <a:rPr b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 es fa constar si es tracta d'una tesi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Si no es disposa de tots els subelements, o no conté la tesi original, la informació disponible es dóna en un camp 500 $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2FEC-C212-404A-A1F7-522F49E5792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um del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0 el resum del contingut és un ELEMENT BÀSIC PER A LA BC I EL CCU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 dóna una nota de resum com a addició o com a substitut d’una nota de conté 505. Les notes de resum són narratives, de text lliure i normalment són emprades per donar informació sobre l’abast i el contingut del fons o de la col·lecció. El tipus d’informació pot ser: tipus i formes dels materials, ordenació, dates i matèries, persones, llocs o esdeveniments més significati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5A6D-EAA5-49D4-BF32-3C4FBF95702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Lloc  i data de captu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1 el lloc i la data de captura són un ELEMENT BÀSIC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9F6F-418D-41DF-91B2-1A6488ED1F8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Llengua del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2 la llengua del contingut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la  posició 008/35-37 es dóna el codi de llengua del recurs. El camp 041 només s'utilitza quan s'han d'enregistrar múltiples llengües incloses en el recurs (primer indicador 0) o perquè es tracta  una traducció (primer indicador 1). Utilitzeu en ambdós camps la llista de codis MARC per a les llengües. La nota 546 s'utilitza per a descriure les llengües del contingut i pot ser utilitzada per a una sola llengua si es considera úti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7D47-1636-4336-9A22-46D43AB3AEA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Vocabularis controlats  per al tipus de contingut, suport i suport fís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vocabularis per aquests termes es troben a RDA en llistes "tancades": RDA 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6.9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contingut), RDA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3.2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suport), RDA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3.3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suport físi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hi ha més d'un terme apropiat, hi ha dues opc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1- E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nregistrar tots els termes apropiats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 Si trieu aquesta opció, repetiu el camp complet, en comptes de repetir el subcamp $a en el mateix cam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2- 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riar el terme que representi el contingut, el suport o el suport físic predominant o substanc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s desconeix la informació, s’enregistra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ense especificar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cap terme d'aquestes llistes és apropiat, s’enregistra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"altre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D876-9AA5-40BF-BA24-D7FBCE5BCC3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Forma de la notaci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3 la forma de la notació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l que fa a l'escriptura, utilitzeu els subcamps $a i $b del camp 546. Anoteu el nom de la llengua en el $a i el nom de l’escriptura en un $b en les següents situacion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Quan el contingut es troba en una escriptura que no és l’habitual de la llengu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Quan el contingut és en una llengua que pot ser escrita en més d’una escriptu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564 ## $aSerbi;$bAlfabet ciríl·l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564 ## $aSerbi;$bAlfabet llat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ixeu-vos també en l'exemple, el nou ús del camp 546 per a la notació musical; amb AACR2 no es donava aquest tipus de notació i altres tipus de notació s'enregistraven en un camp 5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2454-D3B8-4670-A702-F061CCA6224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suplementar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6 el contingut suplementari és un ELEMENT BÀSIC PER A LA B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(no per al CCU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pràctica no canvia, tanmateix recordeu que no es poden utilitzar abreviat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79FC-AAA2-412A-81A8-57FDDB1B755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Música not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0-7.21 el format de la música notada i el repartiment de l’execució d’un contingut musical són ELEMENTS BÀSICS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3E31-9FF7-4AA2-ABE0-9597843AF38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cursos cartogràf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Són ELEMENTS BÀSICS PER A LA BC I EL CCUC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cala horitzontal (RDA 7.25.3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cala vertical (RDA 7.25.4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Informació d'escala addicional (RDA 7.25.5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rojecció del contingut cartogràfic (RDA 7.26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5F73-18A6-4A8C-ABD9-5F793FB0374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rem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8 els premis són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2526-BDB8-4C2B-A481-B224D95E9C2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Fi del mòdul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FF86-926F-41FD-A142-6EEA1E8234F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 6.9 el tipus de contingut és un ELEMENT BÀSI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és una categorització que reflecteix la forma fonamental de comunicació, en què s’expressa el contingut i el sentit humà per mitjà del qual s’ha de percebre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ipus de contingut del recurs, usant un o més dels termes de la llista que figura a RDA 6.9 (taula 6.1)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recurs té més d'un tipus de contingut, la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6.9.1.3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specifica l'aplicació de l'alternativ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En lloc d'enregistrar-los tots, es pot enregistra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que correspon a la part predominant del recurs (si n'hi ha alguna que sigui predominant), 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que correspongui a les parts substancials del recurs (incloent la part predominant, quan hi hagi un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0935-BDAF-49DF-9F06-9B5971DA5EE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supor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3 tipus de suport físic és un ELEMENT BÀSIC PER A LA BC I EL CCUC.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És una categorització que reflecteix el format del suport d’emmagatzematge i d’allotjament d’un suport físic en combinació amb el tipus d’aparell de mediació requerit per visionar, reproduir, fer funcionar, etc. el contingut d’un recurs (és a dir,  quin tipus d'aparell, si és el cas, es necessita per poder veure, escoltar, etc., el contingut d'un recur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s: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seu l’evidència presentada pel recurs mateix (o en qualsevol material d’acompanyament o contenidor) com a base per enregistrar el tipus de suport físic. Obtingueu l’evidència addicional de qualsevol altra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2 Alternativa: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 S'aplica.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ipus de suport utilitzant un o més dels termes de la llista 3.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hi ha més d'un terme apropiat, enregistreu el tipus de suport que correspongui a la part predominant o parts substancials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F9C0-BB35-4BD7-920D-22859788BDF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suport fís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3 el tipus de suport físic és un ELEMENT BÀS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t físic és una categorització que reflecteix el format del suport d’emmagatzematge i d’allotjament d’un suport físic en combinació amb el tipus d’aparell de mediació requerit per visionar, reproduir, fer funcionar, etc. el contingut d’un recurs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: Useu l’evidència presentada pel recurs mateix (o en qualsevol material d’acompanyament o contenidor) com a base per enregistrar el tipus de suport físic. Obtingueu l’evidència addicional de qualsevol altra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3 Alternativa: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Si hi ha més d'un terme apropiat enregistreu el tipus de suport físic que correspongui a la part predominant o parts substancials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t físic dóna informació més específica que el tipus de suport, indica el format, emmagatzematge i tipus d'aparell requerit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C516-8516-423D-8EB8-5B2DC1BDA00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1r exemple: es tracta d'un llibre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contingut en el camp 336 és "text"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sense mediació" perquè el llibre no necessita de cap aparell per poder llegir el seu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"volum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2n exemple: es tracta d'un llibre principalment il·lustrat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principal en el camp 336 és "text", però té una part substancial d'un altre tipus de contingut: "imatge fitxa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sense mediació" perquè el contingut d'un llibre pugui ser llegit no necessita cap apar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"volum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3r exemple: es tracta d'un CD de música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en el camp 336 és "</a:t>
            </a:r>
            <a:r>
              <a:rPr b="0" lang="pt-BR" sz="12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àudio", és a dir necessita d'un aparell d'àudio (en genèric) per reproduir el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un "disc àudi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(Recordeu que els termes del subcamp $a corresponen a un vocabulari controla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5E97-7B08-47FA-BEF7-899AACF9BD2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96FB-4991-427C-A1C0-7EA263083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89AB-C446-4C58-B135-D874F472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C034-F681-4CD6-ADAD-57388E3D8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ED68-10BF-4DE0-87F5-C62CA1F46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B6FE-E7F4-4F12-8622-9019F834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DA77-9A9B-4E03-93AF-B7225545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4058-7152-4378-AB15-ACE3AF14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79CF-6F70-4910-9640-4A38FB42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B13E-EC3F-4913-9EC4-F9534501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C717-AF57-47E6-832F-16D30A7E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2D4B-DB8E-4345-8093-A9F349E3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66D8-65ED-4BE8-A621-4DC2EDB9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BE4F-0C10-431A-9159-10A2595512AB}" type="datetime">
              <a:rPr b="0" lang="ca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5B1A-8547-4580-9B0C-C046971F3BB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nc.cat/sprof/normalitzacio/RDAcontingut.html" TargetMode="External"/><Relationship Id="rId2" Type="http://schemas.openxmlformats.org/officeDocument/2006/relationships/hyperlink" Target="http://www.bnc.cat/sprof/normalitzacio/RDAsuport.html" TargetMode="External"/><Relationship Id="rId3" Type="http://schemas.openxmlformats.org/officeDocument/2006/relationships/hyperlink" Target="http://www.bnc.cat/sprof/normalitzacio/RDAsuport_fisic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11280" y="333360"/>
            <a:ext cx="815328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|RDA|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, descripció i acc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76364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Biblioteca de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332000" y="2637000"/>
            <a:ext cx="6858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898989"/>
                </a:solidFill>
                <a:latin typeface="Calibri"/>
              </a:rPr>
              <a:t>Mòdul 2:</a:t>
            </a:r>
            <a:r>
              <a:rPr b="1" lang="ca-ES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Descripció dels suports fí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Informació relativa a l’adquisició i a l’acc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Descripció del conting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4962-4086-4F93-8D28-BA623E66503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Calibri"/>
              </a:rPr>
              <a:t>Plantilles Millennium:</a:t>
            </a:r>
            <a:r>
              <a:rPr b="0" lang="ca-E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1" lang="ca-ES" sz="4000" spc="-1" strike="noStrike">
                <a:solidFill>
                  <a:srgbClr val="000000"/>
                </a:solidFill>
                <a:latin typeface="Calibri"/>
              </a:rPr>
              <a:t>Camps MARC 336-337-33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61A3-9A43-4C4A-B77E-F45AB159E23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rcRect l="0" t="47507" r="64662" b="42232"/>
          <a:stretch/>
        </p:blipFill>
        <p:spPr>
          <a:xfrm>
            <a:off x="900000" y="2565360"/>
            <a:ext cx="7128000" cy="230364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84" name="6 Rectángulo"/>
          <p:cNvSpPr/>
          <p:nvPr/>
        </p:nvSpPr>
        <p:spPr>
          <a:xfrm>
            <a:off x="1047600" y="2060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Lli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7 Rectángulo"/>
          <p:cNvSpPr/>
          <p:nvPr/>
        </p:nvSpPr>
        <p:spPr>
          <a:xfrm>
            <a:off x="971640" y="50846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(En procés de creació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(RDA 3.4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= "és el nombre i el tipus d’unitats i/o de subunitats que constitueixen un recurs.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itat = és un component físic o lògic d’un recurs (ex. un volu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ubunitat = és una subdivisió física o lògica d’una unitat (per exemple, una pàgin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 300 $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45CB-6BC5-46C6-B67F-9E326B1D14D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registrament de l'extensió (RDA 3.4.1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41264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’extensió és un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és si el recurs és complet o si se’n sap l’extensi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eu el nombre d'unitats i el terme apropia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terme de la llista del tipus de suport físic (RDA 3.3.1.3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el terme no està a la llista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les unitats no es poden anomenar concisament (RDA 3.4.1.5) useu "peces diverses" 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terme d'ús com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3EF4-F54A-46C1-9888-B172B3F478F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recursos específics (RDA3.4.2-3.4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5280" y="907920"/>
            <a:ext cx="842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3.4.1.3 (general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2 fitxers vídeo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0 carpetes (1.564 documen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2 Extensió d’un recurs cartogràf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 mapes en 1 fu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3 Extensió de la música not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partitura (23 pàgin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4 Extensió de les imatges fi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aproximadament 1.000 fotograf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5 Extensió del 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6 Extensió d’una forma tridimens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trencaclosques (1.000 pec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0257-E666-4580-A3E2-E560FEF92B9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95280" y="0"/>
            <a:ext cx="3816360" cy="6667560"/>
          </a:xfrm>
          <a:prstGeom prst="rect">
            <a:avLst/>
          </a:prstGeom>
          <a:ln w="0">
            <a:noFill/>
          </a:ln>
        </p:spPr>
      </p:pic>
      <p:sp>
        <p:nvSpPr>
          <p:cNvPr id="96" name="5 Rectángulo redondeado"/>
          <p:cNvSpPr/>
          <p:nvPr/>
        </p:nvSpPr>
        <p:spPr>
          <a:xfrm>
            <a:off x="1258920" y="1700280"/>
            <a:ext cx="2881440" cy="649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6 Rectángulo redondeado"/>
          <p:cNvSpPr/>
          <p:nvPr/>
        </p:nvSpPr>
        <p:spPr>
          <a:xfrm>
            <a:off x="1258920" y="3357720"/>
            <a:ext cx="2881440" cy="431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9 Conector recto de flecha"/>
          <p:cNvCxnSpPr/>
          <p:nvPr/>
        </p:nvCxnSpPr>
        <p:spPr>
          <a:xfrm flipH="1">
            <a:off x="3563280" y="112500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10 Conector recto de flecha"/>
          <p:cNvCxnSpPr/>
          <p:nvPr/>
        </p:nvCxnSpPr>
        <p:spPr>
          <a:xfrm flipH="1">
            <a:off x="3563280" y="90756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11 Conector recto de flecha"/>
          <p:cNvCxnSpPr/>
          <p:nvPr/>
        </p:nvCxnSpPr>
        <p:spPr>
          <a:xfrm flipH="1">
            <a:off x="3563280" y="126792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12 Conector recto de flecha"/>
          <p:cNvCxnSpPr/>
          <p:nvPr/>
        </p:nvCxnSpPr>
        <p:spPr>
          <a:xfrm flipH="1">
            <a:off x="3851280" y="645300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13 Conector recto de flecha"/>
          <p:cNvCxnSpPr/>
          <p:nvPr/>
        </p:nvCxnSpPr>
        <p:spPr>
          <a:xfrm flipH="1">
            <a:off x="3635280" y="148392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3" name="14 Cerrar llave"/>
          <p:cNvSpPr/>
          <p:nvPr/>
        </p:nvSpPr>
        <p:spPr>
          <a:xfrm>
            <a:off x="4716360" y="1700280"/>
            <a:ext cx="432000" cy="4537080"/>
          </a:xfrm>
          <a:custGeom>
            <a:avLst/>
            <a:gdLst>
              <a:gd name="textAreaLeft" fmla="*/ 0 w 432000"/>
              <a:gd name="textAreaRight" fmla="*/ 155880 w 432000"/>
              <a:gd name="textAreaTop" fmla="*/ 0 h 4537080"/>
              <a:gd name="textAreaBottom" fmla="*/ 4537440 h 453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5 CuadroTexto"/>
          <p:cNvSpPr/>
          <p:nvPr/>
        </p:nvSpPr>
        <p:spPr>
          <a:xfrm>
            <a:off x="5292720" y="3789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F4C3-BD79-4917-9AD5-ACB04E5E93E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del text (RDA 3.4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umerats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2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o numerats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3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dóna tres opcions,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per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4.5.3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 general s’aplica el mètode 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olum (no pagina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Paginació, etc., complexa o irregular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8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dóna tres opcions,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4.5.8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 general s’aplica el mètode 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olum (paginació múltip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3FC2-539A-4651-876B-C06404523D6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 no numerad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504 pàgines, aproximadament 500 pàgines de làm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estimació de làmines no numerad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3 fulls, 31 fulls no numera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 volums (XX, 800 pàgin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29, és a dir, 392 pàgin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hi ha un error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22 fulls plega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EB28-3B2D-4763-9A55-DA4046AD175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nvi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lacionats amb l'extens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 fer servir abreviatures  (Ex., "pàgines", "volums", </a:t>
            </a:r>
            <a:r>
              <a:rPr b="0" i="1" lang="ca-ES" sz="3000" spc="-1" strike="noStrike">
                <a:solidFill>
                  <a:srgbClr val="000000"/>
                </a:solidFill>
                <a:latin typeface="Calibri"/>
              </a:rPr>
              <a:t>no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 "p.", "vol.", "v.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tilitzar "aproximadament" (en lloc de "ca.") i "és a dir" (en lloc de"i.e.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tilitzar "pàgines no numerades"/ "fulls no numerats" en lloc de donar els números entre claudàto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Cal anar amb compte amb els canvis dels termes per a certs tipus de materials (ex., "partitura guió" s'usa tant, per a la "partitura guió" com per a la "partitura reduïda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3B3F-CE81-4914-B7D2-117D32A8DD1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mensions (RDA 3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Excepte en el cas de publicacions en sèrie i recursos en líni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mesures del suport físic o dels suports físics i/o del contenidor d’un recurs"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Les dimensions inclouen les mesures d’alçada, amplada, profunditat, llargada, format i diàmetr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les dimensions en centímetres arrodonits al centímetre superior i useu el </a:t>
            </a:r>
            <a:r>
              <a:rPr b="0" lang="ca-ES" sz="2700" spc="-1" strike="noStrike" u="sng">
                <a:solidFill>
                  <a:srgbClr val="000000"/>
                </a:solidFill>
                <a:uFillTx/>
                <a:latin typeface="Calibri"/>
              </a:rPr>
              <a:t>símbo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l mètric "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cm" (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no és una abreviatura), o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"mm"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egons el tipus de recur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 300 $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811B-00C9-4E8B-86E9-1431A7606EC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Llibr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23 pàgines, 28 pàgines no numerad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CD de músic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3E6A-2719-4B57-828F-13E0418C18E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 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Descripció dels suports fís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9955-CD41-4AC9-856B-B76148AAD79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DVD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en moviment bidimensional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d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ídeo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ideodis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d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PDF en líni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39 pàgine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nformàti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ecurs en líni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623C-C757-4191-8EC4-00F8679AD32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Partitur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partitura (23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pàgine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notad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tm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olum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Map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6 mapes en 1 ful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cartogràfic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full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b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9993-25DC-4045-972C-C8E86616263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Lloc Web amb text, mapes i fotografie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</a:t>
            </a:r>
            <a:r>
              <a:rPr b="0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cartogràfic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nformàti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ecurs en líni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FA07-FC49-437E-9996-DE24B21C72B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94920" y="1699920"/>
            <a:ext cx="843588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libre acompanyat d'un CD no musical (xerrad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4 pàgines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r>
              <a:rPr b="0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+$e1 C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paraula parlada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pw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volum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nc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0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L'ús de $3 és opciona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29AB-8DAB-4AA7-BC32-914CF3F40B7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184428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·lecció de fotografies (recull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apçalera/06 = </a:t>
            </a:r>
            <a:r>
              <a:rPr b="1" i="1" lang="es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k</a:t>
            </a:r>
            <a:r>
              <a:rPr b="1" i="1" lang="es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capçalera/07 = </a:t>
            </a:r>
            <a:r>
              <a:rPr b="1" i="1" lang="es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8 fotograf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full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nb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9C9C-2DD2-483E-B554-DD8AC310A53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 del suport fí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3640" y="1341360"/>
            <a:ext cx="3600360" cy="4608720"/>
          </a:xfrm>
          <a:prstGeom prst="rect">
            <a:avLst/>
          </a:prstGeom>
          <a:noFill/>
          <a:ln w="9360">
            <a:solidFill>
              <a:srgbClr val="c6d9f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6: Material de base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7: Material aplica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8: Muntura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9: Mètode de produc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0: Genera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1: Disposi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2: Format de llibre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3: Mida de la fon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4: Polarita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5: Escala de reduc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067280" y="1341000"/>
            <a:ext cx="4619520" cy="4535640"/>
          </a:xfrm>
          <a:prstGeom prst="rect">
            <a:avLst/>
          </a:prstGeom>
          <a:noFill/>
          <a:ln w="9360">
            <a:solidFill>
              <a:srgbClr val="c6d9f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6: Característica del so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7: Característica de projecció d’una pel·lícula cinematogràfica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8: Característica vídeo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9: Característica del fitxer digital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7,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52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20: Equipament o sistema requeri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3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21: Nota sobre el suport físic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BA43-4910-44A4-8301-851473809A7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us camps MAR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Característica del so (MARC 344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a: Tipus de d’enregistrament - 3.16.2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analògic, digit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b: Suport d’enregistrament - 3.16.3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agnètic, magnetoòptic, òpti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c: Velocitat de reproducció - 3.16.4.3 = </a:t>
            </a:r>
            <a:r>
              <a:rPr b="0" i="1" lang="ca-ES" sz="2200" spc="-1" strike="noStrike">
                <a:solidFill>
                  <a:srgbClr val="376092"/>
                </a:solidFill>
                <a:latin typeface="Calibri"/>
              </a:rPr>
              <a:t>rpm,  m/s, cm/s, f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d: Característiques del solc - 3.16.5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icrosolc, solc gruixut, fi, estàndar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e: Configuració de la pista - 3.16.6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pista central, pista later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f: Configuració de la cinta - 3.16.7.3 = </a:t>
            </a:r>
            <a:r>
              <a:rPr b="0" i="1" lang="ca-ES" sz="2200" spc="-1" strike="noStrike">
                <a:solidFill>
                  <a:srgbClr val="376092"/>
                </a:solidFill>
                <a:latin typeface="Calibri"/>
              </a:rPr>
              <a:t>(nombre de piste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g: Configuració dels canals de reproducció - 3.16.8.3 = 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ono, estèreo, quadrifònic, so envolta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h: Característica especial de reproducció - 3.16.9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codificació CX, Dolby, LPCM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219F-0CFE-4D4D-B0ED-FADC1391E54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us camps MAR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racterística vídeo (MARC 34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a: Format vídeo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només analògic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 - 3.18.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Beta, U-matic, VHS, et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b: Estàndard d’emissió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per televisió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 - 3.18.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HDTV, NTSC, PAL, SEC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85CE-DFD7-48FB-8BA8-C729935807E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Fitxer digital (MARC 34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a: Tipus de fitxer - 3.19.2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fitxer àudio, fitxer de vídeo, fitxer d’imatge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b: Format de codificació - 3.19.3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CD àudio, DVD vídeo, JPEG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c: Mida del fitxer - 3.19.4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KB,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MB, GB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d: Resolució - 3.19.5 =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píx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e: Codi de regió - 3.19.6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regió 4, totes les region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f: Velocitat de transmissió - 3.19.7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= kb/s, Mb/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6F9A-B58F-4329-8904-82EEE5CFE83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4000" y="907920"/>
            <a:ext cx="8434080" cy="144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C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4 discs àudio (aproximadament 16 h) ;$c12 c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òptic$2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D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9BBD-558F-440D-8C73-482E4C5B1CA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2 Marcador de contenido"/>
          <p:cNvSpPr/>
          <p:nvPr/>
        </p:nvSpPr>
        <p:spPr>
          <a:xfrm>
            <a:off x="324000" y="2565360"/>
            <a:ext cx="843408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VD à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;$c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o envoltan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VD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2 Marcador de contenido"/>
          <p:cNvSpPr/>
          <p:nvPr/>
        </p:nvSpPr>
        <p:spPr>
          <a:xfrm>
            <a:off x="324000" y="4221000"/>
            <a:ext cx="843408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asset à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casset àudio ;$c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h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odificació Dolby-B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 Marcador de contenido"/>
          <p:cNvSpPr/>
          <p:nvPr/>
        </p:nvSpPr>
        <p:spPr>
          <a:xfrm>
            <a:off x="324000" y="5489640"/>
            <a:ext cx="8434080" cy="110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i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;$c30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3 1/3 rpm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Substitució de la designació general de material (DGM)-245 $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Tres nous camps MARC , desenvolupats amb la comunitat d’editors ONIX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6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ipus de contingut (RDA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6.9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7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Tipus de suport (RDA 3.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8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Tipus de suport físic (RDA 3.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6373-5748-4313-B02B-5AE2E9B3940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9923-3881-4FD6-88C8-EE73263C99C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 Marcador de contenido"/>
          <p:cNvSpPr/>
          <p:nvPr/>
        </p:nvSpPr>
        <p:spPr>
          <a:xfrm>
            <a:off x="324000" y="1341360"/>
            <a:ext cx="8434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V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casset (77 min) :$bblanc i negre,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magnèt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6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VHS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P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 Marcador de contenido"/>
          <p:cNvSpPr/>
          <p:nvPr/>
        </p:nvSpPr>
        <p:spPr>
          <a:xfrm>
            <a:off x="324000" y="3284640"/>
            <a:ext cx="8434080" cy="18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VD ví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 (100 min) :$bcolor, so ;$c 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òpt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o envoltan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h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olby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6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NTS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víd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VD víd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e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egió 1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 cartogràf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9640" y="155736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2 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Disposició - RDA 3.11 (MARC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300 $b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 mapes en 1 full :$bcara i ca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aracterística del fitxer digital - RDA 3.19.8       (MARC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352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4AEA-2348-4F86-9DF7-DCCE140D8CF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 Marcador de contenido"/>
          <p:cNvSpPr/>
          <p:nvPr/>
        </p:nvSpPr>
        <p:spPr>
          <a:xfrm>
            <a:off x="611280" y="4005360"/>
            <a:ext cx="8136000" cy="165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mapa: imatge digital en lí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1 mapa) :$b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d’imatges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PEG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7.413 KB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52 ## 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Trama :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píxel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d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(5.381 x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e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6.105) ;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q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P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86C5-38D6-4BFB-A93A-45A311E2B51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 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nformació relativa a l’adquisició i a l’acc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triccions d'accés (RDA 4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són les limitacions imposades sobre l’accés a 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totes les restriccions d'accés al recurs, incloent la naturalesa i durada de la restricció, en la forma més específica que sigui possible. També es pot indicar l'absència de restriccions si es considera importa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06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fr-F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06 ##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$aAccés restringit:$ces requereix permís escrit del dona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3E30-95D8-49BC-BD56-F5F6DF2B367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triccions d'ús (RDA 4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són les limitacions imposades sobre l'ús d'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totes les restriccions d'ús al recurs, incloent la naturalesa i durada de la restricció, en la forma més específica que sigui possible. També es pot indicar l'absència de restriccions si es considera importa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40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40 ## $aRestringit: reproducció permesa només a organitzacions sense ànim de luc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0177-A7F9-4BB2-A07E-A4CE6E5BD10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dreça URL (RDA 4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26792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= "és l’adreça d’un recurs d’accés remot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Font: obtingueu la informació de qualsevol fo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85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alibri"/>
              </a:rPr>
              <a:t>Concreció 4.6.1.3.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 Si hi ha més d'una URL per al recurs, enregistreu-les totes. S’informen, quan sigui apropiat, els subcamps: $3, $z, $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 856 42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umari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8F31-8B27-45A9-A53B-C1326741F81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URL: restriccions i accés ($z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el recurs o una de les URL's tingui un accés restringit indiqueu-ho en un $z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restringit als usuaris de la [institució/s]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la URL no sigui accessible per IP i es necessiti usuari i/o contrasenya, etc., afegiu les indicacions apropiad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restringit als usuaris de la [institució/s]. Cal codi d'usuari i contrasenya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el recurs sigui d'accés lliure, indiqueu-ho en un subcamp $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lliure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 ..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6A7B-2767-443C-9E94-97305271FBF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anvis que requereixen l’addició, la revisió o l’eliminació d’una adreça URL (RDA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4.6.1.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000000"/>
                </a:solidFill>
                <a:latin typeface="Calibri"/>
              </a:rPr>
              <a:t>Concreció 4.6.1.4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 mostra la pràctica de la BC per a recursos que pertanyen a la </a:t>
            </a:r>
            <a:r>
              <a:rPr b="0" i="1" lang="ca-ES" sz="3000" spc="-1" strike="noStrike">
                <a:solidFill>
                  <a:srgbClr val="000000"/>
                </a:solidFill>
                <a:latin typeface="Calibri"/>
              </a:rPr>
              <a:t>Bibliografia nacional de Catalunya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 i la URL ja no està activa. Es cerca a Internet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s troba l'adreça, s'actualitza al regist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no es troba i es considera important de mantenir el recurs a la 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BnC,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'informa un $z i $x de la següent manera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Adreça electrònica (http....) no disponible en fer la cerca el 06/03/2015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x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Bibliografia nacional de Catalun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339B-5D2A-4A97-BEA5-D8489217197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 7</a:t>
            </a:r>
            <a:br>
              <a:rPr sz="3200"/>
            </a:b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DCDB-A6BC-4026-BD39-CCA1FA51508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quest capítol proporciona les directrius generals i les instruccions sobre l'enregistrament dels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atributs de les obres i les expression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 associats amb el contingut intel·lectual o artístic d’un recu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ls elements del capítol 7 s’usen normalment per seleccionar un recurs que satisfaci les necessitats de l’usuari en termes del seu contingut (per exemple, contingut il·lustratiu, sonor, informació sobre la tesi, llengua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CA06-B83E-437E-B09B-0A27C309BEE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: 336, 337, 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341360"/>
            <a:ext cx="8893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Cada camp conté els següents subcamp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6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 rdacontent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[= Capçalera/06]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7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 rdamed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8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 rdacarrier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Llista de termes i codis per als tipus de contingut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Llista de termes i codis per als tipus de suport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Llista de termes i codis per als tipus de suports físics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a-ES" sz="1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Els codis del $2 són enregistrats i validats per MARC 21, no s'han de traduir ma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E228-A1BA-4C49-947D-A18D3E2DEE0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RDA divideix els elements de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345600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Atributs de l'obr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24000" y="1628640"/>
            <a:ext cx="3456000" cy="295272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2: Natura del contingut</a:t>
            </a:r>
            <a:r>
              <a:rPr b="0" lang="ca-ES" sz="1600" spc="-1" strike="noStrike">
                <a:solidFill>
                  <a:srgbClr val="376092"/>
                </a:solidFill>
                <a:latin typeface="Calibri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3: Cobertura del contingut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4: Coordenades d’un contingut cartogràfic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5: Equinocci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6: Època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7: Destinataris previstos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521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8: Sistema d’organització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35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9: Informació sobre la tesi o la memòria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5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066920" y="1052280"/>
            <a:ext cx="404172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Atributs de l'express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924360" y="1557360"/>
            <a:ext cx="4751280" cy="446400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0: Resum del contingut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 5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1: Lloc i data de la captur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033, 51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2: Llengua del contingut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3</a:t>
            </a:r>
            <a:r>
              <a:rPr b="0" lang="ca-ES" sz="1300" spc="-1" strike="noStrike">
                <a:solidFill>
                  <a:srgbClr val="00b050"/>
                </a:solidFill>
                <a:latin typeface="Calibri"/>
              </a:rPr>
              <a:t>:</a:t>
            </a: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 Forma de la notació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4: Contingut accessible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, 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5: Contingut il·lustratiu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6: Contingut suplementari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7: Contingut de color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8: Contingut sonor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9: Relació d’aspecte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0: Format de la música notad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48, 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1: Repartiment de l’execució d’un contingut musical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22: Durad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3: Intèrpret, narrador i/o presentador </a:t>
            </a:r>
            <a:r>
              <a:rPr b="1" lang="ca-ES" sz="1300" spc="-1" strike="noStrike">
                <a:solidFill>
                  <a:srgbClr val="376092"/>
                </a:solidFill>
                <a:latin typeface="Calibri"/>
              </a:rPr>
              <a:t>51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4: Crèdit artístic i/o tècnic </a:t>
            </a:r>
            <a:r>
              <a:rPr b="1" lang="ca-ES" sz="1300" spc="-1" strike="noStrike">
                <a:solidFill>
                  <a:srgbClr val="376092"/>
                </a:solidFill>
                <a:latin typeface="Calibri"/>
              </a:rPr>
              <a:t>50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5: Escal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6: Projecció del contingut cartogràfic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7: Altres particularitats del contingut cartogràfic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8: Premis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8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9: Nota sobre l’expressió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6 CuadroTexto"/>
          <p:cNvSpPr/>
          <p:nvPr/>
        </p:nvSpPr>
        <p:spPr>
          <a:xfrm>
            <a:off x="1258920" y="4581360"/>
            <a:ext cx="25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376092"/>
                </a:solidFill>
                <a:latin typeface="Calibri"/>
              </a:rPr>
              <a:t>*diversos cam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8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1261-89A6-4BC6-B462-A6FFA82F85B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- 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MARC 3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 aquest camp s'han d'enregistrar elements que estan relacionats amb el contingut de les obres i les expressions. És per aquest motiu que es troben en el capítol 7 RDA i no en el capítol 3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il·lustratiu (7.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de color (7.17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sonor (7.18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Durada (7.2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l camp 300 s'hi barregen dades sobre el suport físic com dades del contingu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FEB6-CED4-4090-951F-4B989AF5416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il·lustratiu (RDA 7.1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5400" indent="-95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Àmbit = "és el contingut concebut per il·lustrar el contingut principal d’un recurs."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ont: Obtingueu la informació de qualsevol fo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registreu: </a:t>
            </a:r>
            <a:r>
              <a:rPr b="1" lang="ca-ES" sz="2600" spc="-1" strike="noStrike">
                <a:solidFill>
                  <a:srgbClr val="376092"/>
                </a:solidFill>
                <a:latin typeface="Courier New"/>
                <a:ea typeface="Courier New"/>
              </a:rPr>
              <a:t>il·lustració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o </a:t>
            </a:r>
            <a:r>
              <a:rPr b="1" lang="ca-ES" sz="2600" spc="-1" strike="noStrike">
                <a:solidFill>
                  <a:srgbClr val="376092"/>
                </a:solidFill>
                <a:latin typeface="Courier New"/>
                <a:ea typeface="Courier New"/>
              </a:rPr>
              <a:t>il·lustrac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alibri"/>
              </a:rPr>
              <a:t>Concreció 7.15 Alternativa: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En general, no s’aplica.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No és necessari especificar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tipus específics (per ex.: gràfics, mapes, retrats, formularis, plànols, etc.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alibri"/>
              </a:rPr>
              <a:t>Concreció 7.17 Addició opcional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. És opcional donar el nombre d'il·lustrac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 300 $b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12D0-EF1F-42BC-AB22-4E1BF4D5591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del color (RDA 7.1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Àmbit = "és la presència de color, de tonalitat, etc., en el contingut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Font: Useu l’evidència presentada pel recurs mateix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7.17 Alternativ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S'aplica.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nregistreu el contingut de color usant un o més dels termes alternatius a monocrom, policrom: </a:t>
            </a: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blanc i negre, color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nregistreu les particularitats del contingut de color si es consideren importa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300 $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300## … :$bil·lustracions (algunes en colo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DC8C-8B36-4EAD-91B2-6EC03E7DBA9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sonor (RDA 7.1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és la presència de so en un recurs que no consisteix principalment en so enregistrat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Font: Useu l’evidència presentada pel recurs mateix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"</a:t>
            </a:r>
            <a:r>
              <a:rPr b="0" i="1" lang="ca-ES" sz="2700" spc="-1" strike="noStrike">
                <a:solidFill>
                  <a:srgbClr val="376092"/>
                </a:solidFill>
                <a:latin typeface="Calibri"/>
              </a:rPr>
              <a:t>sonor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" per indicar la presència de so en un recurs que no consisteix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principalment en so enregistrat (p. ex.: c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onjunt de diapositives amb so integrat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700" spc="-1" strike="noStrike">
                <a:solidFill>
                  <a:srgbClr val="000000"/>
                </a:solidFill>
                <a:latin typeface="Calibri"/>
              </a:rPr>
              <a:t>Excepció. Per a recursos d’imatges en moviment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p. ex.: els</a:t>
            </a:r>
            <a:r>
              <a:rPr b="1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aments de vídeo), enregistreu: "</a:t>
            </a:r>
            <a:r>
              <a:rPr b="0" lang="ca-ES" sz="2700" spc="-1" strike="noStrike">
                <a:solidFill>
                  <a:srgbClr val="376092"/>
                </a:solidFill>
                <a:latin typeface="Calibri"/>
                <a:ea typeface="Courier New"/>
              </a:rPr>
              <a:t>so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lang="ca-ES" sz="2700" spc="-1" strike="noStrike">
                <a:solidFill>
                  <a:srgbClr val="376092"/>
                </a:solidFill>
                <a:latin typeface="Calibri"/>
                <a:ea typeface="Courier New"/>
              </a:rPr>
              <a:t>mut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300 $b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 (100 min) :$b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0FB0-708D-410E-BA83-C6E54AEF622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urada (RDA 7.2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836280"/>
            <a:ext cx="8291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5400" indent="-95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 = "es el temps de reproducció, de projecció, d’execució, etc., del contingut d’un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nt: Obtingueu la informació sobre la durada de qualsevol fo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nregistrament de la dura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nregistreu el temps exacte si es pot determina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temps aproximat si es pot estimar precedit de "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  <a:ea typeface="Courier New"/>
              </a:rPr>
              <a:t>aproximadament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  <a:ea typeface="Courier New"/>
              </a:rPr>
              <a:t>"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no es pot determinar o estimar fàcilment, ometeu-l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Useu els símbols de l'apendix B,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lista B.7, que s’apliquin a les unitats de temp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 300 $a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/ 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300 ## $a1 disc àudio(45 mi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00 ## $aDuració: aproximadament 30 m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s tracta d'un recurs de música notad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EF12-1907-4A51-A4C8-45B5E922379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formació sobre la tesi o la memòria (RDA 7.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5056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 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és una informació sobre una obra presentada com a part dels requisits formals per a l’obtenció d’un títol acadèmic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Obtingueu la informació sobre la tesi o la memòria de qualsevol fo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la informació següent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) el títol per al qual l’autor era candidat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b) el nom de la institució o la facultat en la qual es va presentar la tesi,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c) l’any d’obtenció del títo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02 $b, $c, $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502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octora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Universitat de Barcelona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d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197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A013-8BE3-4D47-9994-BDB9C61927F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um del contingut (RDA 7.1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 = "és una síntesi, un sumari, una sinopsi, etc., del contingut del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nt: Obtingueu la informació que s’ha d’usar en resumir el contingut de qualsevol fo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Proporcioneu un resum breu i objectiu del contingut del recurs si aquesta informació es considera important per a la identificació o la selecció i no s’ha enregistrat informació suficient en una altra part de la descripció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52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520 ## $aActes, llistes de membres i de cotitzacions, periòdics, llibres d’entrades i sortides, formularis, circulars i correspondència d’un grup local del sindicat de fusters de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AB7C-53B3-4943-8553-ABA50286EBB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Lloc i data de captura (RD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7.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 = 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ón el lloc i la data associats amb la captura (és a dir, l’enregistrament, la filmació, etc.) del contingut d’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Font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qualsevol fo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loc: l’estudi concret, la sala del concert, etc., quan s’aplica i es pot determinar fàcilment 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a ciutat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Data: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’any, el mes, el dia i l’hora quan s’apliqu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033, 51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033 20 $a20081020$a20081022$b6564$cB3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   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18 ## $aEnregistrat en directe: 20-22 d'octubre de 2008, Sala Luz de Gas, Barcelona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2803-EDBF-4C0D-BEAE-0EA6A5947FD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l contingut (RDA 7.1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"és la llengua usada per expressar el contingut d’un recurs."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registreu les particularitats de la llengua o les llengües usades per expressar el contingut del recurs si es consideren importants per a la identificació o la selecció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008/35-37, 041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546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(segons el ca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DB93-CFE7-48D5-A657-D3A4FF14387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Vocabularis controlats per</a:t>
            </a:r>
            <a:r>
              <a:rPr b="0" lang="ca-E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al</a:t>
            </a:r>
            <a:br>
              <a:rPr sz="3600"/>
            </a:b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tipus de contingut, suport i suport fís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4000" y="160020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listes tancades: RDA 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6.9.1.3, 3.2.1.3, 3.3.1.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hi ha més d'un terme apropiat, hi ha dues opc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ar-los tots. Repetiu el camp compl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ollir el terme que representi el contingut, suport o suport físic predominant o substanc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es desconeix la informació s'enregistra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ca-ES" sz="2800" spc="-1" strike="noStrike">
                <a:solidFill>
                  <a:srgbClr val="376092"/>
                </a:solidFill>
                <a:latin typeface="Calibri"/>
              </a:rPr>
              <a:t>no especificat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cap terme és apropiat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s’enregistra 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ca-ES" sz="2800" spc="-1" strike="noStrike">
                <a:solidFill>
                  <a:srgbClr val="376092"/>
                </a:solidFill>
                <a:latin typeface="Calibri"/>
              </a:rPr>
              <a:t>altre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A035-2DDB-41F6-887C-1FB8AB7ECE5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a de la notació (RDA 7.1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Abast = "és un conjunt de caràcters i/o de símbols usat per expressar el contingut d’un recurs."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registreu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) l’escriptu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b) la forma de la notació musical usada per expressar el contingut musical (p. ex., notació alfabètic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) la forma de la notació tàctil (per ex., braill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d) la forma de la notació del moviment (p. ex., notació de dansa per traços d’acció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54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546 ## $bNotació en pentagram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A92C-9FC0-4908-AC89-077151B08D1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4 CuadroTexto"/>
          <p:cNvSpPr/>
          <p:nvPr/>
        </p:nvSpPr>
        <p:spPr>
          <a:xfrm>
            <a:off x="6804000" y="638172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abril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Contingut suplementari (RDA 7.16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(no per al CCU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"és un contingut (per exemple, un índex, una bibliografia, un apèndix) concebut per complementar el contingut principal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 504 i 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0 ## $aInclou índe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4 ## $aBibliografia: pàgines 859-91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4 ##</a:t>
            </a: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$aInclou bibliografies i índe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3651-369B-4AC4-AA23-C8259E241B3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úsica not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Format de la música notada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RDA 7.20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. ex., partitura voc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Repartiment de l’execució d’un contingut musical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 RDA 7.21 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. ex., reducció per a clarinet i pian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500</a:t>
            </a:r>
            <a:br>
              <a:rPr sz="2800"/>
            </a:b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101B-62E0-43B5-8C6A-7069EE1D00E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 cartogràf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9280" y="1341000"/>
            <a:ext cx="81471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ala horitzontal (RDA 7.25.3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ala vertical (RDA 7.25.4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Informació d'escala addicional (RDA 7.25.5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rojecció del contingut cartogràfic (RDA 7.26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ARC 25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5BA6-9EC5-4B2B-806A-4DD7FAF46B7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5 CuadroTexto"/>
          <p:cNvSpPr/>
          <p:nvPr/>
        </p:nvSpPr>
        <p:spPr>
          <a:xfrm>
            <a:off x="6588000" y="638172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gener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remis (RDA 7.2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"és un reconeixement formal d’excel·lència, etc., del contingut d’un recurs, concedit per un organisme amb capacitat de concedir premis.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eu la informació sobre els premis si es considera important per a la identificació o la selecci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58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586 8# $aOscar al millor documental 201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8611-9E3E-4583-893F-E66943A0515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000000"/>
                </a:solidFill>
                <a:latin typeface="Calibri"/>
              </a:rPr>
              <a:t>Pregun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D2DD-4273-4450-BF84-CFA424AB618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contingut (RDA 6.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000" y="981000"/>
            <a:ext cx="828036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... forma fonamental de comunicació en què s’expressa el contingut i el sentit humà per mitjà del qual s’ha de percebre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Termes de la Taula 6.1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684360" y="2932200"/>
            <a:ext cx="7381800" cy="189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2F34-38F7-44FB-9BCC-CD4C2381FE6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5 CuadroTexto"/>
          <p:cNvSpPr/>
          <p:nvPr/>
        </p:nvSpPr>
        <p:spPr>
          <a:xfrm>
            <a:off x="395280" y="5013360"/>
            <a:ext cx="828036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Arial"/>
              </a:rPr>
              <a:t>Concreció 6.9.1.3 Alternativa: </a:t>
            </a:r>
            <a:r>
              <a:rPr b="0" i="1" lang="ca-ES" sz="2000" spc="-1" strike="noStrike">
                <a:solidFill>
                  <a:srgbClr val="000000"/>
                </a:solidFill>
                <a:latin typeface="Arial"/>
              </a:rPr>
              <a:t>S'aplica</a:t>
            </a: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. Si hi ha més d'un terme apropiat, enregistreu el tipus de contingut que correspongui a la part predominant o parts substancials del rec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MARC 336 $a $b $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412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suport (RDA 3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11280" y="105264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".. reflecteix el tipus general de l’aparell d’intermediació requerit per visionar, reproduir, fer funcionar, etc., el contingut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ermes de la Taula 3.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F744-17A7-46A2-A498-6B999DBF106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900000" y="3218400"/>
            <a:ext cx="73821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6 Rectángulo"/>
          <p:cNvSpPr/>
          <p:nvPr/>
        </p:nvSpPr>
        <p:spPr>
          <a:xfrm>
            <a:off x="684360" y="472428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2 Alternativa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. Si hi ha més d'un terme apropiat, enregistreu el tipus de suport que correspongui a la part predominant o parts substancials del rec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 337 $a $b $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suport físic (RDA 3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68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= "... el format del suport d’emmagatzematge i d’allotjament d’un suport físic en combinació amb el tipus d’aparell de mediació requerit per visionar, reproduir, fer funcionar, etc. el contingut d’un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ermes de la llista en 3.3.1.3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4333-356F-4C45-835F-CB581AF7AFD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826920" y="3147840"/>
            <a:ext cx="73821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5 Rectángulo"/>
          <p:cNvSpPr/>
          <p:nvPr/>
        </p:nvSpPr>
        <p:spPr>
          <a:xfrm>
            <a:off x="611280" y="4724280"/>
            <a:ext cx="7921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3.3 Alternativa: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. Si hi ha més d'un terme apropiat, enregistreu el tipus de suport físic que correspongui a la part predominant o parts substancials del recu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 338 $a $b $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mps MARC 336-337-33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6FFF-2864-477F-9848-682DD00C26D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5 Rectángulo"/>
          <p:cNvSpPr/>
          <p:nvPr/>
        </p:nvSpPr>
        <p:spPr>
          <a:xfrm>
            <a:off x="1187280" y="1225440"/>
            <a:ext cx="6551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 principalment il·lustr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21T16:06:38Z</dcterms:created>
  <dc:creator>Biblioteca de Catalunya</dc:creator>
  <dc:description/>
  <dc:language>en-US</dc:language>
  <cp:lastModifiedBy>vilsnb</cp:lastModifiedBy>
  <dcterms:modified xsi:type="dcterms:W3CDTF">2017-04-21T07:27:31Z</dcterms:modified>
  <cp:revision>490</cp:revision>
  <dc:subject/>
  <dc:title>Mòdul 2:  Descripció de Suports i Identificació d'Obres</dc:title>
</cp:coreProperties>
</file>