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4745-962C-4CEB-B274-2A698E57BA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8DE4-37E5-4D6C-997F-8820023AA9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316F-1ADA-4A0F-95EF-369BE9E1E17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D5B8016-D437-409C-BCF4-97F6136777F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40F7-35F0-4F16-96B8-655C7289E6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933C-D59C-4F9B-832A-5FF28685E4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2886-CC5F-4E6A-8C86-4D2CCD8044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9779-7932-4D35-87F3-B74FC4131E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EED8-F4C6-411D-99C8-5B43F890A8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1535-11DE-4AC6-B37C-475C9C2340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ABF1-3C93-42CD-9AD0-0EC085C9C5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9B8F-F63F-4DBB-813B-7DAD4EA3BD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F781-E8D4-45BE-B448-D2107EC0EE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B20C-E146-4A31-B458-B1F49FFF11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2CD8-95A2-4894-A026-F9D7BF017F1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2DBD11-4227-4C34-8484-975978210D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8E66-555B-4F77-BA7D-6582ACD1ED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CBA2-699D-4EC1-9BB8-B015C6A350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10EA-3B69-47C8-A285-C585AEF778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05C7-6682-4731-9589-3967555244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B5F3-FED6-4552-BF35-88FB8C7C2D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DB48-3D14-46B7-B76C-21B20623B2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017D-7D44-4958-BE1A-C0D0F0F286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1EBE-57AD-4E03-8CB8-96FA4C4097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7D58-E955-433C-9C5F-B09C8DC6E6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F4CC-2B6B-4AF0-9612-853AA997AA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A4D8-0A72-421D-89A7-097269EA54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4BE6-C785-4A35-AAB3-4550AD20FE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AEA8-3029-44C3-BFD0-2D5C6ADB68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0C16-31C6-4D1A-B2E1-51A880B078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4E2F-89F0-45E1-B466-218ECBBC3E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DC9C-E831-4B32-9E78-083203454A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B88B-AF14-4245-A839-18015438E9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1486-B01F-433B-B452-F3F0A3B50A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4455-6C92-48F1-9B96-48E497D95A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9951-8B6E-4C1F-8621-83781782ED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D72C-0B84-4233-8DB6-5EBFACBEAC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943D-E2D2-4964-A4C6-E1D3C82AE3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E358-C57F-4F3B-A240-2CFE430374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B8FB-AF78-427A-B317-47EFCA8557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AE6F-8F27-4713-BFAF-B1223056C2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195E-817B-47C0-91E6-CA0F6D68AF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BDE6-2C7D-436A-BE06-71566802A6E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E00A-7A53-4313-8932-38AF1906F3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54A0-A210-4117-8845-184F2F50FC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7CEC-51E1-4A38-B1F6-C46DFA5201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57C7-8C2A-4EEC-AB9F-A8D53C73EA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2BC9-E8D9-46A2-A51F-D53F9A21EF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CC7F-2658-461C-83C9-1E620BE40B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52D1-6B0A-440C-ADA8-F4BFEB3C1E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CCE6-336B-4871-8BC1-CF319AD1CA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53BE-91DD-4E07-BEA0-FBC4E9ADF0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F4A8-0668-4847-9C0F-5B516987E2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06FF-E02F-48CC-81A2-BD6342D64EC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37CFEB9-764C-4EEF-BE10-38E15E24DB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76D2-55F9-4A16-8518-A24974B22D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B9BA-63FD-439F-AA71-5D0D7D9F63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F956-5B30-43D2-AB84-DE0E5F1053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9A23-373A-4BA5-B828-07A638969D9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E188912-2153-4EDA-903A-E1335D9A38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EE7D-E384-4A4F-AA9E-1C58EE76900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8863A6-7740-491F-9BD5-9B96783590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99B8-E36D-41EC-94C0-E75C832799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49CE17-C97F-4750-950D-82C4180232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C188-623A-4C22-87D3-51E86E2915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D5E9-414B-4A15-AFDA-E772940C0C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D811009-C62A-4128-92CA-081B564412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88C6-BD54-4FEC-8102-C159361816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B9ED7DB-F901-432B-86B2-AC8F6BA935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7D38-9A2F-45DC-B922-35F97020F2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3064A18-D2A6-4260-824F-A608F4BF0D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47F0-EB7A-4EC1-BC63-760590E228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483F42C-2714-4091-8F6D-C2FF2A6A2F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4D78-D80A-406F-95D4-79AA6AA001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BF0C-8EC7-4F26-AA84-47B21F52A94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A0EAB6A-2700-4390-8040-12EB990039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0D08-8D55-45D0-B407-B61F0D78BF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8AAA-6BA1-4000-B860-5A507587E1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D5A7-460A-48CE-894A-A5DF7C8B39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0DD7-A4A4-4FBE-B785-8896B26C00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0198-5E23-4A55-8A54-2ED52ED470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DDF7-84E0-4D16-A3A3-B7553F97DF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2F44-8E78-4DE9-AE53-4BC2A4BA237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700E835-B4B3-46DE-9C31-C1BF0D2D60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CBFE-1C59-4059-85BD-A4456ACBA4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FB7B-40E5-4242-A0C1-03A4617677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91465F9-A22E-4DA1-AA41-971A2F6653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570A-7D7C-4C24-B566-499DCCD843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590F70A-21C7-4CF5-A5C5-AD66F257606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A257-0A10-47EC-B221-FE71EB50405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88158E2-5807-41CD-8A73-310757687E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3B43-5F70-4B80-A2E5-E41898A656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FFA5C7-493A-40DB-BE87-C39E857ACC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2E4C-3771-424B-AD28-75202E542B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04A6DD6-0631-4C1E-B829-85E7729863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06F2-B94C-41E8-B12D-57E04A3CFF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BA0C-60B3-4C39-B08A-A795A1621F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7C61994-7B27-43D0-9465-8740A5CD72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1DB3E-2D9B-4D50-BA96-262CDBD63C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056ADCD-ECCB-4C17-9C58-07B2971EDF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6DF7-78CF-4AEF-9E65-7C1448B2A4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2712-C552-4956-8D03-CB218D9EA6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6539-DAE8-4C5D-8A04-6063E5A08D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C137-8150-4131-85C2-C88811ADD4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3495-ACB2-4EE0-B054-E8C8A49456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A7E2-6A10-48F1-ACED-00FABD6C16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A7C0-52D4-46B1-9705-2F749019E5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FEE4-BDF6-4E28-A54A-3AC3757B72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E627-A8DC-4491-BD9E-7FF4905CF1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A389-6EA0-4552-8381-BCFB74C16C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0654-86CA-4CF8-BB4A-6F477A879A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5AA8-A8DE-425B-8855-2BB65C583A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D4B6-EA08-4DC2-BF5A-8D6782FA2B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5A15-AB05-452F-8905-9D802D7FC7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8CBA-D7CF-4F7E-95BE-A098B77D23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4BFE-53D2-4A97-91C4-8BC2B3DF02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986C-7438-4D9B-91C0-FE0091F803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F207-B55F-41E2-838F-667BD1ADB0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F6B8-0352-4757-8E05-39E20C5736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4D98-AA17-42FD-846F-E23E95E708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7736-141E-4CF1-9E4B-9D843227E8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6C07-CAA3-42CE-B883-DA2A8C2046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CDFB-CEF5-4BD4-B11D-DE1EF267F8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4630-581A-4532-A253-CED13B3DAA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59A8-B07B-4F53-8532-C3E54F2923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CA2E-08F4-44AD-B4B4-450644C857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47DFB-FAD3-4E0A-AADA-89CFCB5BF3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3A73-0593-4A4E-A479-A3F8C42E62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4AA4-94CC-4DBF-80BD-1AE71213FF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B8AD-2573-4F2F-B8A9-32D53E6113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C935-68AD-46EA-9843-6E74D4F333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4381-01AB-49E6-B071-CB10DDFBFB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29E5-613E-42D7-9CDF-7E485D1F31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843A-7831-498D-B24A-AA8AD73723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7354-FCAF-41E1-8F99-6C0759CA7A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F759-5A22-43D6-BB35-73D78ABA78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2AD0-C3DB-4797-B2C5-8A3DFC3D8C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51A5-7A9F-4877-9FFC-3CABE8C09D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4FBE-E732-4657-A171-EDAB9AF72E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1DA3-D658-4C5E-BB8C-3B78C6606D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840C-FC4B-4CD1-8A5E-DCCD778CE2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BF82-2B68-4F4D-8630-6C7068D8B5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2A4A-0A04-490A-AB27-7099C7E072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4F31-3F81-49C0-A121-54B6B686F6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CF8D-1380-4093-AB14-25F2658B90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D651-6BAF-45D9-A9C7-947723A658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D16C-0F88-4513-8377-6492631E5C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648F-6033-4289-B104-44C3CBFE4D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3EA7C9A-9799-4705-A6DC-5445859E26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52CB-E6F5-4999-A832-CF628C2F6B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C598-1C1B-4AF5-8538-A3C39BE92A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60B1-75FF-4599-BA68-4BAC41DCBC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AFD9-8777-4403-A5C7-D216400169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EDB2-2CAD-438B-902A-D93547DE82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62A1-1B8C-4A77-8684-57B3282F46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18C9-F029-4C1F-8697-ECE1990AF7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4F41-C4CC-4BB6-84B6-B6C4DD3035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6708-7450-4919-B9CE-733B529B89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3B9A-F1F4-4592-AC2C-CC7DFC1E22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1203D-A894-4278-A963-D945BBADC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02474-0704-4297-BBDD-B85AF0C0C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08CAA-00E4-4A07-9E7D-B7710877A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BEB43-752A-4D05-8AD1-CEB73B6F7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8729C-63C3-4028-81FB-03C711134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75194-CAD9-4652-8B96-C12384336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1ED9E-71E6-4BB2-8F4C-F8142CD2E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72A06-830E-4816-ACAB-329E028E5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404E4-171C-4E53-A0D8-E7D2E6603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F609D-DDCC-4ED5-AFA3-BAD9B9411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D5674-98DC-4023-A081-9AB508096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97FA5-D80A-42ED-B700-22B0E699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2022F-65AE-46E9-9886-B5705945C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F9D63-EB4C-4951-B463-FBA0884E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F81AD-8230-4653-9F72-3784D241F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8EC0C-D495-43D5-96AF-3C3ED42BD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45BEE-D9F5-44E9-BEB9-F0F1BA335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D6D370-377E-4158-84DD-049F07C0B4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50D37-EB0A-43B2-862F-70E72F633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E1FD7-3ECF-4C1F-8642-339F1E220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0A224-8C17-4AEF-A2A4-058D4A91F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23C7EE-FBCA-4A87-ADD0-CC1554691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FAEA-F0DD-43E5-9990-52E25BDAC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B90A31-0ED8-4B07-9985-E8DAAA89D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D0655-4C55-446C-9D02-4CBD75DB4C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FC6C1-742F-483A-88D8-6549F9C0A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D9B97-BAB2-49D4-9E9E-5D3CC52C5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42D2C-9446-40C8-936F-905062396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D14540-2621-453D-96C2-DBA2A7C954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D476BA-E806-4182-9FD9-8287933DDC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07FA3-673F-46B7-9E7D-596C424C7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B3C2B-5661-4924-A7CC-983C7781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97A4-45A6-4EBF-9321-4B060B1CA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B167-8197-4667-A06E-890037180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2A69-CC8C-4BD3-A8E3-4C3A15A8F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B91F0-D2A8-4A86-BE68-BFFAEA8BD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F602-4FBE-470A-BC6A-F4877AC71FC3}"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E4C0-0E3A-47AD-8D84-0943E96ADF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EA11-BA15-4A50-A328-4E3012A06797}"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53CD-50CF-4AE1-8E1C-FF7B888F3F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739C-6CA6-47F8-B9DB-76BDD8C52860}" type="datetime">
              <a:rPr b="0" lang="ca-ES" sz="1200" spc="-1" strike="noStrike">
                <a:solidFill>
                  <a:srgbClr val="898989"/>
                </a:solidFill>
                <a:latin typeface="Calibri"/>
              </a:rPr>
              <a:t>29/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B793-11C2-4D6B-BC71-7D94748A9F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5E03-9A5F-4CD2-A5DC-E8D47A4AE6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70A7-AC0B-4EDE-A1C2-BA8E3F985B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5522-0988-4C9F-987C-C9D255E155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CCA9-CF10-434E-B8DC-A56DBDBA42A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A363-CA39-484E-95C2-A3495E8E97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BC62-06B1-4D40-86FD-A822C405F0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41AC-B356-4EDE-8D05-BC5167623D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A492-7382-4861-9385-8DF905965D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7685-976B-489E-A021-E8E7CBDF86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2C54-6E55-44FF-8FD4-C9DE6B9DCF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E957-3762-4FD9-A7E1-0410B4FBF5A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F369-B238-45BA-A624-4BD2533310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E5DE-38E6-4D3B-BC05-D3A6D9AA67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4B2F-C330-4F30-90CB-2F51EC2CA0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CE08-F8AD-4ACF-8B22-6670C3760E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EB49-7B1A-4555-B7EE-46F65C8255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6AD3-34DD-4332-A10B-47DAD4DEF4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7490-80BC-4328-B082-65D5F0B3B7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8138-0E7B-45FB-90E5-3435F857DD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9F53-BB57-4346-8C64-F96221EA47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BA92-8BA1-49AD-81ED-E33BFD7898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2FE3-9AD7-43F5-ACAA-E762B3CDE0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A03D-BC8C-43A6-9822-39F33908BC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A5A7-5BCF-4C75-A995-028FFA2612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7EFA-3205-4C4B-8828-82E31EE70F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7917-C596-4AC5-AD3B-DB8E8A6557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283E-24E2-41C0-8BDC-195161CB04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C87D-2B07-4E2B-AD81-C10FB656B7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0AE0-4827-450A-874E-DF668976BD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5852-53F0-4334-8B8B-E1FA277BDC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8A96-CD81-46A7-8ED6-40B9D6CDAE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D5E7-999F-4677-AFD3-FB81D1DF75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4E73-3630-4D4D-9B56-60A3123223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07ED-8140-4CB3-9095-4491787880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54D5-D617-4A43-908C-3D636E206B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DA27-8333-474B-A636-15AF6B506B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0331-0C33-4661-BB90-DABB1220F5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3B98-557B-499C-AE78-4D2B747DF0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DF80-227F-4C5F-9465-F6A8E60620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2A4A-0C56-48A2-BE22-72634E7C6D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2442-4C7E-4656-B2B5-0B254D96DC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FF50-C9F1-4C78-9B65-A5B622579B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081D-4BE8-48EB-A585-D6787122B5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A473-E823-4317-8957-7B1CF5FBDE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D0EC-5D14-4869-B4BD-CB9F1E2D83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7003-9429-4287-AFAF-7B190D2B70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0532-2642-4703-B09E-72D61EE7A5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92A1-E19E-49CB-9EBF-FB31021089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F787-742A-4A66-A1D7-9711E1278E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FF50-3A10-44FA-AC38-4A1C657954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E6E0-F8D5-4E5F-A262-B11C81A8DD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3EEE-F4B2-458A-9150-65970DF3F3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2B56-6043-4B1F-973C-BF41D19D75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F770-A9ED-44F6-9FF7-CAFDD76E35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86B4-5015-4BFF-9BF9-B088638597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082A-A511-4A3E-A5F0-95130D733F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40F2-4FE8-40EE-9B75-FEF9A3657D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F0CD-5116-4E99-A0C5-FA3FB3B8DC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969C-1E47-472C-B916-95CA6ED892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778B-8FE5-49F6-AF7C-1EE2EA5B38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1FF0-17C0-4062-8F25-E07BE64C15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335A-E860-4D44-B9E4-0F011D8300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9AFC-1B92-4A5D-9DB0-421CAF71F1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58E2-EC2A-4060-9FBE-5FBBBEFFB2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B139-F153-4B5F-AC9A-0EDBFFB2B8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803A-52D7-474B-83E8-1E09907AA3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BF74-93B7-4770-A4C0-5A16FADF52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0589C-AC3E-48CA-A9D3-F27A0943BC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5BE6-497A-4F11-9167-1697EDC363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EBF7-643C-4A4B-B3F3-1238EFDA54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23DC-2799-45FC-B4BD-5EE081EB58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070A-0C31-4D37-89E3-48A03D620B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748A-1C12-4719-A41D-283C136BB7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9CE4-C4E6-4335-B83C-73F26BDFC0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802C-6DCC-4B9B-97C9-8076D7FE24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B153-F3BF-4FD5-8DCA-ADBA52A4DF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F25C-1FC5-42BA-8503-F2032F88B9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EE92-4987-4B88-87A9-5F9007E1D3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2D15-FE30-4F83-901F-C511B7E48B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C646-3AA6-4178-B5D6-3F6B9A0C1C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1EBE-064E-44D1-A393-B9A692DE61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F1E4-2F58-45B3-B82B-F7B0C208E8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F77E-2931-4634-9D20-AD80DFEAC0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C18A-DF17-404B-BEB7-CBAFDB1344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1F22-CC79-4B9F-8EE3-A453F5DAE6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9BB1-E31A-4A17-995B-345048C069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3BC0-505F-4A31-9C5B-4A960B17C2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2A25-93AA-443B-9A08-4D58313B5D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5CF3-2A55-4B09-8E4F-56FDF4FE59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E591-1F79-4D3E-AB43-250E9A31AE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6783-68DD-44A5-9489-82DEC6AEFC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EAAF-45E8-4DC7-BBC8-BFF33DE1C9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8BFA-537B-4CF6-81BD-30BCECAE65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00E7-FF6E-4A53-B15B-F60AFA332E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2E62-41BD-45C7-BE33-587998509B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6290-8CDF-4252-A78B-389043227A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A283-CAC1-4A34-A0C5-B95692510F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3E02-03B3-4665-AFAD-BC70FCF846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4D3C-46F2-434A-8DB5-B5511EB86F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2887-9FA9-4D2C-B2B6-114FA5A657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A516-DD49-4D00-91F2-A6FE977E65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0850-2CA5-4DE4-B98E-EEC47C0EE3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13DD-CF5C-443A-B978-535B2497CA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CB18-E2EA-4079-80E5-401AFC7455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6BE8-D6CB-46A0-ABBA-B8241C9DF3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77DD-CCDE-4398-A22F-0C712E9B6C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9D92-050A-4FAA-B507-8522F6CD12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BD6C-7F21-4F6C-A66A-3D172CFF586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1DB1-6CAF-4AEE-B6B3-1E95FEAE85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D5E0-C7B2-4E97-8B23-E6978DCF98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27E8-83BB-4D40-8EDB-224C0486FB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05AC-CB14-46F9-9403-588AF89F48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2ADF-7BF6-4126-859D-9EFBA9D7DE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6B76-A2C8-4FEC-88F2-18A8CF0F6C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0961-ECC1-4C02-BEA0-FC5A819FE2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9E90-261D-4C53-8C92-8B4022900D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B1D8-DA3A-46FF-A678-5A87E0EADB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D2A2-503E-4860-802A-18CADD6DF2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669C-DF3F-423C-B9EA-86EE3ED474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D179-42D0-47C2-AD27-CD3ED0CF948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8F5F-57A8-4BC8-8CFF-3AAFB45B8B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5BAF-4E95-4015-96FD-3AC9A5C61F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6DA1-8DDD-432B-96FB-C46487AC58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62C1-7FF7-43BE-8B87-49F11226FF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92D6-529C-4742-8357-419A021CBE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CB48-0F53-4953-94BB-87C4B5F7FB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F82E-41BA-4C3A-B97A-FE8AB69DBD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857A-7523-4553-9B28-73C2DBB48E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54AA-08DF-405C-AF4D-49C6068F9F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D76A-E63D-4B57-A5BD-4778E37D10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E931-1089-40EC-B665-3E02289CE7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D1E1-550F-4BF6-9DBA-AC33CF7CD9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2C63-85F4-4BE4-A669-3BD6CED18C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91EF-D03B-435D-B042-24C9132B75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9524-3DA8-4334-9957-BD98FB7369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8277-F74F-48FF-A1D4-5EB5FFE485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FB24-31F5-411A-96BC-9897D7D1AC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8230-A331-4F60-997D-E683E5E5A4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C428-D709-43C7-91D9-8DDB1680E2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