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0A24-C87E-4203-8441-B750B65C651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3EBF-6C82-4B05-9D62-FD233D185C8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7452-AD89-496E-BC11-AF35F632C32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9AF3-732C-4861-8408-E6DDC4F2042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1C78-B542-4BC8-A798-3118E7F3637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9C0D-C978-45B9-AA32-B24366FDF0E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ED4B-9A24-4D2E-8501-E15283530DE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203A-64CD-4BE2-9B28-32D6F60C601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FBB5-207A-4552-A45F-E2FF72EEAF9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4946-D981-45B0-A17D-F23543D5552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54DB-BCAE-42AC-8B0C-4E6E45CA518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0F46-7327-4191-92B1-9E2B34844A3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F28B-BED3-4D7F-A81C-B8B8C60B734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ADC9-98DD-41E9-B35E-29559AFEF6B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16F2-ECEB-46F3-9819-589ADE7B567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4B2E-803E-4E32-A1A5-D79CC909EBA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58B1-060C-4574-9188-2298CF1C066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1A3B-CA82-47DB-AF6D-BC5463E2962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B09F-76B8-4A51-B4E3-5E864ED8DC4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21A4-C908-4BA3-81AD-46724DA4621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9614-FF8C-4506-BA05-40E06837158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EFBF-3CC5-4F69-B404-DCADDAA0A75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FF66-0702-4196-8571-D25B257DA0E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CB2C-F78F-4753-8039-95F35FAAE93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FF06-A307-46AA-B399-ECCD9527327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8166-06C1-4782-B825-653DC2E017F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1412-4B4C-4369-B04B-0359935FC27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667D-300C-4E1B-BD6F-D12459190DE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C3BE-5EAC-4C76-9B04-FCD799F970F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5994-FE5B-48A0-BF83-729DDE91A9D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8550-CE31-4B21-B55A-73D6D030A26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1209-2F6F-4E8C-8045-1634E28A979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ED6F-59BB-44D1-82BD-DE8FF548CF7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54A0-BE10-45F5-8F1B-FDEC025C1C6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4A34-3E61-4687-AA40-A78D071CC0E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26AD-D98C-4A59-8114-099C2104E98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8FF5-FC47-4F89-BC3D-9F05B94CF36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2C4B-E984-4A7B-BC54-AB3A25B17DA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1C8D-5ED8-4D48-BDB0-224FBBDB542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CECC-9C52-4525-8F6C-67C7861B5CE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E69D-9A84-4C7C-A870-8E9AE4D2EA4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AB69-F364-46B0-9720-515F96A3779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6E62-0CD8-4746-B91A-7CDEC0AD339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865C-E639-4F58-A7A6-8E21BA20A2B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823E-1179-4EDF-A43E-EE5B6C7A865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F0DA-D3EF-4017-92EA-CA05C6B69B1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BD08-C747-4007-A4AE-73806BA2750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F1BB-CFE1-414A-A6EE-9FC199095D2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75BD-8D58-4A05-A4C8-B598F5FF1C7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37B7-D0F6-4143-9976-FC702676623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A0EA-448F-479F-A35B-0252A425261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6C29-46B5-4B47-A06D-BB4325CEDAB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F611-1A5A-4F5B-8D27-1BFC70C27CE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7F6E-4EAD-44BD-AA50-B739AFEA825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7B96-8C1B-4E41-9807-F10691C914C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9B71-1B26-4BCE-8E6A-DDCD47E8E65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FF88-E048-4AAF-9C23-51583AD6477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9858-24F7-4871-838A-9832C7B6FCC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1358-EA7C-4C78-9136-B1A95B58B79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3E8A-7DA2-47B6-BDC4-3068A7626C7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4DED-ED84-426A-8FDD-187C5F5D917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6FE6-129B-4F2A-97FF-7761ADFC8C2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908C-F4C5-46AF-BBCD-6F773962C09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382D-34A8-4B4C-AFF0-13A0876E276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3A39-E4E1-4F28-9408-A695D676E4B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623D-81B1-4BC9-82E7-66067A1E999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mòdul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2EE6-35E6-4647-8FC8-AE084317DFF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4512-B83E-4695-BE40-B345EFB584F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C7FF-78BF-4850-9FE0-D396742CE38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DA0B-782A-497E-A83B-A68FF45525F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0601-E434-4316-87E4-AFCE0BC7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0B73-16F9-40BC-90BF-81B53477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5507-F65E-4C26-B3CF-4B0A8612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E475-BFE0-48DE-B3A3-3529953D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C4F7-461F-4478-A19C-1D63A3EA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35CA-FC80-4B40-82A4-AFB7CE4C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BD95-C3CA-4CDD-8B91-5E6A7A84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D3B3-BCB7-4856-968D-DBB3ED47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B635-8055-47DA-87DF-F91FBEA4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C2F1-FD82-4C19-ACA2-11FED52E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4E95-580A-4425-A3D9-974C403B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EC5B-E7EC-47DD-82DA-C894811D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8367-1617-4036-B2F2-D2CE07BB549B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E287-6FDD-4906-8617-0BD61D724C3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uthorities.loc.gov/" TargetMode="External"/><Relationship Id="rId2" Type="http://schemas.openxmlformats.org/officeDocument/2006/relationships/hyperlink" Target="http://www.bnc.cat/lenoti/" TargetMode="External"/><Relationship Id="rId3" Type="http://schemas.openxmlformats.org/officeDocument/2006/relationships/hyperlink" Target="http://www.bnc.cat/lenot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4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Persones, famílies i entitats corpor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Subtítulo"/>
          <p:cNvSpPr/>
          <p:nvPr/>
        </p:nvSpPr>
        <p:spPr>
          <a:xfrm>
            <a:off x="1619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BDA3-727F-4EC3-8D41-2207096FC40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btingueu informació sobre els atributs per identificar de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er determinar el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nom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referit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(en aquest ordre de preferènci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es fonts preferides d’informació (vegeu 2.2.2) en els recursos associats amb 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encions formal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e figuren 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recursos associats a 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 font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incloses les fonts de referènci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0682-B0EC-4044-B358-3E2AAA7AAF2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pers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E360-E92B-40A9-AC67-96848FF5AEA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opòsit i abast (RDA 9.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mb RDA quan es parla d'una "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ersona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, es fa referència a un individu, el qual pot ser un ésser humà real, o 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nclo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mencionades en les sagrades escriptures o en els llibres apòcrif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fictícies i llegendà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titats reals no huma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7A5F-3D07-415A-9F7A-0FC31B7E186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1966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 partir de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l'1 de desembre de 201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per a persones de les sagrades escriptures o dels llibres apòcrifs, persones fictícies i llegendàries, entitats reals no humanes, animals individuals amb nom propi, etc. seran establerts només com autoritats de nom utilitzant R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creats amb RDA seran vàlids com a punts d'accés de matè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ins que no s'hagi creat el registre de nom, utilitzeu el registre de la LEMAC existent en els punts d'accés de matè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F2AB-14D5-4D00-A257-68FD15F16E2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reals no hum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9 CuadroTexto"/>
          <p:cNvSpPr/>
          <p:nvPr/>
        </p:nvSpPr>
        <p:spPr>
          <a:xfrm>
            <a:off x="539640" y="1052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eguiu les mateixes instruccions d'RDA com ho faríeu per a qualsevol altra pers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971640" y="2133720"/>
            <a:ext cx="7345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130 0# $aFree Willy (Pel·lícula cinematogràf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Free Willy /$cWarner Bros. in associa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700 0#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$aKeiko,$daproximadament 1976-2003,$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1 CuadroTexto"/>
          <p:cNvSpPr/>
          <p:nvPr/>
        </p:nvSpPr>
        <p:spPr>
          <a:xfrm>
            <a:off x="468360" y="3500280"/>
            <a:ext cx="828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afegeix una addició al punt d'accés autoritzat quan cal distingir entre dos punts d'accés amb el mateix nom o quan aquest no dóna idea de "persona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in-Tin-Tin (G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.: Obama, 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nom del gos inclou un cognom i un nom de pi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 CuadroTexto"/>
          <p:cNvSpPr/>
          <p:nvPr/>
        </p:nvSpPr>
        <p:spPr>
          <a:xfrm>
            <a:off x="611280" y="587700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Tanmateix, es pot afegir l'addició sempre que es consideri important per a la identificació.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9.19.1.2.6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D93A-AB5D-44B0-979A-23DFC2D8DCF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 (RDA 9.2.2)</a:t>
            </a:r>
            <a:br>
              <a:rPr sz="11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560" y="1268280"/>
            <a:ext cx="8893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Trieu en general el nom pel qual se la coneix normal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 diferència d'AACR2, les paraules que indiquen una relació són part del nom preferit (ex.: Jr, III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i="1" lang="ca-E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.: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Abbott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ud,$c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J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ls termes de tractament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hi inclouen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és s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cognom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eus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Dr</a:t>
            </a:r>
            <a:r>
              <a:rPr b="1" lang="ca-ES" sz="26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a persona casada és identificada només pel nom de la parella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Davi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axwell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Mrs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nom de pila precedit per un terme de tractament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am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ousin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A24F-A5FD-4297-938C-91F827C3929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412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ompletes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 Si les formes del nom d’una persona varien en completesa, trieu com a nom preferit la form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trobada més habitualment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allas, Mari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3-197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de naixement "Maria Anna Cecilia Sofia Kalogeropoulos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Valera, Juan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24-19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a forma més habitual és "Juan Valera". La forma ocasional "Juan Valera y Alcalá Galiano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F6F2-27EC-4B94-A681-C456EC18F33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483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lengua: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correspon a la llengua de la majoria dels recursos associa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Excepc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Grec o llatí enfront d’altres formes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figura més habitualment en les fonts de referència. Per als noms romans apliqueu l'apèndix F.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nl-NL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èsar, Gai Juli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00 aC-44 a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Forma establerta en català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el primer element del nom preferit d’una persona consisteix en un nom de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pila i/o una paraula o una frase associad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amb la persona, </a:t>
            </a:r>
            <a:r>
              <a:rPr b="0" lang="ca-ES" sz="2200" spc="-1" strike="noStrike" u="sng">
                <a:solidFill>
                  <a:srgbClr val="000000"/>
                </a:solidFill>
                <a:uFillTx/>
                <a:latin typeface="Calibri"/>
              </a:rPr>
              <a:t>trieu la forma ben establerta en catal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, si n'hi ha u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fr-FR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rancesc,$cd'Assís,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ant,$d 1182-122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CED6-CC9F-468F-A1C4-DE83758887F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454680" indent="-157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scriptura no preferida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ha d'utilitzar la transcripció al català de l'IEC (àrab, rus, hebreu), ISO 843 (grec), Pinyin (xinès), Hepburn (japonè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59 Grupo"/>
          <p:cNvGrpSpPr/>
          <p:nvPr/>
        </p:nvGrpSpPr>
        <p:grpSpPr>
          <a:xfrm>
            <a:off x="1232640" y="2781360"/>
            <a:ext cx="7227000" cy="3166920"/>
            <a:chOff x="1232640" y="2781360"/>
            <a:chExt cx="7227000" cy="3166920"/>
          </a:xfrm>
        </p:grpSpPr>
        <p:sp>
          <p:nvSpPr>
            <p:cNvPr id="107" name="5 Rectángulo"/>
            <p:cNvSpPr/>
            <p:nvPr/>
          </p:nvSpPr>
          <p:spPr>
            <a:xfrm>
              <a:off x="1232640" y="2781360"/>
              <a:ext cx="333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x.: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Чайк</a:t>
              </a:r>
              <a:r>
                <a:rPr b="0" lang="ca-E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вский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Пётр Ильич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9 Imagen" descr=""/>
            <p:cNvPicPr/>
            <p:nvPr/>
          </p:nvPicPr>
          <p:blipFill>
            <a:blip r:embed="rId1"/>
            <a:srcRect l="33333" t="61417" r="0" b="31767"/>
            <a:stretch/>
          </p:blipFill>
          <p:spPr>
            <a:xfrm>
              <a:off x="1691280" y="3141360"/>
              <a:ext cx="3600720" cy="27612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pic>
          <p:nvPicPr>
            <p:cNvPr id="109" name="10 Imagen" descr=""/>
            <p:cNvPicPr/>
            <p:nvPr/>
          </p:nvPicPr>
          <p:blipFill>
            <a:blip r:embed="rId2"/>
            <a:srcRect l="34669" t="30827" r="0" b="61412"/>
            <a:stretch/>
          </p:blipFill>
          <p:spPr>
            <a:xfrm>
              <a:off x="1691280" y="3501360"/>
              <a:ext cx="3600720" cy="28800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sp>
          <p:nvSpPr>
            <p:cNvPr id="110" name="11 Elipse"/>
            <p:cNvSpPr/>
            <p:nvPr/>
          </p:nvSpPr>
          <p:spPr>
            <a:xfrm>
              <a:off x="1692000" y="2781360"/>
              <a:ext cx="28728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2 Elipse"/>
            <p:cNvSpPr/>
            <p:nvPr/>
          </p:nvSpPr>
          <p:spPr>
            <a:xfrm>
              <a:off x="2771640" y="278136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13 Cerrar llave"/>
            <p:cNvSpPr/>
            <p:nvPr/>
          </p:nvSpPr>
          <p:spPr>
            <a:xfrm>
              <a:off x="5508360" y="3286080"/>
              <a:ext cx="215640" cy="43164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5400 h 431640"/>
                <a:gd name="textAreaBottom" fmla="*/ 4262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50"/>
                    <a:pt x="10800" y="900"/>
                  </a:cubicBezTo>
                  <a:lnTo>
                    <a:pt x="10800" y="9900"/>
                  </a:lnTo>
                  <a:cubicBezTo>
                    <a:pt x="10800" y="10350"/>
                    <a:pt x="16200" y="10800"/>
                    <a:pt x="21600" y="10800"/>
                  </a:cubicBezTo>
                  <a:cubicBezTo>
                    <a:pt x="16200" y="10800"/>
                    <a:pt x="10800" y="11250"/>
                    <a:pt x="10800" y="11700"/>
                  </a:cubicBezTo>
                  <a:lnTo>
                    <a:pt x="10800" y="20700"/>
                  </a:lnTo>
                  <a:cubicBezTo>
                    <a:pt x="10800" y="2115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14 CuadroTexto"/>
            <p:cNvSpPr/>
            <p:nvPr/>
          </p:nvSpPr>
          <p:spPr>
            <a:xfrm>
              <a:off x="5796000" y="3285360"/>
              <a:ext cx="19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IEC transcripci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22 Imagen" descr=""/>
            <p:cNvPicPr/>
            <p:nvPr/>
          </p:nvPicPr>
          <p:blipFill>
            <a:blip r:embed="rId3"/>
            <a:srcRect l="0" t="34660" r="47082" b="61353"/>
            <a:stretch/>
          </p:blipFill>
          <p:spPr>
            <a:xfrm>
              <a:off x="1619280" y="5517360"/>
              <a:ext cx="4753080" cy="4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23 Imagen" descr=""/>
            <p:cNvPicPr/>
            <p:nvPr/>
          </p:nvPicPr>
          <p:blipFill>
            <a:blip r:embed="rId4"/>
            <a:srcRect l="0" t="55389" r="39464" b="40330"/>
            <a:stretch/>
          </p:blipFill>
          <p:spPr>
            <a:xfrm>
              <a:off x="1763280" y="4941360"/>
              <a:ext cx="547308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26 Cerrar llave"/>
            <p:cNvSpPr/>
            <p:nvPr/>
          </p:nvSpPr>
          <p:spPr>
            <a:xfrm>
              <a:off x="7307280" y="4942080"/>
              <a:ext cx="144360" cy="7920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3600 h 792000"/>
                <a:gd name="textAreaBottom" fmla="*/ 78840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4"/>
                    <a:pt x="10800" y="328"/>
                  </a:cubicBezTo>
                  <a:lnTo>
                    <a:pt x="10800" y="10472"/>
                  </a:lnTo>
                  <a:cubicBezTo>
                    <a:pt x="10800" y="10636"/>
                    <a:pt x="16200" y="10800"/>
                    <a:pt x="21600" y="10800"/>
                  </a:cubicBezTo>
                  <a:cubicBezTo>
                    <a:pt x="16200" y="10800"/>
                    <a:pt x="10800" y="10964"/>
                    <a:pt x="10800" y="11128"/>
                  </a:cubicBezTo>
                  <a:lnTo>
                    <a:pt x="10800" y="21272"/>
                  </a:lnTo>
                  <a:cubicBezTo>
                    <a:pt x="10800" y="21436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27 CuadroTexto"/>
            <p:cNvSpPr/>
            <p:nvPr/>
          </p:nvSpPr>
          <p:spPr>
            <a:xfrm>
              <a:off x="7523640" y="515736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VIA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22 Imagen" descr=""/>
            <p:cNvPicPr/>
            <p:nvPr/>
          </p:nvPicPr>
          <p:blipFill>
            <a:blip r:embed="rId5"/>
            <a:srcRect l="0" t="45177" r="48503" b="34355"/>
            <a:stretch/>
          </p:blipFill>
          <p:spPr>
            <a:xfrm>
              <a:off x="1690200" y="3860640"/>
              <a:ext cx="5689800" cy="936360"/>
            </a:xfrm>
            <a:prstGeom prst="rect">
              <a:avLst/>
            </a:prstGeom>
            <a:ln w="9360">
              <a:solidFill>
                <a:srgbClr val="376092"/>
              </a:solidFill>
              <a:miter/>
            </a:ln>
          </p:spPr>
        </p:pic>
        <p:sp>
          <p:nvSpPr>
            <p:cNvPr id="119" name="7 Elipse"/>
            <p:cNvSpPr/>
            <p:nvPr/>
          </p:nvSpPr>
          <p:spPr>
            <a:xfrm>
              <a:off x="2050920" y="5013360"/>
              <a:ext cx="28872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21 Elipse"/>
            <p:cNvSpPr/>
            <p:nvPr/>
          </p:nvSpPr>
          <p:spPr>
            <a:xfrm>
              <a:off x="2842920" y="501336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8 Elipse"/>
            <p:cNvSpPr/>
            <p:nvPr/>
          </p:nvSpPr>
          <p:spPr>
            <a:xfrm>
              <a:off x="2771640" y="558972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20 Elipse"/>
            <p:cNvSpPr/>
            <p:nvPr/>
          </p:nvSpPr>
          <p:spPr>
            <a:xfrm>
              <a:off x="1979280" y="551808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54 Conector recto"/>
            <p:cNvSpPr/>
            <p:nvPr/>
          </p:nvSpPr>
          <p:spPr>
            <a:xfrm>
              <a:off x="1331640" y="3213000"/>
              <a:ext cx="0" cy="20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4" name="56 Conector recto de flecha"/>
          <p:cNvCxnSpPr/>
          <p:nvPr/>
        </p:nvCxnSpPr>
        <p:spPr>
          <a:xfrm>
            <a:off x="1332000" y="5229000"/>
            <a:ext cx="576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5" name="58 CuadroTexto"/>
          <p:cNvSpPr/>
          <p:nvPr/>
        </p:nvSpPr>
        <p:spPr>
          <a:xfrm>
            <a:off x="250920" y="614988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i no es pot donar la forma transcrita al català, provisionalment s'accepta la forma anglesa de la L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0250-6C0C-4AA7-98EE-31E2629746E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 Diferents noms per a la mateixa persona 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(RDA 9.2.2.6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de manera clara més habitualment. Excep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anvi de nom (RDA 9.2.2.7): Trieu el nom més rec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Onassis, Jacqueline Kennedy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9-19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últiples identitats (RDA 9.2.2.8): Trieu el nom associat amb cada identit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identitats separad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Dodgson, Charles Lutwidge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real utilitzat en obres de matemàtic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Carroll, Lewis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s: pseudònim utilitzat en obres de literatur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'ha de respectar totes les identitats separades d'una persona. No hi ha la limitació en el temps ni en el nombre de punts d'accés autoritza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7A4E-5634-4517-869F-5E0C9B4EB2D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DAE1-CD43-4962-8720-26D0DCA9CC3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tegories de noms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2.2.9 - RDA 9.2.2.2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71280" y="1988640"/>
            <a:ext cx="74278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cogn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compos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amb prefix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inclouen un títol nobiliar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inici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una fr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BB06-F890-46D0-AAA0-007D72CC080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981000"/>
            <a:ext cx="8300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pmany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aria Aurèlia,$d1918-199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G.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igu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bri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Nelson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p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lverdú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$q(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o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Fàbrega Pallarès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Pau </a:t>
            </a:r>
            <a:r>
              <a:rPr b="1" lang="fr-FR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e la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13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Or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Eugeni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'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81-195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L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Roca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France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hn,$d1942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americà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82520" indent="-10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. C.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q(Cornelis Constantijn),$d1910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neerlandè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vat-Papasseit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an,$d1894-19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evot de Ma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ldes de Montbui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arles Sanllehy i Girona,$cmarquès de,$d1882-197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</a:t>
            </a:r>
            <a:r>
              <a:rPr b="1" lang="it-IT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ragonetti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Giacinto,$cmarchese,$d1738-18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9950-9F3A-4ED7-B38F-EC0AFA53EA5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naixement i mo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13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Obtingueu les dates de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9.3.2.3 i 9.3.3.3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utilitzen </a:t>
            </a:r>
            <a:r>
              <a:rPr b="0" lang="ca-ES" sz="2400" spc="-1" strike="noStrike" u="sng">
                <a:solidFill>
                  <a:srgbClr val="000000"/>
                </a:solidFill>
                <a:uFillTx/>
                <a:latin typeface="Calibri"/>
              </a:rPr>
              <a:t>guions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n lloc d'abreviatures "n." i "m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indica una data probable mitjançant l'addició d'un signe d'interrogació "?"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només pot ser aproximat s'hi afegeix "aproximadament". No es pot utilitzar "ca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és incert, s'enregistren els dos anys possibles senc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CE59-FA9E-4257-890A-3346FC854C4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període d'activit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només quan és necessari per distingir una persona d'una alt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Una data o rang de dates indicatiu del període en què una persona ha estat activa en el seu camp principal d’activit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9.3.4.3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tilitzeu "actiu/activa" i "segle" en lloc d'abreviatures "fl." i "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l terme "actiu/activa" ha de constar abans del primer període d'activitat (ex.: "activa segle XII"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: 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A09B-FE80-448B-9C47-2D5D674937A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84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524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900, gener 10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6 o</a:t>
            </a:r>
            <a:r>
              <a:rPr b="1" i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189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25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-18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hnson, Carl F.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1893-19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aca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actuarius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I-segle X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27BF-0854-4458-8326-316E80771ED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de la persona (RDA 9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n és una paraula o una frase indicativa de reialesa, de noblesa o de rang o càrrec eclesiàstic o un terme de tractament d’una persona de vocació religi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aElisabet$bII,$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reina de la Gran Bretany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,$d1926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lsevol altre terme indicatiu de rang, de distinció o de càrrec és un element bàsic quan cal distingir una persona d’una altra persona amb el mateix n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s autors amb el mateix nom preferi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,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Rever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F9BE-E78D-4E65-93A3-F5C8428D943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orma més completa del nom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(RDA 9.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cal distingir una persona d’una altra persona amb el mateix no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forma desenvolupada del nom és la forma completa 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'un nom representat només per una inicial o l'abreviatura de la forma escolli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ues autores amb el mateix nom prefer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izabet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l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el nom no inclòs en la forma tria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Carey-Hobson,$cMrs.$q(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Mary Ann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(S'aplica l'addició opcional d'afegir la forma més completa, </a:t>
            </a:r>
            <a:r>
              <a:rPr b="1" i="1" lang="ca-ES" sz="1900" spc="-1" strike="noStrike">
                <a:solidFill>
                  <a:srgbClr val="000000"/>
                </a:solidFill>
                <a:latin typeface="Calibri"/>
              </a:rPr>
              <a:t>Concreció 19.1.4</a:t>
            </a: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00 $q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00 $q / opcionalment + 37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13EC-D7BF-40B2-8E12-EED50D0FDA8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a designació associada amb la persona (RDA 9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un sant cristià o d'un esperi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Teresa de Jesús,$c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nt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515-158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Presley, Elvis,$d1935-1977$c(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sperit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altres persones, una altra designació associada amb la persona és un element bàsic quan cal distingir una persona d’una altra persona amb el mateix no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ues autores amb el mateix nom prefer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$c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Personatge de ficció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3CC4-C6EB-40E5-A267-48461B5F563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Sexe (RDA 9.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El gènere amb el qual s’identifica una perso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vocabulari R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feme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mascul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desconeg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termes de la llista és apropiat se'n pot proporcionar un alt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2A6F-6F64-4539-B48A-B362EC354B3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Llocs associat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263700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reugeu els noms dels països, els estats, les províncies, els territoris, etc., tal com s’indica a l’apèndix B (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B.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hicago, Illinois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O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icago, Ill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arcelona,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Rectángulo"/>
          <p:cNvSpPr/>
          <p:nvPr/>
        </p:nvSpPr>
        <p:spPr>
          <a:xfrm>
            <a:off x="2843280" y="1125360"/>
            <a:ext cx="3673440" cy="1313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naixement (RDA 9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defunció (RDA 9.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País associat (RDA 9.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residència (RDA 9.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91DA-EE8F-4EA7-856B-4D25F9FA89B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On són les instrucc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per a la identificació de les persones, famílies i entitats corporatives són 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8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9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pers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0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famí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1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entitats corpor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8C4D-4C24-4580-901A-DFDADCACC7D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a persona (RDA 9.12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’adreça del lloc de residència o de treball d’una persona, l’adreça de l’empresa on treballa i/o una adreça de correu electrònic o d’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ox 1216, Barrière, B.C., Canada V0E 1E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timmins@doc.govt.n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F1DE-29EA-416D-A714-B464DB8C7B5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filiació (RDA 9.1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grup amb el qual una persona està o ha estat afiliada per qüestions de feina, en qualitat de membre, per afinitat cultural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'enregistra el nom preferit del gr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Istituto nazionale di economia agr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afiliació de Carla Abitab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1112-49FE-44FF-8CBF-BC61DA61652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persona (RDA 9.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00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lengua que usa una persona quan escriu per publicar, per fer radiodifusió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en el terme i el codi MAR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lengües usades per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ntonio Caparró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2694-0788-4CB6-9E25-4BFD00C207B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Camp d’activitat de la person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camp d’acció, una àrea d’experiència, etc., al qual es dedica o s’ha dedicat una perso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 un terme controlat, p. ex.: LEMA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Econo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e treball o especialització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e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bià Estapé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8581-3AD6-40AA-903B-F27E5835CB2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Professió o ocupació (RDA 9.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ÉS UN ELEMENT BÀSIC 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n el cas d’una persona el nom de la qual consisteix en una frase o una apel·lació que no dóna la idea d’una perso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La professió o l’ocupació és un element bàsic quan cal distingir una persona d’una altra amb el mateix nom i no es disposa de date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s prefereix un terme controlat, p. ex.: LEMAC en singu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os autor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ues autore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gènere ha de concord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autoritat: X00 $c / opcionalment + 3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AAE7-EC6E-4BF1-8444-1ADC293E946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biogràfica (RDA 9. 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bast = Informació sobre la vida o la història d’una perso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lice Ann Munro(nascuda Laidlaw) és una escriptora canadenca de narracions curte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 Ha guanyat nombrosos premis per la seva obra, inclosos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l Premi Nobel, el Man Broker International Prize i el Governor General’s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Literary Award de Canadà. Va néixer el 10 de juliol de 1931 a Wingham, Ontar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A04C-3CE3-4693-8F1A-9787509F692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5280" y="2276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famí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Rectángulo"/>
          <p:cNvSpPr/>
          <p:nvPr/>
        </p:nvSpPr>
        <p:spPr>
          <a:xfrm>
            <a:off x="971640" y="4292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</a:rPr>
              <a:t>Amb les AACR2, els noms de família no podien constituir un punt d’accés per a la catalogació descriptiva. RDA permet utilitzar el noms de família com a punt d’accés de la catalogació descriptiva si a la família se li atribueix la creació d’una ob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BE58-F810-4C11-BA44-7354AC62730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(RDA 10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general trieu el nom pel qual se la coneix habitualm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l cognom utilitzat pels membres de la famíl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a casa reial o d'una dinast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 clan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consisteix en diverses parts, enregistreu com a primer element aquella part del nom sota la qual la família seria normalment ordenada en les llistes alfabètiques autoritatives en la seva llengua, el seu país de residència o el seu país d’activ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35D9-B3E0-47D6-8C10-7CD0ED8A68D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ria del nom prefe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Formes diferents del mateix nom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al considerar: completesa, llengua, escriptura no preferida, ortograf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Noms diferents de la mateixa família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6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més habitual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Preferència: recursos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ssociats amb la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amíl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 de referè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1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de nom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7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anterior com a nom preferit per usar-lo amb els recursos associats amb el nom an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osterior com a nom preferit per usar-lo amb els recursos associats amb el nom pos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6977-5216-4DCB-8DE6-CC7C0973D2B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Tipus de família (RDA 10.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a categorització o un descriptor genèric del tipus de famíl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tipus de família entre parèntesis, a continuació del nom prefer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ranson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amíli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Donald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lan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orbó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asa reial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(primer indicador 3)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X00 (primer indicador 3) $a / opcionalment + 37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318E-DA08-4A0A-9500-9D58CD291EF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unts d'accés i catàlegs de referè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ANTIC (Catàleg d'autoritats de noms i títols de Cataluny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és un punt d'accés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u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ccepteu la forma trobada:</a:t>
            </a:r>
            <a:r>
              <a:rPr b="0" lang="ca-E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internacion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ibrary of Congress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authorities.loc.g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català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de Catalunya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bnc.cat/lenoti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deqüeu la forma trobada a RDA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estat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atalogo.bne.es/uhtbin/authoritybrowse.cg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no es troba: S'estableix el punt d'accés autoritzat d'acord amb RDA i les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Concrecions a RD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7088-C667-4D42-A338-D488E34BF22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Data associada amb la famíli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10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Data significativa associada amb la història d’una famíl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00 3# $aPahlavī (Dinastia 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925-197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Ciurianni (Família 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179-142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X00 $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198E-D2B4-4287-81D7-015B6656ACF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oc associat amb la família (RDA 10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lloc on la família resideix o ha residit o amb el qual té algun tipus de relaci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Filipines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Xina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(S'aplica l'addició opcional d'afegir un lloc associat si ajuda a identificar la família, </a:t>
            </a: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0.11.1.4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00 $c / opcionalment + 3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3BF5-0B77-44FE-B3F4-46804836A8A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6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Membre destacat de la família (RDA 10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individu ben conegut que és membre d’una famíli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 el nom en la forma usada en el punt d’accés autoritzat que representa la person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$aMedici (Casa reial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edici, Lorenzo de', 1449–1492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S'aplica l'addició opcional d'afegir un membre destacat si ajuda a identificar la família,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10.11.1.5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7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g/ opcionalment + 3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1A62-C207-4509-97EF-EFB6546E337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Ordre i puntuació (RDA 10.11.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Quan es construeix el punt d'accés autoritzat, s'afegeixen els atributs al nom de la família en aquest ord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de família (10.11.1.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ssociada 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associat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embre destacat de la 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inclouen les addicion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sol conjunt de parèntesis, separant cada addició amb "[espai]: [espai]" (apèndix E.1.2.3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E22F-FA9A-4162-94FD-5283E89438D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227628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d'autorit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hereditari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7): MARC 3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8): MARC 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Històri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9): MARC 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DF9E-D30F-49EB-871C-6AFCD9E8C1B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1197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permet utilitzar el noms de família com a punt d’accés de la catalogació descriptiva si a la família se li atribueix la creació d’una obra, però no son vàlids com a matè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tracta les famílies específiques, és a dir, dins d'un temps i d'un lloc específic. La LEMAC contempla el nom de la família al llarg de la seva existència i es tracta d'acord amb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Genealogia i noms de família (CM-132)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el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 Manual de la LEM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2 Marcador de contenido"/>
          <p:cNvSpPr/>
          <p:nvPr/>
        </p:nvSpPr>
        <p:spPr>
          <a:xfrm>
            <a:off x="324000" y="4365720"/>
            <a:ext cx="849600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00 3#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(Família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, Narcís, 1819-1885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  <a:ea typeface="Courier New"/>
              </a:rPr>
              <a:t>)</a:t>
            </a:r>
            <a:r>
              <a:rPr b="1" lang="ca-ES" sz="20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e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0 10 $aCorrespondència.$kSelecc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 $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rrespondència familiar de Narcís Monturi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600 37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(Família)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xEpistolaris$2lema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1AC5-D9B0-4C4A-8F28-ACD61C8E9C2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entitats corpor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AB49-D42B-4E16-A1F0-0B32F831830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Què és una entitat corporativ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Glossari</a:t>
            </a:r>
            <a:r>
              <a:rPr b="0" lang="ca-ES" sz="16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d'R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rganització o grup de persones i/o d’organitzacions que s’identifica amb un nom concret i que actua, o pot actuar, com una unitat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AB94-6DF8-41A9-939A-C3A4E67F65D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’entitat corporativa (RDA 11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Trieu el nom pel qual l’entitat corporativa s’identifica habitualme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més d'una forma,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vegeu RD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11.2.2.5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 un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de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 (RDA 11.2.2.6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6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Es considera que no hi ha hagut un canvi de nom, qua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les diferències són menor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i no es té informació que confirmi que hi hagi hagut un veritable canvi de nom. Es consideren diferències menor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representació de les paraules (abreviatura, sigles o símbols, etc.)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una preposició, article, etc.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puntuació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'addició, omissió, o la variació de la freqüència d'una paraula en un nom de cong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F010-C661-4CF6-9AD2-C72816808E1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iferents formes (RDA 11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362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les formes variants apareixen a la font preferida, trieu (en aquest ordre)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que es present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rmalment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del nom més habitual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na forma breu del nom (pot ser una sigla o un acròni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Llengu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té més d'una llengua oficial i una d'elles és el català, es tria la forma en català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 Alternativa.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el nom d'una entitat internacional figura anomenada formalment en les fonts principals d'informació dels recursos associats en català, o en obres de referència catalanes fiab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s convenciona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una entitat s’identifica sovint amb un nom convencional en les fonts de referència en la seva pròpia llengua, trieu aquest nom convencional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6B34-B312-4CCD-9EDD-7E92E65CE27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eríode de transi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ccepteu un punt d'accés autoritzat existent al CCUC, CANTIC o de la BC,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ncara que no estigui d'acord amb RDA. A partir de l’estiu de 2017 s'iniciarà el procés de canvi i revisió tant dels registres d'autoritat com dels bibliogràfics associa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400" spc="-1" strike="noStrike" u="sng">
                <a:solidFill>
                  <a:srgbClr val="000000"/>
                </a:solidFill>
                <a:uFillTx/>
                <a:latin typeface="Calibri"/>
              </a:rPr>
              <a:t>No creeu punts d'accés duplicats per adequar-los a RDA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64C9-2CE0-49EB-AC19-F1330FA52E7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12682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Institut Valencià d’Art Mod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ituto Valenciano de Arte Moder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'entitat té com a llengües oficials el català i el castellà</a:t>
            </a:r>
            <a:r>
              <a:rPr b="1" i="1" lang="ca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Amnistia Inter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esty Interna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istía Intern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ntitat internacional, el català és llengua ofici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Museo del Pr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 Pintura y Escul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l Pr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 Museo de Pinturas y Escultur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convencional, diferent del nom real o de l’ofici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FE9A-00D9-41F2-98FA-C540BEC8258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nvi de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2.2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el nom d'una entitat corporativa ha canviat (incloent canvis d'una llengua a una altr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anterior per als recursos associats amb el nom an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posterior per als recursos associats amb el nom pos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L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relació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tre els noms anteriors i posteriors s'enregistra en els camps 5XX dels respectius registres d'autorita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A154-5AE7-4AD2-AE47-EFA9DAF81F6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es consideracion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8 Altern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S'omet u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article inicial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’ha d’accedir al nom per mitjà de l’artic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els termes que indiquen constitució 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societat comercial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(abreviatures com: S.A, Ltd.), tipus de societat, un terme que indica que l’entitat corporativa pertany a l’Estat,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ón una part integrant del nom o són necessaris per aclarir que es tracta del nom d’una entitat corporativa (RDA 11.2.2.10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del nom d'un congré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, etc., les indicacions del número, l’any o els anys de convocatòria, etc. (RDA 11.2.2.11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(Es donen com addició, però no en el nom del congré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7D2A-EC4A-4D37-B1CB-198A4B53D51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4000" y="155736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s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Angeles Philharmonic Orches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Compañía Internacional de Ma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ñía Internacional de Mapas S.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Films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Incorpor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th 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2AAB-37D7-4596-9F44-B5A486FB488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subordinades i relacion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des subordinadament (RDA 11.2.2.1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divisió directa o indirecta (RDA 11.2.2.1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àrrecs governamentals, cossos legislatius, tribunals, forces armades, ambaixades, consolats, delegacions en organitzacions internacionals i intergovernamentals (RDA 11.2.2.18- 11.2.2.2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d’entitats i de càrrecs religiosos (RDA 11.2.2.25 -11.2.2.29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BFE9-6919-47AB-B698-FF7F1475090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Lloc associat amb l’entitat (RDA 1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nom d’un lloc associat amb l’entitat corporativa si cal distingir un punt d’accés autoritzat d’un alt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ot ser un país, estat, província o localita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Xil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Perú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s'aplica l'apèndix B.11, els estats, províncies, etc. no s'abreug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10 $a / opcionalment + 3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3DBE-9A31-4A7D-A063-6185FA8469A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ata associada amb l’entitat (RDA 11.4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036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fegiu una data o dates associades a l'entitat, si cal per distingi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punt d'accés d'un altre,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el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o la institució associada no estan disponib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77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89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04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09A6-FCDF-47E9-8F79-092626D66DC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stitució associada (RDA 1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nom d'una institució associ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de la institució s’associa normalment amb el nom de l’entitat corporativa. Preferiu aquesta nom en lloc del nom de la local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Instituto de Ecología y Sistemática (</a:t>
            </a:r>
            <a:r>
              <a:rPr b="1" lang="es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Academia de Ciencias de Cuba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7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F974-7BDF-4BB1-B92D-E291224450D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'entitat corporativa (RDA 11.7.1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terme que designi el tipus d’entitat corporativ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nom que no transmet la idea d’una entitat corporativ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afegeix un terme en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català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Johann Traeg</a:t>
            </a:r>
            <a:r>
              <a:rPr b="0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Firm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5A0C-36E7-4C57-A1BF-BEAE4444FF3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jurisdicció (RDA 11.7.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tipus de jurisdicció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i és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ecessari per distingir un punt d'accés d'un altre. Afegiu el terme al nom d’un govern que no sigui el d’una ciutat o un po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omt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Duc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Regn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C20A-0B64-452A-8954-A21705F13DB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Elements identificadors addicio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964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s elements identificadors addicionals són ELEMENTS BÀSICS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an s'han d'enregistrar per distingir una persona, família o entitat corporativa d'una alt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RDA dóna opcions per a enregistrar-los: com a elements separats, com a parts del punt d’accés, o de totes dues maneres (RDA 0.6.7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Política a segui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empre s'han d'enregistrar com a addicions als punts d'accés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si cal diferenciar-los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És opcional enregistrar-los com a elements separats en els registres d'autorit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D931-3D16-4F79-8180-0C6F2250685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ltra designació associada amb l’entitat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7.1.6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elements d’</a:t>
            </a: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11.13.1.2–11.13.1.6 no és suficient o apropiat per distingir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tre els punts d’accés autoritzats de dues o més entitats, incloeu-hi una designació adequa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0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8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8BA7-1D8F-47E0-BC42-D6B1D25972B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engua de l’entitat corporativa (RDA 11.8)</a:t>
            </a:r>
            <a:r>
              <a:rPr b="0" i="1" lang="ca-ES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lengua que usa una entitat corporativa en les seves comunicac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s prefereixen el terme i el codi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FE82-D7A3-4AD6-B403-7F26B253FCF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’entitat corporativa (RDA 11.9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a seu central o les oficines d’una entitat corporativa, o una adreça de correu electrònic o d’internet de l’entit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bustia@bnc.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orreu electrònic de la 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7A60-EB29-40B2-83DB-761E5BBD1D6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mp d'activitat (RDA 11.10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 camp d’activitat al qual es dedica una entitat corporativa i/o l’àrea de competència, de responsabilitat, de jurisdicció, etc., de l’entit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s prefereix un vocabulari controlat, p. ex.: LEM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rt mod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'activitat de la Fundació Suño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8431-2D21-4933-A13C-F552CAE1340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Història corporativa (RDA 11.1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Informació històrica sobre l’entitat corporativ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La nota ha de ser concisa però complet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a Salem Female Academy es va fundar originalment el 1772 i va ser constituïda com a Female Academy and College el 1866. El 1907 canvia el nom a Salem Academy and College, i el 1912 la institució es divideix en Salem College i Salem Acade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C1A3-C61F-4E94-9D63-6D5B6C72411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pt-BR" sz="2900" spc="-1" strike="noStrike">
                <a:solidFill>
                  <a:srgbClr val="000000"/>
                </a:solidFill>
                <a:latin typeface="Calibri"/>
              </a:rPr>
              <a:t> Número, data i lloc d’un congrés, etc.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13.1.8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fegiu els elements següents al nom d’un congrés, etc., si s’apliquen i es poden determinar fàcilment. Incloeu-los en l’ordre següent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) el número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b) la data del congrés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) el lloc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Australian Bioethics Association.$bNational Conference$n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6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:$d1998 :$cHobart, Tasmàni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0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1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1X $n $d $c / opcionalment + 046 +37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CE5F-5234-4301-BC08-2A3DBEE656D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.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964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, el nom d'un congrés, etc. no necessita tenir una paraula específica que indiqui que és un congrés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concreció a 21.1B1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Pot ser que el punt d'accés autoritzat no doni la idea d'entitat corporativa i sigui necessari afegir una addici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iencia y Tecnología 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ngré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no distingeix entre congressos, exposicion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 diferència d’AACR2 no s’omet del nom la periodicitat, però sí s’ometen l’any o els anys de convocatò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nnua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Symposium on Sea Turtle Biology and Conserv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xpo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d(1992 :$cSevilla, Andalus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'9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D11D-ABBE-471B-BA20-14C11A7C2E8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 s'afegeix el lloc del congrés, tot i que formi part del n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Salzburger Festspiele$d(2010 : 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z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Àustri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es sessions d’un congrés, etc., s’han celebrat en dues o més localitzacions, s’hi afegeix cada un dels noms de lloc, separats per punt i coma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regla de tr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Danish-Swedish Analysis Seminar $d(1995 :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penhaguen, Dinamarca; Lund, Suècia; París, Franç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’enregistra "En línia" com a lloc en el cas d’un congrés que es celebra en lí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C27A-89B7-4B73-B73F-F895E5D34A1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dentificació dels llocs (RDA 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96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ls noms de llocs s’usen habitualment de les maneres segü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 noms de governs (RDA 11.2.2.5.4) i de comunitats que no són gov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títols d’obres (RDA 6.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’entitats corporatives per diferenciar entre entitats amb el mateix nom (RDA 11.13.1.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e congressos (RDA 11.13.1.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ons al capítol 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: Per determinar la </a:t>
            </a:r>
            <a:r>
              <a:rPr b="0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form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, per ordre de preferència: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Gran enciclopèdi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Atles universal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Nomenclàtor oficial de toponímia major de Cataluny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No apliqueu l'apèndix B.11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Noms d’alguns països, estats, províncies, territoris, etc.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RSFSR, UR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20E1-1F7B-4910-9DA4-85E167F31D0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1575-9416-420D-9947-47E748DD2A8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erminolo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individu o una identitat establerta per un individu (ja sigui sol o en col·laboració amb un o més individus)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a paraula, un caràcter o a un grup de paraules i/o de caràcters pel qual es coneix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a persona, una família o una entitat corporativ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 nom o una forma de nom triat per identificar una persona, una família o una entitat corporativa"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ase per al punt d'accés autoritza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Variant de 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nom o una forma de nom pel qual es coneix una persona, una família o una entitat corporativa i que difereix del nom o de la forma de nom triat com a nom preferit d’aquesta persona, família o entitat corpor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42AA-4699-42B3-A5E6-560B4F954B0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ls noms (RDA 8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Majúscule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úmeros expressats com a xifres o com a paraule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general, en la forma en què figuren a la font d’informaci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ccents i altres signes diacrític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afegiu-los si és segur que són part integrant d’un nom.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Guionet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retingueu un guionet entre els noms de pila si la persona fa servir el guion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spaiament de les inicials i els acrònim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ersones: deixeu un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titats corporatives: no deixeu cap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breviacions: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Apliqueu les instruccions de l’apèndix B.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A748-B0D5-4263-A6BC-9A7AF06D47F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unts d'accés autoritzats (RDA 8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Utilitzeu el nom preferit com a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dues o més entitats tenen noms idèntics o similars, incloeu un o més elements identificadors addicion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sobre com construir el punt d'accés autoritzat es troben al final dels capítols 9, 10, 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F483-19FC-4C35-AF73-05C87F9F589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9T17:32:27Z</dcterms:created>
  <dc:creator>Biblioteca de Catalunya</dc:creator>
  <dc:description/>
  <dc:language>en-US</dc:language>
  <cp:lastModifiedBy>vilsnb</cp:lastModifiedBy>
  <dcterms:modified xsi:type="dcterms:W3CDTF">2017-04-21T07:58:03Z</dcterms:modified>
  <cp:revision>326</cp:revision>
  <dc:subject/>
  <dc:title>Diapositiva 1</dc:title>
</cp:coreProperties>
</file>