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11F4-D421-44CA-8BF7-EAB72C15648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4E6F-48F4-4868-9927-F8DB8485134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59FA-DA83-4F97-A696-737CD0AD952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86D4-6737-4F00-9AA3-1D0BCFE7CB9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02DD-116C-4701-BDF1-0FB2113AF81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5E9D-33EC-4695-8881-D470492CB67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3169-E7B8-4212-9979-8488A852ED4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7DE8-5B59-41BC-A276-5639C5BF4EF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6398-A895-4F34-AC2E-7CC4051F86E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BC05-04E1-4DB3-A318-A7A11083C28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2680-29B5-4080-960F-28F6B0818DB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2362-2C42-41CF-9A79-E962610CDE6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03F2-FEE6-49D5-9521-75D022F4CAB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87BF-5F05-405F-86A1-98545336F0A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6746-54A0-458A-96FC-071DCADD5D5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AD56-1734-4CD3-B295-743AB4BC548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1073-CFE8-4CC1-8983-7BDCA0D6C82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D6B4-7470-4082-8358-7E868E764A4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AC9A-4D47-4FD9-816F-D0E4B650CEA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0892-EA96-4A77-B795-1F25ADA6879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6577-1A9D-4D97-B4D1-4E9DF38D830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3750-9E5E-4FF9-996B-06B7BE83A23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5B00-94DA-450D-B4FA-54E7E67ADEE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16DA-3477-4433-8ADF-3FDE4D2C144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C9BB-5D49-4778-BCFA-610FF2A1A12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96E8-82DE-42E4-B649-624594D5EBC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E584-1AAE-4CA6-85FB-67CA252A80C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BD58-FD35-4E26-95E8-52BE8216F3F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8812-D182-47DA-99B0-5870EF2DC9F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C768-EDD2-4992-9F61-D700356AD26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93B3-3975-4865-B10B-1D767C34883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4E69-A4C0-452F-A40D-39FC426E2F4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5D1A-9016-4D52-AEF2-ECACAD3B69A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7F51-BF81-4678-A321-ACAE00A5478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71E7-6327-44F6-A577-DBA43D75E9E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AE9A-2345-40D2-84B0-82DC7921919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59C7-1C1D-4D6D-8F5F-86EBAD97F18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278E-C755-4252-885B-6849B23F3F4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4B72-5907-43EF-BA1E-A19F377140B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55BE-65BA-414E-B468-364005810A2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6F60-D1A1-4B00-B0BC-A4A274727A6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6178-B7C3-4C9E-8673-EF3820B2E62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F41F-76E1-4139-95AA-316C554AC20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A4F9-5C80-4052-92CF-9752F298947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5B33-5FCF-49A8-81C6-E3C13B59D2D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6FF2-4EE5-4AA9-8ADF-AAC7C65342F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A104-0467-40F3-B466-DFEBDD42179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E60E-5721-485F-AF4B-EF1D67F70BF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DCA2-7492-46EB-A699-80E64457B53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EE04-3064-4C11-993B-12AC591DE43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F1F1-8185-4BB0-B950-B360B1A142D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5ED0-D33A-42DE-8E25-3D1CC610430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12DD-946A-4DEC-8102-E3D77F5949D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8AF9-B893-419D-A456-B606BA3F7EA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05E2-D87B-443A-B46E-32BF34085E9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E3EB-5880-451C-8BCE-BAB6E90A756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EB91-8E1A-4285-AA19-780CFABB8F2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CCD2-6D43-486D-9610-D619840734D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499C-1EF3-4B0A-BEAB-77B7A69EC25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ED7D-FAC8-4D02-B0A1-27AF177B551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14CA-FE0D-4EAD-99EE-A2050F6B4C9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F3DA-8C1E-467A-A44B-7659EC1B9BE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92A7-2443-40CF-BBAA-75A5ADD69CF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06F8-0687-4F08-B0A9-8CC79FDA168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5ECE-02C1-4598-BE37-8A9456FB046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E7A5-CECC-4967-9544-7A7801520D7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mòdul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DC1C-9A3D-4C2B-ACA7-F816FD21BBA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BA01-4082-45A6-B9F1-95180CA4279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73FB-8130-427D-B59E-E497341361D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AEFA-83A5-4692-BDC5-02C8E3CA279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5A5C-6CDE-41D1-BA5E-81E364E2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79E8-2647-483C-BB82-0519FBD7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27DC-B1D2-4AD9-9371-4355985E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A441-300A-4085-88FF-68E39923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51C0-01BC-4B72-A355-23C6ACBD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C77D-60FA-4352-B1F9-538C98A2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D1FB-C78E-4D1D-A11B-5B1B5D2E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A318-5F27-427B-AF5F-8D954C51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85AB-ED9A-4FCC-ADC2-8455CFF2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AA53-2091-4A8A-8A75-CA30933D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682A-9AE4-4237-A2E7-4E1FCE26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76C9-2684-46D0-B243-F76FF8F3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474D-67E2-4742-A580-833EF4958719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BDB7-4D74-4857-A209-C9088CE83E2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uthorities.loc.gov/" TargetMode="External"/><Relationship Id="rId2" Type="http://schemas.openxmlformats.org/officeDocument/2006/relationships/hyperlink" Target="http://www.bnc.cat/lenoti/" TargetMode="External"/><Relationship Id="rId3" Type="http://schemas.openxmlformats.org/officeDocument/2006/relationships/hyperlink" Target="http://www.bnc.cat/lenot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4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Persones, famílies i entitats corpor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Subtítulo"/>
          <p:cNvSpPr/>
          <p:nvPr/>
        </p:nvSpPr>
        <p:spPr>
          <a:xfrm>
            <a:off x="1619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F303-CEFC-4D13-8EDE-D819ABAB7B6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btingueu informació sobre els atributs per identificar de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er determinar el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nom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referit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(en aquest ordre de preferènci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es fonts preferides d’informació (vegeu 2.2.2) en els recursos associats amb 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encions formal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e figuren 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recursos associats a 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 font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incloses les fonts de referènci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3BD4-F68C-4B6F-ABCE-C5AD08A150B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pers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6006-161F-4ADF-87C8-B5ECF5EB1B2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opòsit i abast (RDA 9.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mb RDA quan es parla d'una "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ersona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, es fa referència a un individu, el qual pot ser un ésser humà real, o 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nclo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mencionades en les sagrades escriptures o en els llibres apòcrif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fictícies i llegendà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titats reals no huma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B5A4-4B3B-41FA-9000-D128C0E447B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1966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 partir de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l'1 de desembre de 201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per a persones de les sagrades escriptures o dels llibres apòcrifs, persones fictícies i llegendàries, entitats reals no humanes, animals individuals amb nom propi, etc. seran establerts només com autoritats de nom utilitzant R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creats amb RDA seran vàlids com a punts d'accés de matè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ins que no s'hagi creat el registre de nom, utilitzeu el registre de la LEMAC existent en els punts d'accés de matè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4323-75DE-4978-B380-B784AABC900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reals no hum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9 CuadroTexto"/>
          <p:cNvSpPr/>
          <p:nvPr/>
        </p:nvSpPr>
        <p:spPr>
          <a:xfrm>
            <a:off x="539640" y="1052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eguiu les mateixes instruccions d'RDA com ho faríeu per a qualsevol altra pers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971640" y="2133720"/>
            <a:ext cx="7345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130 0# $aFree Willy (Pel·lícula cinematogràf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Free Willy /$cWarner Bros. in associa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700 0#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$aKeiko,$daproximadament 1976-2003,$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1 CuadroTexto"/>
          <p:cNvSpPr/>
          <p:nvPr/>
        </p:nvSpPr>
        <p:spPr>
          <a:xfrm>
            <a:off x="468360" y="3500280"/>
            <a:ext cx="828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afegeix una addició al punt d'accés autoritzat quan cal distingir entre dos punts d'accés amb el mateix nom o quan aquest no dóna idea de "persona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in-Tin-Tin (G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.: Obama, 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nom del gos inclou un cognom i un nom de pi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 CuadroTexto"/>
          <p:cNvSpPr/>
          <p:nvPr/>
        </p:nvSpPr>
        <p:spPr>
          <a:xfrm>
            <a:off x="611280" y="587700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Tanmateix, es pot afegir l'addició sempre que es consideri important per a la identificació.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9.19.1.2.6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9A4B-3A3F-4964-B4F1-9771F9EECC9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 (RDA 9.2.2)</a:t>
            </a:r>
            <a:br>
              <a:rPr sz="11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560" y="1268280"/>
            <a:ext cx="8893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Trieu en general el nom pel qual se la coneix normal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 diferència d'AACR2, les paraules que indiquen una relació són part del nom preferit (ex.: Jr, III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i="1" lang="ca-E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.: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Abbott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ud,$c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J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ls termes de tractament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hi inclouen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és s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cognom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eus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Dr</a:t>
            </a:r>
            <a:r>
              <a:rPr b="1" lang="ca-ES" sz="26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a persona casada és identificada només pel nom de la parella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Davi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axwell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Mrs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nom de pila precedit per un terme de tractament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am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ousin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83C6-0D17-4CAF-A586-0EA3C68F9AB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412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ompletes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 Si les formes del nom d’una persona varien en completesa, trieu com a nom preferit la form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trobada més habitualment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allas, Mari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3-197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de naixement "Maria Anna Cecilia Sofia Kalogeropoulos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Valera, Juan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24-19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a forma més habitual és "Juan Valera". La forma ocasional "Juan Valera y Alcalá Galiano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A3B2-B7C7-4848-8240-7B8A84096B6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483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lengua: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correspon a la llengua de la majoria dels recursos associa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Excepc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Grec o llatí enfront d’altres formes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figura més habitualment en les fonts de referència. Per als noms romans apliqueu l'apèndix F.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nl-NL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èsar, Gai Juli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00 aC-44 a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Forma establerta en català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el primer element del nom preferit d’una persona consisteix en un nom de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pila i/o una paraula o una frase associad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amb la persona, </a:t>
            </a:r>
            <a:r>
              <a:rPr b="0" lang="ca-ES" sz="2200" spc="-1" strike="noStrike" u="sng">
                <a:solidFill>
                  <a:srgbClr val="000000"/>
                </a:solidFill>
                <a:uFillTx/>
                <a:latin typeface="Calibri"/>
              </a:rPr>
              <a:t>trieu la forma ben establerta en catal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, si n'hi ha u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fr-FR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rancesc,$cd'Assís,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ant,$d 1182-122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0B9E-4179-4D3A-84E2-A3A2AAB8198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454680" indent="-157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scriptura no preferida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ha d'utilitzar la transcripció al català de l'IEC (àrab, rus, hebreu), ISO 843 (grec), Pinyin (xinès), Hepburn (japonè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59 Grupo"/>
          <p:cNvGrpSpPr/>
          <p:nvPr/>
        </p:nvGrpSpPr>
        <p:grpSpPr>
          <a:xfrm>
            <a:off x="1232640" y="2781360"/>
            <a:ext cx="7227000" cy="3166920"/>
            <a:chOff x="1232640" y="2781360"/>
            <a:chExt cx="7227000" cy="3166920"/>
          </a:xfrm>
        </p:grpSpPr>
        <p:sp>
          <p:nvSpPr>
            <p:cNvPr id="107" name="5 Rectángulo"/>
            <p:cNvSpPr/>
            <p:nvPr/>
          </p:nvSpPr>
          <p:spPr>
            <a:xfrm>
              <a:off x="1232640" y="2781360"/>
              <a:ext cx="333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x.: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Чайк</a:t>
              </a:r>
              <a:r>
                <a:rPr b="0" lang="ca-E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вский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Пётр Ильич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9 Imagen" descr=""/>
            <p:cNvPicPr/>
            <p:nvPr/>
          </p:nvPicPr>
          <p:blipFill>
            <a:blip r:embed="rId1"/>
            <a:srcRect l="33333" t="61417" r="0" b="31767"/>
            <a:stretch/>
          </p:blipFill>
          <p:spPr>
            <a:xfrm>
              <a:off x="1691280" y="3141360"/>
              <a:ext cx="3600720" cy="27612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pic>
          <p:nvPicPr>
            <p:cNvPr id="109" name="10 Imagen" descr=""/>
            <p:cNvPicPr/>
            <p:nvPr/>
          </p:nvPicPr>
          <p:blipFill>
            <a:blip r:embed="rId2"/>
            <a:srcRect l="34669" t="30827" r="0" b="61412"/>
            <a:stretch/>
          </p:blipFill>
          <p:spPr>
            <a:xfrm>
              <a:off x="1691280" y="3501360"/>
              <a:ext cx="3600720" cy="28800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sp>
          <p:nvSpPr>
            <p:cNvPr id="110" name="11 Elipse"/>
            <p:cNvSpPr/>
            <p:nvPr/>
          </p:nvSpPr>
          <p:spPr>
            <a:xfrm>
              <a:off x="1692000" y="2781360"/>
              <a:ext cx="28728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2 Elipse"/>
            <p:cNvSpPr/>
            <p:nvPr/>
          </p:nvSpPr>
          <p:spPr>
            <a:xfrm>
              <a:off x="2771640" y="278136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13 Cerrar llave"/>
            <p:cNvSpPr/>
            <p:nvPr/>
          </p:nvSpPr>
          <p:spPr>
            <a:xfrm>
              <a:off x="5508360" y="3286080"/>
              <a:ext cx="215640" cy="43164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5400 h 431640"/>
                <a:gd name="textAreaBottom" fmla="*/ 4262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50"/>
                    <a:pt x="10800" y="900"/>
                  </a:cubicBezTo>
                  <a:lnTo>
                    <a:pt x="10800" y="9900"/>
                  </a:lnTo>
                  <a:cubicBezTo>
                    <a:pt x="10800" y="10350"/>
                    <a:pt x="16200" y="10800"/>
                    <a:pt x="21600" y="10800"/>
                  </a:cubicBezTo>
                  <a:cubicBezTo>
                    <a:pt x="16200" y="10800"/>
                    <a:pt x="10800" y="11250"/>
                    <a:pt x="10800" y="11700"/>
                  </a:cubicBezTo>
                  <a:lnTo>
                    <a:pt x="10800" y="20700"/>
                  </a:lnTo>
                  <a:cubicBezTo>
                    <a:pt x="10800" y="2115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14 CuadroTexto"/>
            <p:cNvSpPr/>
            <p:nvPr/>
          </p:nvSpPr>
          <p:spPr>
            <a:xfrm>
              <a:off x="5796000" y="3285360"/>
              <a:ext cx="19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IEC transcripci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22 Imagen" descr=""/>
            <p:cNvPicPr/>
            <p:nvPr/>
          </p:nvPicPr>
          <p:blipFill>
            <a:blip r:embed="rId3"/>
            <a:srcRect l="0" t="34660" r="47082" b="61353"/>
            <a:stretch/>
          </p:blipFill>
          <p:spPr>
            <a:xfrm>
              <a:off x="1619280" y="5517360"/>
              <a:ext cx="4753080" cy="4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23 Imagen" descr=""/>
            <p:cNvPicPr/>
            <p:nvPr/>
          </p:nvPicPr>
          <p:blipFill>
            <a:blip r:embed="rId4"/>
            <a:srcRect l="0" t="55389" r="39464" b="40330"/>
            <a:stretch/>
          </p:blipFill>
          <p:spPr>
            <a:xfrm>
              <a:off x="1763280" y="4941360"/>
              <a:ext cx="547308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26 Cerrar llave"/>
            <p:cNvSpPr/>
            <p:nvPr/>
          </p:nvSpPr>
          <p:spPr>
            <a:xfrm>
              <a:off x="7307280" y="4942080"/>
              <a:ext cx="144360" cy="7920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3600 h 792000"/>
                <a:gd name="textAreaBottom" fmla="*/ 78840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4"/>
                    <a:pt x="10800" y="328"/>
                  </a:cubicBezTo>
                  <a:lnTo>
                    <a:pt x="10800" y="10472"/>
                  </a:lnTo>
                  <a:cubicBezTo>
                    <a:pt x="10800" y="10636"/>
                    <a:pt x="16200" y="10800"/>
                    <a:pt x="21600" y="10800"/>
                  </a:cubicBezTo>
                  <a:cubicBezTo>
                    <a:pt x="16200" y="10800"/>
                    <a:pt x="10800" y="10964"/>
                    <a:pt x="10800" y="11128"/>
                  </a:cubicBezTo>
                  <a:lnTo>
                    <a:pt x="10800" y="21272"/>
                  </a:lnTo>
                  <a:cubicBezTo>
                    <a:pt x="10800" y="21436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27 CuadroTexto"/>
            <p:cNvSpPr/>
            <p:nvPr/>
          </p:nvSpPr>
          <p:spPr>
            <a:xfrm>
              <a:off x="7523640" y="515736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VIA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22 Imagen" descr=""/>
            <p:cNvPicPr/>
            <p:nvPr/>
          </p:nvPicPr>
          <p:blipFill>
            <a:blip r:embed="rId5"/>
            <a:srcRect l="0" t="45177" r="48503" b="34355"/>
            <a:stretch/>
          </p:blipFill>
          <p:spPr>
            <a:xfrm>
              <a:off x="1690200" y="3860640"/>
              <a:ext cx="5689800" cy="936360"/>
            </a:xfrm>
            <a:prstGeom prst="rect">
              <a:avLst/>
            </a:prstGeom>
            <a:ln w="9360">
              <a:solidFill>
                <a:srgbClr val="376092"/>
              </a:solidFill>
              <a:miter/>
            </a:ln>
          </p:spPr>
        </p:pic>
        <p:sp>
          <p:nvSpPr>
            <p:cNvPr id="119" name="7 Elipse"/>
            <p:cNvSpPr/>
            <p:nvPr/>
          </p:nvSpPr>
          <p:spPr>
            <a:xfrm>
              <a:off x="2050920" y="5013360"/>
              <a:ext cx="28872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21 Elipse"/>
            <p:cNvSpPr/>
            <p:nvPr/>
          </p:nvSpPr>
          <p:spPr>
            <a:xfrm>
              <a:off x="2842920" y="501336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8 Elipse"/>
            <p:cNvSpPr/>
            <p:nvPr/>
          </p:nvSpPr>
          <p:spPr>
            <a:xfrm>
              <a:off x="2771640" y="558972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20 Elipse"/>
            <p:cNvSpPr/>
            <p:nvPr/>
          </p:nvSpPr>
          <p:spPr>
            <a:xfrm>
              <a:off x="1979280" y="551808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54 Conector recto"/>
            <p:cNvSpPr/>
            <p:nvPr/>
          </p:nvSpPr>
          <p:spPr>
            <a:xfrm>
              <a:off x="1331640" y="3213000"/>
              <a:ext cx="0" cy="20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4" name="56 Conector recto de flecha"/>
          <p:cNvCxnSpPr/>
          <p:nvPr/>
        </p:nvCxnSpPr>
        <p:spPr>
          <a:xfrm>
            <a:off x="1332000" y="5229000"/>
            <a:ext cx="576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5" name="58 CuadroTexto"/>
          <p:cNvSpPr/>
          <p:nvPr/>
        </p:nvSpPr>
        <p:spPr>
          <a:xfrm>
            <a:off x="250920" y="614988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i no es pot donar la forma transcrita al català, provisionalment s'accepta la forma anglesa de la L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8E1E-2C8E-4477-BD51-85EA8231CC6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 Diferents noms per a la mateixa persona 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(RDA 9.2.2.6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de manera clara més habitualment. Excep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anvi de nom (RDA 9.2.2.7): Trieu el nom més rec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Onassis, Jacqueline Kennedy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9-19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últiples identitats (RDA 9.2.2.8): Trieu el nom associat amb cada identit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identitats separad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Dodgson, Charles Lutwidge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real utilitzat en obres de matemàtic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Carroll, Lewis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s: pseudònim utilitzat en obres de literatur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'ha de respectar totes les identitats separades d'una persona. No hi ha la limitació en el temps ni en el nombre de punts d'accés autoritza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E7E9-A5AA-4585-9B7F-8AF79F3107D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9B77-1E24-4DEA-B96C-75DD5803AC6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tegories de noms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2.2.9 - RDA 9.2.2.2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71280" y="1988640"/>
            <a:ext cx="74278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cogn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compos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amb prefix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inclouen un títol nobiliar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inici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una fr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7BCA-E2C6-40C6-8142-44A46233FAD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981000"/>
            <a:ext cx="8300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pmany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aria Aurèlia,$d1918-199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G.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igu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bri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Nelson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p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lverdú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$q(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o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Fàbrega Pallarès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Pau </a:t>
            </a:r>
            <a:r>
              <a:rPr b="1" lang="fr-FR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e la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13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Or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Eugeni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'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81-195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L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Roca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France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hn,$d1942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americà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82520" indent="-10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. C.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q(Cornelis Constantijn),$d1910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neerlandè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vat-Papasseit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an,$d1894-19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evot de Ma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ldes de Montbui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arles Sanllehy i Girona,$cmarquès de,$d1882-197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</a:t>
            </a:r>
            <a:r>
              <a:rPr b="1" lang="it-IT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ragonetti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Giacinto,$cmarchese,$d1738-18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14F3-6B29-4655-9E63-E9C1175522F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naixement i mo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13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Obtingueu les dates de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9.3.2.3 i 9.3.3.3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utilitzen </a:t>
            </a:r>
            <a:r>
              <a:rPr b="0" lang="ca-ES" sz="2400" spc="-1" strike="noStrike" u="sng">
                <a:solidFill>
                  <a:srgbClr val="000000"/>
                </a:solidFill>
                <a:uFillTx/>
                <a:latin typeface="Calibri"/>
              </a:rPr>
              <a:t>guions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n lloc d'abreviatures "n." i "m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indica una data probable mitjançant l'addició d'un signe d'interrogació "?"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només pot ser aproximat s'hi afegeix "aproximadament". No es pot utilitzar "ca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és incert, s'enregistren els dos anys possibles senc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6E5F-556A-40F7-A2DD-224D3297D8E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període d'activit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només quan és necessari per distingir una persona d'una alt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Una data o rang de dates indicatiu del període en què una persona ha estat activa en el seu camp principal d’activit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9.3.4.3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tilitzeu "actiu/activa" i "segle" en lloc d'abreviatures "fl." i "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l terme "actiu/activa" ha de constar abans del primer període d'activitat (ex.: "activa segle XII"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: 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F825-6E4C-45EA-8DC1-587E9F3B1B5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84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524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900, gener 10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6 o</a:t>
            </a:r>
            <a:r>
              <a:rPr b="1" i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189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25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-18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hnson, Carl F.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1893-19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aca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actuarius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I-segle X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70E9-C61B-4718-BCB1-8F4E521B1F9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de la persona (RDA 9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n és una paraula o una frase indicativa de reialesa, de noblesa o de rang o càrrec eclesiàstic o un terme de tractament d’una persona de vocació religi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aElisabet$bII,$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reina de la Gran Bretany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,$d1926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lsevol altre terme indicatiu de rang, de distinció o de càrrec és un element bàsic quan cal distingir una persona d’una altra persona amb el mateix n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s autors amb el mateix nom preferi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,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Rever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D209-6E4E-4670-89AC-85AFA23A6BF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orma més completa del nom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(RDA 9.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cal distingir una persona d’una altra persona amb el mateix no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forma desenvolupada del nom és la forma completa 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'un nom representat només per una inicial o l'abreviatura de la forma escolli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ues autores amb el mateix nom prefer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izabet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l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el nom no inclòs en la forma tria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Carey-Hobson,$cMrs.$q(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Mary Ann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(S'aplica l'addició opcional d'afegir la forma més completa, </a:t>
            </a:r>
            <a:r>
              <a:rPr b="1" i="1" lang="ca-ES" sz="1900" spc="-1" strike="noStrike">
                <a:solidFill>
                  <a:srgbClr val="000000"/>
                </a:solidFill>
                <a:latin typeface="Calibri"/>
              </a:rPr>
              <a:t>Concreció 19.1.4</a:t>
            </a: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00 $q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00 $q / opcionalment + 37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0A90-FDA5-4A72-A17B-8EF757082D4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a designació associada amb la persona (RDA 9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un sant cristià o d'un esperi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Teresa de Jesús,$c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nt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515-158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Presley, Elvis,$d1935-1977$c(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sperit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altres persones, una altra designació associada amb la persona és un element bàsic quan cal distingir una persona d’una altra persona amb el mateix no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ues autores amb el mateix nom prefer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$c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Personatge de ficció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6BEA-FAB4-4132-8C44-64C7EEBC5B6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Sexe (RDA 9.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El gènere amb el qual s’identifica una perso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vocabulari R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feme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mascul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desconeg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termes de la llista és apropiat se'n pot proporcionar un alt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50BE-C6CE-484F-AF8F-723AD417D90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Llocs associat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263700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reugeu els noms dels països, els estats, les províncies, els territoris, etc., tal com s’indica a l’apèndix B (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B.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hicago, Illinois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O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icago, Ill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arcelona,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Rectángulo"/>
          <p:cNvSpPr/>
          <p:nvPr/>
        </p:nvSpPr>
        <p:spPr>
          <a:xfrm>
            <a:off x="2843280" y="1125360"/>
            <a:ext cx="3673440" cy="1313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naixement (RDA 9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defunció (RDA 9.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País associat (RDA 9.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residència (RDA 9.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203E-2CD2-4C9F-8ACB-D82FF3F1CEB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On són les instrucc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per a la identificació de les persones, famílies i entitats corporatives són 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8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9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pers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0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famí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1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entitats corpor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47FD-E93C-4058-82BC-1CB4B9BE2FE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a persona (RDA 9.12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’adreça del lloc de residència o de treball d’una persona, l’adreça de l’empresa on treballa i/o una adreça de correu electrònic o d’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ox 1216, Barrière, B.C., Canada V0E 1E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timmins@doc.govt.n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C72B-74D7-4DEF-823E-FAFA8F911E6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filiació (RDA 9.1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grup amb el qual una persona està o ha estat afiliada per qüestions de feina, en qualitat de membre, per afinitat cultural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'enregistra el nom preferit del gr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Istituto nazionale di economia agr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afiliació de Carla Abitab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EB2C-3FFF-4B10-AA5C-2C57E7D900E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persona (RDA 9.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00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lengua que usa una persona quan escriu per publicar, per fer radiodifusió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en el terme i el codi MAR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lengües usades per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ntonio Caparró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0CD1-2C14-46AE-B2ED-CCDB10DD3E9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Camp d’activitat de la person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camp d’acció, una àrea d’experiència, etc., al qual es dedica o s’ha dedicat una perso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 un terme controlat, p. ex.: LEMA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Econo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e treball o especialització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e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bià Estapé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E241-B5BE-422A-A150-94BC80008A4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Professió o ocupació (RDA 9.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ÉS UN ELEMENT BÀSIC 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n el cas d’una persona el nom de la qual consisteix en una frase o una apel·lació que no dóna la idea d’una perso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La professió o l’ocupació és un element bàsic quan cal distingir una persona d’una altra amb el mateix nom i no es disposa de date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s prefereix un terme controlat, p. ex.: LEMAC en singu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os autor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ues autore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gènere ha de concord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autoritat: X00 $c / opcionalment + 3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8E85-71D6-4F16-AAD4-56D3DF5CC64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biogràfica (RDA 9. 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bast = Informació sobre la vida o la història d’una perso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lice Ann Munro(nascuda Laidlaw) és una escriptora canadenca de narracions curte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 Ha guanyat nombrosos premis per la seva obra, inclosos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l Premi Nobel, el Man Broker International Prize i el Governor General’s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Literary Award de Canadà. Va néixer el 10 de juliol de 1931 a Wingham, Ontar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3953-D204-4831-B6AB-465B3FD86F8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5280" y="2276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famí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Rectángulo"/>
          <p:cNvSpPr/>
          <p:nvPr/>
        </p:nvSpPr>
        <p:spPr>
          <a:xfrm>
            <a:off x="971640" y="4292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</a:rPr>
              <a:t>Amb les AACR2, els noms de família no podien constituir un punt d’accés per a la catalogació descriptiva. RDA permet utilitzar el noms de família com a punt d’accés de la catalogació descriptiva si a la família se li atribueix la creació d’una ob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DAFE-071E-432B-B304-7EE706FB1B0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(RDA 10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general trieu el nom pel qual se la coneix habitualm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l cognom utilitzat pels membres de la famíl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a casa reial o d'una dinast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 clan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consisteix en diverses parts, enregistreu com a primer element aquella part del nom sota la qual la família seria normalment ordenada en les llistes alfabètiques autoritatives en la seva llengua, el seu país de residència o el seu país d’activ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AC8E-24DB-4729-8995-61A22A3EB08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ria del nom prefe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Formes diferents del mateix nom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al considerar: completesa, llengua, escriptura no preferida, ortograf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Noms diferents de la mateixa família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6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més habitual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Preferència: recursos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ssociats amb la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amíl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 de referè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1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de nom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7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anterior com a nom preferit per usar-lo amb els recursos associats amb el nom an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osterior com a nom preferit per usar-lo amb els recursos associats amb el nom pos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1413-1372-453C-B115-5A05F2CA33F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Tipus de família (RDA 10.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a categorització o un descriptor genèric del tipus de famíl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tipus de família entre parèntesis, a continuació del nom prefer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ranson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amíli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Donald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lan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orbó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asa reial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(primer indicador 3)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X00 (primer indicador 3) $a / opcionalment + 37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1E8E-A693-4991-96B5-4620F33D3E1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unts d'accés i catàlegs de referè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ANTIC (Catàleg d'autoritats de noms i títols de Cataluny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és un punt d'accés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u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ccepteu la forma trobada:</a:t>
            </a:r>
            <a:r>
              <a:rPr b="0" lang="ca-E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internacion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ibrary of Congress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authorities.loc.g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català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de Catalunya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bnc.cat/lenoti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deqüeu la forma trobada a RDA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estat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atalogo.bne.es/uhtbin/authoritybrowse.cg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no es troba: S'estableix el punt d'accés autoritzat d'acord amb RDA i les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Concrecions a RD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8187-D9CA-436F-869D-F3CDDC04144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Data associada amb la famíli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10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Data significativa associada amb la història d’una famíl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00 3# $aPahlavī (Dinastia 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925-197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Ciurianni (Família 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179-142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X00 $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FFF4-A0A9-4B13-87AB-3122524DFDA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oc associat amb la família (RDA 10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lloc on la família resideix o ha residit o amb el qual té algun tipus de relaci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Filipines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Xina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(S'aplica l'addició opcional d'afegir un lloc associat si ajuda a identificar la família, </a:t>
            </a: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0.11.1.4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00 $c / opcionalment + 3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0229-6197-4187-9BFF-CF893C6D051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6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Membre destacat de la família (RDA 10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individu ben conegut que és membre d’una famíli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 el nom en la forma usada en el punt d’accés autoritzat que representa la person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$aMedici (Casa reial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edici, Lorenzo de', 1449–1492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S'aplica l'addició opcional d'afegir un membre destacat si ajuda a identificar la família,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10.11.1.5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7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g/ opcionalment + 3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C502-37B2-4627-B746-CC00121372C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Ordre i puntuació (RDA 10.11.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Quan es construeix el punt d'accés autoritzat, s'afegeixen els atributs al nom de la família en aquest ord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de família (10.11.1.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ssociada 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associat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embre destacat de la 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inclouen les addicion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sol conjunt de parèntesis, separant cada addició amb "[espai]: [espai]" (apèndix E.1.2.3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766E-5EA7-4C05-9DCF-DECE57EFF54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227628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d'autorit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hereditari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7): MARC 3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8): MARC 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Històri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9): MARC 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2E79-9C9D-4D29-B24A-FB910D7BE3D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1197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permet utilitzar el noms de família com a punt d’accés de la catalogació descriptiva si a la família se li atribueix la creació d’una obra, però no son vàlids com a matè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tracta les famílies específiques, és a dir, dins d'un temps i d'un lloc específic. La LEMAC contempla el nom de la família al llarg de la seva existència i es tracta d'acord amb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Genealogia i noms de família (CM-132)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el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 Manual de la LEM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2 Marcador de contenido"/>
          <p:cNvSpPr/>
          <p:nvPr/>
        </p:nvSpPr>
        <p:spPr>
          <a:xfrm>
            <a:off x="324000" y="4365720"/>
            <a:ext cx="849600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00 3#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(Família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, Narcís, 1819-1885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  <a:ea typeface="Courier New"/>
              </a:rPr>
              <a:t>)</a:t>
            </a:r>
            <a:r>
              <a:rPr b="1" lang="ca-ES" sz="20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e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0 10 $aCorrespondència.$kSelecc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 $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rrespondència familiar de Narcís Monturi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600 37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(Família)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xEpistolaris$2lema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456C-BF7E-449B-92AF-4E799353280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entitats corpor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AFB2-AA83-40E5-B48B-AA2A6F9A64F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Què és una entitat corporativ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Glossari</a:t>
            </a:r>
            <a:r>
              <a:rPr b="0" lang="ca-ES" sz="16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d'R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rganització o grup de persones i/o d’organitzacions que s’identifica amb un nom concret i que actua, o pot actuar, com una unitat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733E-BA3A-480C-B7A7-0CCD05E9B60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’entitat corporativa (RDA 11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Trieu el nom pel qual l’entitat corporativa s’identifica habitualme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més d'una forma,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vegeu RD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11.2.2.5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 un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de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 (RDA 11.2.2.6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6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Es considera que no hi ha hagut un canvi de nom, qua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les diferències són menor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i no es té informació que confirmi que hi hagi hagut un veritable canvi de nom. Es consideren diferències menor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representació de les paraules (abreviatura, sigles o símbols, etc.)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una preposició, article, etc.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puntuació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'addició, omissió, o la variació de la freqüència d'una paraula en un nom de cong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3466-06FE-49AA-856A-2C1509F78E9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iferents formes (RDA 11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362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les formes variants apareixen a la font preferida, trieu (en aquest ordre)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que es present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rmalment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del nom més habitual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na forma breu del nom (pot ser una sigla o un acròni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Llengu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té més d'una llengua oficial i una d'elles és el català, es tria la forma en català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 Alternativa.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el nom d'una entitat internacional figura anomenada formalment en les fonts principals d'informació dels recursos associats en català, o en obres de referència catalanes fiab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s convenciona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una entitat s’identifica sovint amb un nom convencional en les fonts de referència en la seva pròpia llengua, trieu aquest nom convencional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3935-BAC7-454D-B43B-881DB8DAAA0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eríode de transi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ccepteu un punt d'accés autoritzat existent al CCUC, CANTIC o de la BC,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ncara que no estigui d'acord amb RDA. A partir de l’estiu de 2017 s'iniciarà el procés de canvi i revisió tant dels registres d'autoritat com dels bibliogràfics associa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400" spc="-1" strike="noStrike" u="sng">
                <a:solidFill>
                  <a:srgbClr val="000000"/>
                </a:solidFill>
                <a:uFillTx/>
                <a:latin typeface="Calibri"/>
              </a:rPr>
              <a:t>No creeu punts d'accés duplicats per adequar-los a RDA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DBB4-F840-4796-9BC6-8DA41EDEEA9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12682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Institut Valencià d’Art Mod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ituto Valenciano de Arte Moder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'entitat té com a llengües oficials el català i el castellà</a:t>
            </a:r>
            <a:r>
              <a:rPr b="1" i="1" lang="ca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Amnistia Inter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esty Interna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istía Intern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ntitat internacional, el català és llengua ofici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Museo del Pr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 Pintura y Escul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l Pr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 Museo de Pinturas y Escultur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convencional, diferent del nom real o de l’ofici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A7F7-6C1A-46A6-A8F6-413EBEBE947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nvi de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2.2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el nom d'una entitat corporativa ha canviat (incloent canvis d'una llengua a una altr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anterior per als recursos associats amb el nom an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posterior per als recursos associats amb el nom pos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L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relació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tre els noms anteriors i posteriors s'enregistra en els camps 5XX dels respectius registres d'autorita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B031-C4F9-4CDE-A658-34C44A6651E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es consideracion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8 Altern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S'omet u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article inicial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’ha d’accedir al nom per mitjà de l’artic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els termes que indiquen constitució 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societat comercial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(abreviatures com: S.A, Ltd.), tipus de societat, un terme que indica que l’entitat corporativa pertany a l’Estat,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ón una part integrant del nom o són necessaris per aclarir que es tracta del nom d’una entitat corporativa (RDA 11.2.2.10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del nom d'un congré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, etc., les indicacions del número, l’any o els anys de convocatòria, etc. (RDA 11.2.2.11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(Es donen com addició, però no en el nom del congré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92DF-6C13-4D42-A9C5-63BCF5C3737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4000" y="155736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s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Angeles Philharmonic Orches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Compañía Internacional de Ma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ñía Internacional de Mapas S.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Films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Incorpor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th 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A011-B894-41C0-BDCD-2CE9DF6DD0A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subordinades i relacion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des subordinadament (RDA 11.2.2.1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divisió directa o indirecta (RDA 11.2.2.1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àrrecs governamentals, cossos legislatius, tribunals, forces armades, ambaixades, consolats, delegacions en organitzacions internacionals i intergovernamentals (RDA 11.2.2.18- 11.2.2.2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d’entitats i de càrrecs religiosos (RDA 11.2.2.25 -11.2.2.29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8112-F892-4599-B24B-85D301E3C9D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Lloc associat amb l’entitat (RDA 1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nom d’un lloc associat amb l’entitat corporativa si cal distingir un punt d’accés autoritzat d’un alt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ot ser un país, estat, província o localita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Xil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Perú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s'aplica l'apèndix B.11, els estats, províncies, etc. no s'abreug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10 $a / opcionalment + 3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722E-BC4A-4FB4-B439-CDB274A112C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ata associada amb l’entitat (RDA 11.4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036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fegiu una data o dates associades a l'entitat, si cal per distingi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punt d'accés d'un altre,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el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o la institució associada no estan disponib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77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89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04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CD7A-5E7A-4968-A6F8-24614661C9E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stitució associada (RDA 1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nom d'una institució associ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de la institució s’associa normalment amb el nom de l’entitat corporativa. Preferiu aquesta nom en lloc del nom de la local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Instituto de Ecología y Sistemática (</a:t>
            </a:r>
            <a:r>
              <a:rPr b="1" lang="es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Academia de Ciencias de Cuba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7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A90E-8A97-4A20-99B7-44258FC4D17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'entitat corporativa (RDA 11.7.1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terme que designi el tipus d’entitat corporativ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nom que no transmet la idea d’una entitat corporativ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afegeix un terme en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català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Johann Traeg</a:t>
            </a:r>
            <a:r>
              <a:rPr b="0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Firm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06C6-ECDD-45A6-8FEE-32EA133514B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jurisdicció (RDA 11.7.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tipus de jurisdicció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i és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ecessari per distingir un punt d'accés d'un altre. Afegiu el terme al nom d’un govern que no sigui el d’una ciutat o un po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omt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Duc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Regn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CEFB-96E3-4A89-BB4F-6E09118FCDD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Elements identificadors addicio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964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s elements identificadors addicionals són ELEMENTS BÀSICS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an s'han d'enregistrar per distingir una persona, família o entitat corporativa d'una alt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RDA dóna opcions per a enregistrar-los: com a elements separats, com a parts del punt d’accés, o de totes dues maneres (RDA 0.6.7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Política a segui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empre s'han d'enregistrar com a addicions als punts d'accés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si cal diferenciar-los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És opcional enregistrar-los com a elements separats en els registres d'autorit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DE80-1820-4423-BA9A-6387FC47379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ltra designació associada amb l’entitat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7.1.6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elements d’</a:t>
            </a: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11.13.1.2–11.13.1.6 no és suficient o apropiat per distingir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tre els punts d’accés autoritzats de dues o més entitats, incloeu-hi una designació adequa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0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8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3579-F338-42EE-BD98-A583257AF60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engua de l’entitat corporativa (RDA 11.8)</a:t>
            </a:r>
            <a:r>
              <a:rPr b="0" i="1" lang="ca-ES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lengua que usa una entitat corporativa en les seves comunicac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s prefereixen el terme i el codi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A263-CADB-4A82-8EA6-9F39F91E2F1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’entitat corporativa (RDA 11.9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a seu central o les oficines d’una entitat corporativa, o una adreça de correu electrònic o d’internet de l’entit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bustia@bnc.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orreu electrònic de la 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0D2C-955E-434B-A0A5-4E1DAC7EB3C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mp d'activitat (RDA 11.10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 camp d’activitat al qual es dedica una entitat corporativa i/o l’àrea de competència, de responsabilitat, de jurisdicció, etc., de l’entit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s prefereix un vocabulari controlat, p. ex.: LEM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rt mod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'activitat de la Fundació Suño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5210-5B61-4BA0-B0E3-3EC909D973D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Història corporativa (RDA 11.1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Informació històrica sobre l’entitat corporativ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La nota ha de ser concisa però complet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a Salem Female Academy es va fundar originalment el 1772 i va ser constituïda com a Female Academy and College el 1866. El 1907 canvia el nom a Salem Academy and College, i el 1912 la institució es divideix en Salem College i Salem Acade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D5E3-5D7A-4775-B650-2CBE52021A6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pt-BR" sz="2900" spc="-1" strike="noStrike">
                <a:solidFill>
                  <a:srgbClr val="000000"/>
                </a:solidFill>
                <a:latin typeface="Calibri"/>
              </a:rPr>
              <a:t> Número, data i lloc d’un congrés, etc.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13.1.8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fegiu els elements següents al nom d’un congrés, etc., si s’apliquen i es poden determinar fàcilment. Incloeu-los en l’ordre següent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) el número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b) la data del congrés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) el lloc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Australian Bioethics Association.$bNational Conference$n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6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:$d1998 :$cHobart, Tasmàni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0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1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1X $n $d $c / opcionalment + 046 +37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7595-C794-4888-B41A-77B41CDE397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.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964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, el nom d'un congrés, etc. no necessita tenir una paraula específica que indiqui que és un congrés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concreció a 21.1B1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Pot ser que el punt d'accés autoritzat no doni la idea d'entitat corporativa i sigui necessari afegir una addici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iencia y Tecnología 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ngré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no distingeix entre congressos, exposicion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 diferència d’AACR2 no s’omet del nom la periodicitat, però sí s’ometen l’any o els anys de convocatò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nnua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Symposium on Sea Turtle Biology and Conserv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xpo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d(1992 :$cSevilla, Andalus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'9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4ED8-D155-4CEA-97CC-6345967F038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 s'afegeix el lloc del congrés, tot i que formi part del n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Salzburger Festspiele$d(2010 : 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z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Àustri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es sessions d’un congrés, etc., s’han celebrat en dues o més localitzacions, s’hi afegeix cada un dels noms de lloc, separats per punt i coma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regla de tr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Danish-Swedish Analysis Seminar $d(1995 :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penhaguen, Dinamarca; Lund, Suècia; París, Franç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’enregistra "En línia" com a lloc en el cas d’un congrés que es celebra en lí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E5ED-3322-4031-A1A8-9C7B41A484D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dentificació dels llocs (RDA 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96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ls noms de llocs s’usen habitualment de les maneres segü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 noms de governs (RDA 11.2.2.5.4) i de comunitats que no són gov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títols d’obres (RDA 6.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’entitats corporatives per diferenciar entre entitats amb el mateix nom (RDA 11.13.1.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e congressos (RDA 11.13.1.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ons al capítol 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: Per determinar la </a:t>
            </a:r>
            <a:r>
              <a:rPr b="0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form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, per ordre de preferència: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Gran enciclopèdi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Atles universal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Nomenclàtor oficial de toponímia major de Cataluny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No apliqueu l'apèndix B.11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Noms d’alguns països, estats, províncies, territoris, etc.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RSFSR, UR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AAD0-5F5D-4DD2-9B65-DFE5BE5D22D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48FC-C5B5-4239-8E78-FC6D865EA4D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erminolo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individu o una identitat establerta per un individu (ja sigui sol o en col·laboració amb un o més individus)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a paraula, un caràcter o a un grup de paraules i/o de caràcters pel qual es coneix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a persona, una família o una entitat corporativ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 nom o una forma de nom triat per identificar una persona, una família o una entitat corporativa"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ase per al punt d'accés autoritza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Variant de 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nom o una forma de nom pel qual es coneix una persona, una família o una entitat corporativa i que difereix del nom o de la forma de nom triat com a nom preferit d’aquesta persona, família o entitat corpor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7B2F-468C-4FA5-B005-49C3A339216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ls noms (RDA 8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Majúscule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úmeros expressats com a xifres o com a paraule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general, en la forma en què figuren a la font d’informaci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ccents i altres signes diacrític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afegiu-los si és segur que són part integrant d’un nom.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Guionet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retingueu un guionet entre els noms de pila si la persona fa servir el guion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spaiament de les inicials i els acrònim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ersones: deixeu un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titats corporatives: no deixeu cap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breviacions: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Apliqueu les instruccions de l’apèndix B.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4C47-611E-4BFB-B3B6-97FEA451B80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unts d'accés autoritzats (RDA 8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Utilitzeu el nom preferit com a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dues o més entitats tenen noms idèntics o similars, incloeu un o més elements identificadors addicion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sobre com construir el punt d'accés autoritzat es troben al final dels capítols 9, 10, 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DE4F-CE9A-4C76-9F16-9B54DDBA603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9T17:32:27Z</dcterms:created>
  <dc:creator>Biblioteca de Catalunya</dc:creator>
  <dc:description/>
  <dc:language>en-US</dc:language>
  <cp:lastModifiedBy>vilsnb</cp:lastModifiedBy>
  <dcterms:modified xsi:type="dcterms:W3CDTF">2017-04-21T07:58:03Z</dcterms:modified>
  <cp:revision>326</cp:revision>
  <dc:subject/>
  <dc:title>Diapositiva 1</dc:title>
</cp:coreProperties>
</file>