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A36A-4375-4545-93A7-1718EC26186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D3C9-10EE-42A0-96E1-14813449414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A4B5-FDD8-43EE-9304-4A2A0A7A82C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B3FB-56E4-49F5-8EB8-1BA8DE7276E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2486-2F41-4C9A-A28F-0F372DD0CE7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4B34-3C00-448E-BD2D-F4C9230E813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E2B3-8D4A-409C-9AC5-10B3452F076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DC54-2550-48EB-8CE1-D1143431689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47F0-D3E6-4A4C-83A0-122B5330B6A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82B1-EC61-4099-9790-06E7AB128D3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C466-867A-4320-8270-FE019695C44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8673-4F66-492C-8EDE-282A3649663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6342-D8AE-4EAF-A46C-60A601F87B3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DC00-F60B-4CE2-8A6D-EEFB00D621C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1D26-72D4-4AD0-B545-266EA739D7B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2B78-CBFB-45C0-9E65-69603F261F6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F684-C7D9-44FC-92AF-17C6A65028B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2B50-6E44-4B8F-8CF6-3569886352C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BC70-DB37-4C3C-A3B5-53BA4EC7AF1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5D13-EDB7-4624-848B-1C53EB7F816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6F60-66D0-4CB0-A9FF-DC5B1A94447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5099-6E64-408D-986F-07C1A6EC95E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18FE-E85B-4559-9A87-25694700938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7F31-1D02-401C-B956-6360978EE17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FF1F-E151-4A0A-BB6B-E057D182429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CADA-D2E3-490C-AD30-C566FDADDEA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2636-7EDD-464D-9AB7-16478D391B5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68C6-B52D-454F-97C4-60EA94E13EB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6151-FC10-447F-BAAD-29B5430BF77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797B-265F-4BAC-8CA4-6093308FFC4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2B25-3CF5-4515-855F-2A019952F99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B664-48CA-450D-9039-7A70C425C35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A145-23AE-4643-928D-1F9E489E591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0636-AC33-4B34-BE77-B44B0AC8810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2A40-4FD7-4DDE-B213-50E09A70547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A775-0F95-41AA-BB71-88CE820EF2F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E00C-EAF3-4AEC-8373-CF9A6217C98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DC94-2235-44E7-8082-2D0D4627989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498C-C690-40F5-BD9F-53A47D86DE2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3BBB-1C76-47CD-8EE2-3FFE25DE613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F566-73F7-4B46-8DB8-FD0559BCC08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7AF5-D81D-4265-BB24-648D3ECF970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9394-0473-456D-BAFB-BB413F82238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64DE-E3F8-400B-AB2A-AB1757D8AEC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0F3E-0312-4911-A52E-B1735716AEC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9CD7-713D-446F-8102-A222FAC9CED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9217-4CBF-4B39-AFDB-6BCF36E6992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EA1A-1FF2-412F-AFB4-2293FAC32ED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30EF-0933-423C-9182-3CCEA2A0422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EE4D-5522-4727-91FB-2352C7739E4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7B5D-B4D3-4E4F-9BC2-3C10B4A2457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4D90-7228-4477-8D85-6E03ABFFA21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F137-90F5-4A07-8477-D7CF8539CA3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EFC2-8EE5-4308-880B-33E1DC63A89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F58D-EF5A-4330-BB9D-AE5D1CE13F5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F11C-0B04-44E0-8F1E-1AF877C2FF3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53EE-7056-478B-91FE-08C2980155A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4361-CF12-4B2F-A8C1-E20F9D72011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A735-BBDE-4B09-B0E8-2B08733DB70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B0A5-3978-4590-86DA-0D480213CDC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6539-B779-46C1-9F6A-51B0C580380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EF07-1630-4807-AB83-1B70BAB264D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225B-797B-43F0-9042-A77E688282A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305D-F82F-4133-AB0A-B70CEE6F5BF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AF34-2736-41F9-B814-9B7956AAEF2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F1CF-2096-4059-8892-235983CB632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mòdu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1ECA-61D0-48E8-8DF4-48B491F2E5A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8BD2-E20F-4512-BF0B-5E2217A4A0E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2C70-901A-4690-9306-FC738E0E6D5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CB9D-EF73-43C3-ABE4-44A3943E5DB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1706-38BC-4ADB-95EF-34B24533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EEA-25E5-4E38-B6D7-24F72FEF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00E4-C364-498B-8B59-8BD2DD646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34C-0B7B-4223-946A-8796A993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B59-7911-49F2-9D74-BE8F1BB5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50B-E9F2-4782-829C-ED31EC8E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409-986B-42A7-B3F2-A6E73DBF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59A0-E399-4078-810B-F8930140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D4A5-0192-45C0-A110-2D4741A0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787-F119-4D32-8499-E4D092BA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40F-70A0-4A14-B17B-0F30752B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5B5-6250-4632-988B-8B0D6E2F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5960-E7FD-474C-A5CF-EAA287814D69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17FA-7B53-45CF-93D1-6FACF165F31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www.bnc.cat/lenoti/" TargetMode="External"/><Relationship Id="rId3" Type="http://schemas.openxmlformats.org/officeDocument/2006/relationships/hyperlink" Target="http://www.bnc.cat/lenot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4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Persones, famílies i entitats corpo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1D55-0B7F-423F-BB71-8967DFFDE69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btingueu informació sobre els atributs per identificar de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er determinar el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nom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ferit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(en aquest ordre de preferènci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es fonts preferides d’informació (vegeu 2.2.2) en els recursos associats amb 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encions formal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e figuren 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recursos associats a 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 font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incloses les fonts de referènci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69BD-421A-43C0-A12C-1B468BE0F1F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pers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F419-A6B6-4DF9-B5A9-AFF6415D3EB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opòsit i abast (RDA 9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mb RDA quan es parla d'una "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ersona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, es fa referència a un individu, el qual pot ser un ésser humà real, o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cl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mencionades en les sagrades escriptures o en els llibres apòcrif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fictícies i llegendà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titats reals no hu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F9B1-D491-4D21-ADDC-DDB77F40054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 partir de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l'1 de desembre de 201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per a persones de les sagrades escriptures o dels llibres apòcrifs, persones fictícies i llegendàries, entitats reals no humanes, animals individuals amb nom propi, etc. seran establerts només com autoritats de nom utilitzant R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creats amb RDA seran vàlids com a punts d'accés de matè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ins que no s'hagi creat el registre de nom, utilitzeu el registre de la LEMAC existent en els punts d'accés de matè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C553-B5A7-465B-A4EC-6B92385853D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reals no hum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539640" y="1052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eguiu les mateixes instruccions d'RDA com ho faríeu per a qualsevol altra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971640" y="2133720"/>
            <a:ext cx="7345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130 0# $aFree Willy (Pel·lícula cinematogràf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Free Willy /$cWarner Bros. in associ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700 0#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$aKeiko,$daproximadament 1976-2003,$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1 CuadroTexto"/>
          <p:cNvSpPr/>
          <p:nvPr/>
        </p:nvSpPr>
        <p:spPr>
          <a:xfrm>
            <a:off x="468360" y="3500280"/>
            <a:ext cx="828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afegeix una addició al punt d'accés autoritzat quan cal distingir entre dos punts d'accés amb el mateix nom o quan aquest no dóna idea de "person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in-Tin-Tin (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.: Obama,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nom del gos inclou un cognom i un nom de p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611280" y="58770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Tanmateix, es pot afegir l'addició sempre que es consideri important per a la identificació.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9.19.1.2.6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22C0-AE9D-4181-9483-096D070A63E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 (RDA 9.2.2)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268280"/>
            <a:ext cx="88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Trieu en general el nom pel qual se la coneix normal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 diferència d'AACR2, les paraules que indiquen una relació són part del nom preferit (ex.: Jr, III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i="1" lang="ca-E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.: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Abbott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ud,$c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J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ls termes de tractament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hi inclouen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és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cognom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eus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Dr</a:t>
            </a:r>
            <a:r>
              <a:rPr b="1" lang="ca-ES" sz="26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a persona casada és identificada només pel nom de la parella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Davi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axwell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Mrs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nom de pila precedit per un terme de tractament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am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ousin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6D38-4828-4614-ACDD-BD0903A66BE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ompletes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 Si les formes del nom d’una persona varien en completesa, trieu com a nom preferit la form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trobada més habitualment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allas, Mari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3-19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de naixement "Maria Anna Cecilia Sofia Kalogeropoulos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Valera, Juan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24-19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a forma més habitual és "Juan Valera". La forma ocasional "Juan Valera y Alcalá Galiano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5AE6-5567-4C0B-BD17-FE8488C1E8B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lengua: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correspon a la llengua de la majoria dels recursos associa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Excepc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Grec o llatí enfront d’altres formes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figura més habitualment en les fonts de referència. Per als noms romans apliqueu l'apèndix F.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nl-NL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èsar, Gai Juli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00 aC-44 a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Forma establerta en català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el primer element del nom preferit d’una persona consisteix en un nom de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pila i/o una paraula o una frase associad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amb la persona, </a:t>
            </a:r>
            <a:r>
              <a:rPr b="0" lang="ca-ES" sz="2200" spc="-1" strike="noStrike" u="sng">
                <a:solidFill>
                  <a:srgbClr val="000000"/>
                </a:solidFill>
                <a:uFillTx/>
                <a:latin typeface="Calibri"/>
              </a:rPr>
              <a:t>trieu la forma ben establerta en catal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, si n'hi ha u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fr-FR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rancesc,$cd'Assís,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ant,$d 1182-122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95A5-C5A4-4C60-B20B-867BA5E6F53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454680" indent="-15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scriptura no preferida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ha d'utilitzar la transcripció al català de l'IEC (àrab, rus, hebreu), ISO 843 (grec), Pinyin (xinès), Hepburn (japonè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59 Grupo"/>
          <p:cNvGrpSpPr/>
          <p:nvPr/>
        </p:nvGrpSpPr>
        <p:grpSpPr>
          <a:xfrm>
            <a:off x="1232640" y="2781360"/>
            <a:ext cx="7227000" cy="3166920"/>
            <a:chOff x="1232640" y="2781360"/>
            <a:chExt cx="7227000" cy="3166920"/>
          </a:xfrm>
        </p:grpSpPr>
        <p:sp>
          <p:nvSpPr>
            <p:cNvPr id="107" name="5 Rectángulo"/>
            <p:cNvSpPr/>
            <p:nvPr/>
          </p:nvSpPr>
          <p:spPr>
            <a:xfrm>
              <a:off x="1232640" y="278136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.: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Чайк</a:t>
              </a:r>
              <a:r>
                <a:rPr b="0" lang="ca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вский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Пётр Ильи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9 Imagen" descr=""/>
            <p:cNvPicPr/>
            <p:nvPr/>
          </p:nvPicPr>
          <p:blipFill>
            <a:blip r:embed="rId1"/>
            <a:srcRect l="33333" t="61417" r="0" b="31767"/>
            <a:stretch/>
          </p:blipFill>
          <p:spPr>
            <a:xfrm>
              <a:off x="1691280" y="3141360"/>
              <a:ext cx="3600720" cy="27612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pic>
          <p:nvPicPr>
            <p:cNvPr id="109" name="10 Imagen" descr=""/>
            <p:cNvPicPr/>
            <p:nvPr/>
          </p:nvPicPr>
          <p:blipFill>
            <a:blip r:embed="rId2"/>
            <a:srcRect l="34669" t="30827" r="0" b="61412"/>
            <a:stretch/>
          </p:blipFill>
          <p:spPr>
            <a:xfrm>
              <a:off x="1691280" y="3501360"/>
              <a:ext cx="3600720" cy="28800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sp>
          <p:nvSpPr>
            <p:cNvPr id="110" name="11 Elipse"/>
            <p:cNvSpPr/>
            <p:nvPr/>
          </p:nvSpPr>
          <p:spPr>
            <a:xfrm>
              <a:off x="1692000" y="2781360"/>
              <a:ext cx="28728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2 Elipse"/>
            <p:cNvSpPr/>
            <p:nvPr/>
          </p:nvSpPr>
          <p:spPr>
            <a:xfrm>
              <a:off x="2771640" y="278136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3 Cerrar llave"/>
            <p:cNvSpPr/>
            <p:nvPr/>
          </p:nvSpPr>
          <p:spPr>
            <a:xfrm>
              <a:off x="5508360" y="3286080"/>
              <a:ext cx="215640" cy="431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5400 h 431640"/>
                <a:gd name="textAreaBottom" fmla="*/ 4262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50"/>
                    <a:pt x="10800" y="900"/>
                  </a:cubicBezTo>
                  <a:lnTo>
                    <a:pt x="10800" y="9900"/>
                  </a:lnTo>
                  <a:cubicBezTo>
                    <a:pt x="10800" y="10350"/>
                    <a:pt x="16200" y="10800"/>
                    <a:pt x="21600" y="10800"/>
                  </a:cubicBezTo>
                  <a:cubicBezTo>
                    <a:pt x="16200" y="10800"/>
                    <a:pt x="10800" y="11250"/>
                    <a:pt x="10800" y="11700"/>
                  </a:cubicBezTo>
                  <a:lnTo>
                    <a:pt x="10800" y="20700"/>
                  </a:lnTo>
                  <a:cubicBezTo>
                    <a:pt x="10800" y="2115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4 CuadroTexto"/>
            <p:cNvSpPr/>
            <p:nvPr/>
          </p:nvSpPr>
          <p:spPr>
            <a:xfrm>
              <a:off x="5796000" y="32853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IEC transcripci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22 Imagen" descr=""/>
            <p:cNvPicPr/>
            <p:nvPr/>
          </p:nvPicPr>
          <p:blipFill>
            <a:blip r:embed="rId3"/>
            <a:srcRect l="0" t="34660" r="47082" b="61353"/>
            <a:stretch/>
          </p:blipFill>
          <p:spPr>
            <a:xfrm>
              <a:off x="1619280" y="5517360"/>
              <a:ext cx="4753080" cy="4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23 Imagen" descr=""/>
            <p:cNvPicPr/>
            <p:nvPr/>
          </p:nvPicPr>
          <p:blipFill>
            <a:blip r:embed="rId4"/>
            <a:srcRect l="0" t="55389" r="39464" b="40330"/>
            <a:stretch/>
          </p:blipFill>
          <p:spPr>
            <a:xfrm>
              <a:off x="1763280" y="4941360"/>
              <a:ext cx="547308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26 Cerrar llave"/>
            <p:cNvSpPr/>
            <p:nvPr/>
          </p:nvSpPr>
          <p:spPr>
            <a:xfrm>
              <a:off x="7307280" y="4942080"/>
              <a:ext cx="144360" cy="792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792000"/>
                <a:gd name="textAreaBottom" fmla="*/ 7884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4"/>
                    <a:pt x="10800" y="328"/>
                  </a:cubicBezTo>
                  <a:lnTo>
                    <a:pt x="10800" y="10472"/>
                  </a:lnTo>
                  <a:cubicBezTo>
                    <a:pt x="10800" y="10636"/>
                    <a:pt x="16200" y="10800"/>
                    <a:pt x="21600" y="10800"/>
                  </a:cubicBezTo>
                  <a:cubicBezTo>
                    <a:pt x="16200" y="10800"/>
                    <a:pt x="10800" y="10964"/>
                    <a:pt x="10800" y="11128"/>
                  </a:cubicBezTo>
                  <a:lnTo>
                    <a:pt x="10800" y="21272"/>
                  </a:lnTo>
                  <a:cubicBezTo>
                    <a:pt x="10800" y="21436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CuadroTexto"/>
            <p:cNvSpPr/>
            <p:nvPr/>
          </p:nvSpPr>
          <p:spPr>
            <a:xfrm>
              <a:off x="7523640" y="5157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VIA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22 Imagen" descr=""/>
            <p:cNvPicPr/>
            <p:nvPr/>
          </p:nvPicPr>
          <p:blipFill>
            <a:blip r:embed="rId5"/>
            <a:srcRect l="0" t="45177" r="48503" b="34355"/>
            <a:stretch/>
          </p:blipFill>
          <p:spPr>
            <a:xfrm>
              <a:off x="1690200" y="3860640"/>
              <a:ext cx="5689800" cy="936360"/>
            </a:xfrm>
            <a:prstGeom prst="rect">
              <a:avLst/>
            </a:prstGeom>
            <a:ln w="9360">
              <a:solidFill>
                <a:srgbClr val="376092"/>
              </a:solidFill>
              <a:miter/>
            </a:ln>
          </p:spPr>
        </p:pic>
        <p:sp>
          <p:nvSpPr>
            <p:cNvPr id="119" name="7 Elipse"/>
            <p:cNvSpPr/>
            <p:nvPr/>
          </p:nvSpPr>
          <p:spPr>
            <a:xfrm>
              <a:off x="2050920" y="501336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21 Elipse"/>
            <p:cNvSpPr/>
            <p:nvPr/>
          </p:nvSpPr>
          <p:spPr>
            <a:xfrm>
              <a:off x="2842920" y="501336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8 Elipse"/>
            <p:cNvSpPr/>
            <p:nvPr/>
          </p:nvSpPr>
          <p:spPr>
            <a:xfrm>
              <a:off x="2771640" y="558972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0 Elipse"/>
            <p:cNvSpPr/>
            <p:nvPr/>
          </p:nvSpPr>
          <p:spPr>
            <a:xfrm>
              <a:off x="1979280" y="551808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54 Conector recto"/>
            <p:cNvSpPr/>
            <p:nvPr/>
          </p:nvSpPr>
          <p:spPr>
            <a:xfrm>
              <a:off x="1331640" y="3213000"/>
              <a:ext cx="0" cy="20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56 Conector recto de flecha"/>
          <p:cNvCxnSpPr/>
          <p:nvPr/>
        </p:nvCxnSpPr>
        <p:spPr>
          <a:xfrm>
            <a:off x="1332000" y="5229000"/>
            <a:ext cx="57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58 CuadroTexto"/>
          <p:cNvSpPr/>
          <p:nvPr/>
        </p:nvSpPr>
        <p:spPr>
          <a:xfrm>
            <a:off x="250920" y="614988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i no es pot donar la forma transcrita al català, provisionalment s'accepta la forma anglesa de la L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23B4-8C1D-41D5-B054-2318687E211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 Diferents noms per a la mateixa persona 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(RDA 9.2.2.6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de manera clara més habitualment. Excep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anvi de nom (RDA 9.2.2.7): Trieu el nom més rec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Onassis, Jacqueline Kennedy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9-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últiples identitats (RDA 9.2.2.8): Trieu el nom associat amb cada identit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identitats separad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Dodgson, Charles Lutwidge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real utilitzat en obres de matemàt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Carroll, Lewis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s: pseudònim utilitzat en obres de literatu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'ha de respectar totes les identitats separades d'una persona. No hi ha la limitació en el temps ni en el nombre de punts d'accés autoritza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F86F-2F85-4BCE-825A-564153E92D8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6093-0E4A-4F8C-B8F9-38B6F03405D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tegories de noms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2.2.9 - RDA 9.2.2.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1988640"/>
            <a:ext cx="7427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cogn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compos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amb prefix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inclouen un títol nobiliar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inici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una f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9CD1-BD0A-4E5E-B15B-8D1CEB84CB8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300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pmany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aria Aurèlia,$d1918-19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G.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ig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bri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Nelson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p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lverdú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$q(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o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Fàbrega Pallarès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Pau </a:t>
            </a:r>
            <a:r>
              <a:rPr b="1" lang="fr-FR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e la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13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Or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Eugeni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'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81-19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L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Roca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France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hn,$d1942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mericà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82520" indent="-10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. C.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q(Cornelis Constantijn),$d1910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eerlandè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vat-Papasseit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an,$d1894-19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evot de M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ldes de Montbui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arles Sanllehy i Girona,$cmarquès de,$d1882-197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</a:t>
            </a:r>
            <a:r>
              <a:rPr b="1" lang="it-IT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ragonetti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Giacinto,$cmarchese,$d1738-18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1FDE-24A0-4D5E-928F-DD2838CA94C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naixement i m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Obtingueu les dates de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9.3.2.3 i 9.3.3.3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utilitzen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Calibri"/>
              </a:rPr>
              <a:t>guions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n lloc d'abreviatures "n." i "m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indica una data probable mitjançant l'addició d'un signe d'interrogació "?"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només pot ser aproximat s'hi afegeix "aproximadament". No es pot utilitzar "ca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és incert, s'enregistren els dos anys possibles sen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96FD-C02D-461F-9C22-5C52CED3E68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període d'activit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més quan és necessari per distingir una persona d'una alt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Una data o rang de dates indicatiu del període en què una persona ha estat activa en el seu camp principal d’activit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9.3.4.3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tilitzeu "actiu/activa" i "segle" en lloc d'abreviatures "fl." i "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l terme "actiu/activa" ha de constar abans del primer període d'activitat (ex.: "activa segle XII"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: 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BACE-481C-4959-9FDA-CC31263F7B1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84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524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900, gener 10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6 o</a:t>
            </a:r>
            <a:r>
              <a:rPr b="1" i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189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25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-18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hnson, Carl F.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1893-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aca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actuarius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I-segle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B68A-BAF6-4937-9101-4D7F9222C54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de la persona (RDA 9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n és una paraula o una frase indicativa de reialesa, de noblesa o de rang o càrrec eclesiàstic o un terme de tractament d’una persona de vocació religi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aElisabet$bII,$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reina de la Gran Bretany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,$d1926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lsevol altre terme indicatiu de rang, de distinció o de càrrec és un element bàsic quan cal distingir una persona d’una altra persona amb el mateix n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s autors amb el mateix nom prefer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,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Rever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8C9A-AB2E-4538-B6F9-0675C63242A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orma més completa del nom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(RDA 9.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cal distingir una persona d’una altra persona amb el mateix no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forma desenvolupada del nom és la forma completa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'un nom representat només per una inicial o l'abreviatura de la forma escolli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ues autores amb el mateix nom prefe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izabe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l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el nom no inclòs en la forma tria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Carey-Hobson,$cMrs.$q(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Mary Ann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(S'aplica l'addició opcional d'afegir la forma més completa, </a:t>
            </a:r>
            <a:r>
              <a:rPr b="1" i="1" lang="ca-ES" sz="1900" spc="-1" strike="noStrike">
                <a:solidFill>
                  <a:srgbClr val="000000"/>
                </a:solidFill>
                <a:latin typeface="Calibri"/>
              </a:rPr>
              <a:t>Concreció 19.1.4</a:t>
            </a: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00 $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00 $q / opcionalment + 37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BAE6-947D-4BC9-B192-730685FDEAD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a designació associada amb la persona (RDA 9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un sant cristià o d'un esperi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Teresa de Jesús,$c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nt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515-15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Presley, Elvis,$d1935-1977$c(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sperit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altres persones, una altra designació associada amb la persona és un element bàsic quan cal distingir una persona d’una altra persona amb el mateix n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ues autores amb el mateix nom prefe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$c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Personatge de ficció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9C3D-9134-43E6-9728-7263A4710B5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Sexe (RDA 9.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El gènere amb el qual s’identifica una perso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vocabulari R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fem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mascul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desconeg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termes de la llista és apropiat se'n pot proporcionar un alt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E659-F3DB-4F54-B670-ABFAADDD237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Llocs associat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637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reugeu els noms dels països, els estats, les províncies, els territoris, etc., tal com s’indica a l’apèndix B (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B.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hicago, Illinois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icago, Ill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arcelona,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Rectángulo"/>
          <p:cNvSpPr/>
          <p:nvPr/>
        </p:nvSpPr>
        <p:spPr>
          <a:xfrm>
            <a:off x="2843280" y="1125360"/>
            <a:ext cx="367344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naixement (RDA 9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defunció (RDA 9.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País associat (RDA 9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residència (RDA 9.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27F5-CF70-49EB-9A3B-426EE7E2328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On són les instrucc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per a la identificació de les persones, famílies i entitats corporatives són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8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9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pers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0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1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entitats corpor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B5D9-FDF9-46AD-AC6F-E0D34E06353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a persona (RDA 9.12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’adreça del lloc de residència o de treball d’una persona, l’adreça de l’empresa on treballa i/o una adreça de correu electrònic o d’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ox 1216, Barrière, B.C., Canada V0E 1E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timmins@doc.govt.n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B027-98B7-482D-9344-6966FB48810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filiació (RDA 9.1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grup amb el qual una persona està o ha estat afiliada per qüestions de feina, en qualitat de membre, per afinitat cultura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'enregistra el nom preferit del gr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Istituto nazionale di economia agr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afiliació de Carla Abita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E9DE-71DA-4817-8A03-A8D3358E990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persona (RDA 9.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lengua que usa una persona quan escriu per publicar, per fer radiodifusió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en el terme i el codi M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lengües usades per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tonio Caparró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DEFA-4129-405A-BEB5-4321978BAA7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Camp d’activitat de la person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camp d’acció, una àrea d’experiència, etc., al qual es dedica o s’ha dedicat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 un terme controlat, p. ex.: LEMA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Econ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e treball o especialització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bià Estapé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7388-1083-49F4-9CD0-85F51A58712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Professió o ocupació (RDA 9.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ÉS UN ELEMENT BÀSIC 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n el cas d’una persona el nom de la qual consisteix en una frase o una apel·lació que no dóna la idea d’una pers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La professió o l’ocupació és un element bàsic quan cal distingir una persona d’una altra amb el mateix nom i no es disposa de dat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s prefereix un terme controlat, p. ex.: LEMAC en sing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os autor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ues autore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gènere ha de concord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autoritat: X00 $c / opcionalment + 3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CF38-FC86-4E12-8015-6C8F35D4C47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biogràfica (RDA 9. 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bast = Informació sobre la vida o la història d’una perso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lice Ann Munro(nascuda Laidlaw) és una escriptora canadenca de narracions curte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 Ha guanyat nombrosos premis per la seva obra, inclosos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l Premi Nobel, el Man Broker International Prize i el Governor General’s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Literary Award de Canadà. Va néixer el 10 de juliol de 1931 a Wingham, Onta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2A2E-A8F3-40C2-A211-1F703185A95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2276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famí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Rectángulo"/>
          <p:cNvSpPr/>
          <p:nvPr/>
        </p:nvSpPr>
        <p:spPr>
          <a:xfrm>
            <a:off x="971640" y="4292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</a:rPr>
              <a:t>Amb les AACR2, els noms de família no podien constituir un punt d’accés per a la catalogació descriptiva. RDA permet utilitzar el noms de família com a punt d’accés de la catalogació descriptiva si a la família se li atribueix la creació d’una o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C723-8EED-490F-9FE1-0A40754CFB8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(RDA 10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general trieu el nom pel qual se la coneix habitual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l cognom utilitzat pels membres de la famíl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a casa reial o d'una dinast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 cla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consisteix en diverses parts, enregistreu com a primer element aquella part del nom sota la qual la família seria normalment ordenada en les llistes alfabètiques autoritatives en la seva llengua, el seu país de residència o el seu país d’activ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BC72-5211-4877-AE5F-FB4A58CFC0A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ria del nom pref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Formes diferents del mateix nom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al considerar: completesa, llengua, escriptura no preferida, ortograf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Noms diferents de la mateixa família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més habitual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eferència: recursos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ssociats amb la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amíl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 de referè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1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de nom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anterior com a nom preferit per usar-lo amb els recursos associats amb el nom an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osterior com a nom preferit per usar-lo amb els recursos associats amb el nom pos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54C1-E158-4D91-AEEA-7D988F2068B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Tipus de família (RDA 10.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a categorització o un descriptor genèric del tipus de famíl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tipus de família entre parèntesis, a continuació del nom prefer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ranson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amíli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Donald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lan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orbó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asa reial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(primer indicador 3)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X00 (primer indicador 3) $a / opcionalment + 3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02F6-0792-4A51-BD1A-09A38A19168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unts d'accés i catàlegs de referè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ANTIC (Catàleg d'autoritats de noms i títols de Cataluny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és un punt d'accés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u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ccepteu la forma trobada:</a:t>
            </a:r>
            <a:r>
              <a:rPr b="0" lang="ca-E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internacion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ibrary of Congress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uthorities.loc.g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català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de Catalunya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nc.cat/lenoti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deqüeu la forma trobada a RD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estat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talogo.bne.es/uhtbin/authoritybrowse.c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no es troba: S'estableix el punt d'accés autoritzat d'acord amb RDA i les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Concrecions a RD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3F31-36B6-4E2B-B18E-D6028B1A386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Data associada amb la famíli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10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Data significativa associada amb la història d’una famí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00 3# $aPahlavī (Dinastia 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925-197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Ciurianni (Família 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179-142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X00 $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1836-7BC9-44BA-AEDA-02F0BB22DD2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oc associat amb la família (RDA 10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lloc on la família resideix o ha residit o amb el qual té algun tipus de relaci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Filipines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Xina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(S'aplica l'addició opcional d'afegir un lloc associat si ajuda a identificar la família, </a:t>
            </a: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0.11.1.4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00 $c / opcionalment + 3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7B25-49FE-45CF-BE58-18FDD8EA8FC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6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Membre destacat de la família (RDA 10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individu ben conegut que és membre d’una famíl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 el nom en la forma usada en el punt d’accés autoritzat que representa la perso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$aMedici (Casa reial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edici, Lorenzo de', 1449–1492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S'aplica l'addició opcional d'afegir un membre destacat si ajuda a identificar la família,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10.11.1.5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7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g/ opcionalment + 3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0E1E-272B-490D-B01B-B1E23DDED6B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Ordre i puntuació (RDA 10.11.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Quan es construeix el punt d'accés autoritzat, s'afegeixen els atributs al nom de la família en aquest ord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de família (10.11.1.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ssociada 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associat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embre destacat de la 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inclouen les addicion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sol conjunt de parèntesis, separant cada addició amb "[espai]: [espai]" (apèndix E.1.2.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4B2E-8B83-4139-B725-E7E7AE80FBC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d'autorit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hereditari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7): MARC 3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8): MARC 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Històri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9): MARC 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9CA4-16E4-4DD2-B44C-72408632590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permet utilitzar el noms de família com a punt d’accés de la catalogació descriptiva si a la família se li atribueix la creació d’una obra, però no son vàlids com a matè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tracta les famílies específiques, és a dir, dins d'un temps i d'un lloc específic. La LEMAC contempla el nom de la família al llarg de la seva existència i es tracta d'acord amb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Genealogia i noms de família (CM-132)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el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 Manual de la LEM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2 Marcador de contenido"/>
          <p:cNvSpPr/>
          <p:nvPr/>
        </p:nvSpPr>
        <p:spPr>
          <a:xfrm>
            <a:off x="324000" y="4365720"/>
            <a:ext cx="849600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00 3#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(Família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, Narcís, 1819-1885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  <a:ea typeface="Courier New"/>
              </a:rPr>
              <a:t>)</a:t>
            </a:r>
            <a:r>
              <a:rPr b="1" lang="ca-ES" sz="20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e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0 10 $aCorrespondència.$kSelecc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 $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rrespondència familiar de Narcís Montur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600 37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(Família)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xEpistolaris$2lem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13BB-0B00-43F6-A288-2BD30D62899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entitats corpo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F6D0-56F3-4FBD-BE0E-EE3145050F7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Què és una entitat corporativ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Glossari</a:t>
            </a:r>
            <a:r>
              <a:rPr b="0" lang="ca-ES" sz="16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d'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o grup de persones i/o d’organitzacions que s’identifica amb un nom concret i que actua, o pot actuar, com una unitat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7EF9-B29F-417F-A2F2-5735FD2CE00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’entitat corporativa (RDA 11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Trieu el nom pel qual l’entitat corporativa s’identifica habitualm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més d'una forma,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vegeu RD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11.2.2.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 un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de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 (RDA 11.2.2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6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Es considera que no hi ha hagut un canvi de nom, qua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les diferències són menor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i no es té informació que confirmi que hi hagi hagut un veritable canvi de nom. Es consideren diferències menor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representació de les paraules (abreviatura, sigles o símbols, etc.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una preposició, article, etc.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puntuació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'addició, omissió, o la variació de la freqüència d'una paraula en un nom de cong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F780-23B5-4E34-9331-9C5CFAD2651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iferents formes (RDA 11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les formes variants apareixen a la font preferida, trieu (en aquest ordre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que es present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rmalment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del nom més habitua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na forma breu del nom (pot ser una sigla o un acròn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Llengu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té més d'una llengua oficial i una d'elles és el català, es tria la forma en català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 Alternativa.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el nom d'una entitat internacional figura anomenada formalment en les fonts principals d'informació dels recursos associats en català, o en obres de referència catalanes fia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s convencion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una entitat s’identifica sovint amb un nom convencional en les fonts de referència en la seva pròpia llengua, trieu aquest nom convencional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2301-B2F3-4290-8774-C3ABE656734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eríode de transi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ccepteu un punt d'accés autoritzat existent al CCUC, CANTIC o de la BC,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ncara que no estigui d'acord amb RDA. A partir de l’estiu de 2017 s'iniciarà el procés de canvi i revisió tant dels registres d'autoritat com dels bibliogràfics associ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400" spc="-1" strike="noStrike" u="sng">
                <a:solidFill>
                  <a:srgbClr val="000000"/>
                </a:solidFill>
                <a:uFillTx/>
                <a:latin typeface="Calibri"/>
              </a:rPr>
              <a:t>No creeu punts d'accés duplicats per adequar-los a RD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51DE-A005-43ED-8B8E-51E80DD3532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268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Institut Valencià d’Art Mod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ituto Valenciano de Arte Mod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'entitat té com a llengües oficials el català i el castellà</a:t>
            </a:r>
            <a:r>
              <a:rPr b="1" i="1" lang="ca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Amnistia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esty Intern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istía Inter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ntitat internacional, el català és llengua ofi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Museo del P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 Pintura y Escul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l P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Museo de Pinturas y Escultu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convencional, diferent del nom real o de l’ofi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374C-1EF6-4860-B41E-2FDE2425143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nvi de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2.2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el nom d'una entitat corporativa ha canviat (incloent canvis d'una llengua a una altr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anterior per als recursos associats amb el nom an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posterior per als recursos associats amb el nom 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L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relació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tre els noms anteriors i posteriors s'enregistra en els camps 5XX dels respectius registres d'autorit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BB8C-DDCC-47BF-9660-AF44E06FE16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es consideracion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8 Altern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S'omet u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article inicial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’ha d’accedir al nom per mitjà de l’artic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els termes que indiquen constitució 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societat comercial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(abreviatures com: S.A, Ltd.), tipus de societat, un terme que indica que l’entitat corporativa pertany a l’Estat,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ón una part integrant del nom o són necessaris per aclarir que es tracta del nom d’una entitat corporativa (RDA 11.2.2.1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del nom d'un congré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, etc., les indicacions del número, l’any o els anys de convocatòria, etc. (RDA 11.2.2.1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(Es donen com addició, però no en el nom del congré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BC91-41A7-4E6E-905C-21C98004DE4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557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s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Angeles Philharmonic Orches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Compañía Internacional de M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ñía Internacional de Mapas S.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Films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Incorpo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th 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D79D-1B14-4433-9CA7-57583CC985F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subordinades i relacion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des subordinadament (RDA 11.2.2.1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divisió directa o indirecta (RDA 11.2.2.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àrrecs governamentals, cossos legislatius, tribunals, forces armades, ambaixades, consolats, delegacions en organitzacions internacionals i intergovernamentals (RDA 11.2.2.18- 11.2.2.2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d’entitats i de càrrecs religiosos (RDA 11.2.2.25 -11.2.2.2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4460-639D-471B-B5F4-F14B7E91BD3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Lloc associat amb l’entitat (RDA 1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nom d’un lloc associat amb l’entitat corporativa si cal distingir un punt d’accés autoritzat d’un alt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ot ser un país, estat, província o localita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Xil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Perú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s'aplica l'apèndix B.11, els estats, províncies, etc. no s'abreu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10 $a / opcionalment + 3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C16B-AB3D-4CD1-9AB7-FB39AA55117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ata associada amb l’entitat (RDA 11.4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036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fegiu una data o dates associades a l'entitat, si cal per distingi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punt d'accés d'un altre,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el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o la institució associada no estan disponib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77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89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04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CC54-1E4D-47D0-8214-1708FA9F517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stitució associada (RDA 1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nom d'una institució associ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de la institució s’associa normalment amb el nom de l’entitat corporativa. Preferiu aquesta nom en lloc del nom de la local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Instituto de Ecología y Sistemática (</a:t>
            </a:r>
            <a:r>
              <a:rPr b="1" lang="es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Academia de Ciencias de Cuba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7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1DD6-656E-4655-B472-21FC72FE9C0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'entitat corporativa (RDA 11.7.1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terme que designi el tipus d’entitat corpor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nom que no transmet la idea d’una entitat corporativ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afegeix un terme en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català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Johann Traeg</a:t>
            </a:r>
            <a:r>
              <a:rPr b="0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Firm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78E0-D723-4413-8C79-F62CAB9EFD0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jurisdicció (RDA 11.7.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tipus de jurisdicció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i és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ecessari per distingir un punt d'accés d'un altre. Afegiu el terme al nom d’un govern que no sigui el d’una ciutat o un po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omt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Duc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Regn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7132-FDC3-4059-9A37-BDDABE5DFF8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Elements identificadors addic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s elements identificadors addicionals són ELEMENTS BÀSICS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an s'han d'enregistrar per distingir una persona, família o entitat corporativa d'una al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RDA dóna opcions per a enregistrar-los: com a elements separats, com a parts del punt d’accés, o de totes dues maneres (RDA 0.6.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Política a segu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empre s'han d'enregistrar com a addicions als punts d'accés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si cal diferenciar-los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És opcional enregistrar-los com a elements separats en els registres d'autorit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DC07-B619-48D6-9E92-7E748113232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ltra designació associada amb l’entitat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7.1.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elements d’</a:t>
            </a: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11.13.1.2–11.13.1.6 no és suficient o apropiat per distingir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tre els punts d’accés autoritzats de dues o més entitats, incloeu-hi una designació adequa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0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8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BEB8-4176-4434-9362-34971BA5F3E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engua de l’entitat corporativa (RDA 11.8)</a:t>
            </a:r>
            <a:r>
              <a:rPr b="0" i="1" lang="ca-ES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lengua que usa una entitat corporativa en les seves comunicac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s prefereixen el terme i el codi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9C12-7E11-46DB-918E-BB298AF208E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’entitat corporativa (RDA 11.9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a seu central o les oficines d’una entitat corporativa, o una adreça de correu electrònic o d’internet de l’entit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bustia@bnc.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orreu electrònic de la 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EA0E-D4D1-468A-86A8-D5B54899D9F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mp d'activitat (RDA 11.10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 camp d’activitat al qual es dedica una entitat corporativa i/o l’àrea de competència, de responsabilitat, de jurisdicció, etc., de l’entit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s prefereix un vocabulari controlat, p. ex.: LEM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rt 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'activitat de la Fundació Suño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47A5-01BE-42DA-9245-9C1CCC1A37A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Història corporativa (RDA 11.1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Informació històrica sobre l’entitat corpora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La nota ha de ser concisa però compl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a Salem Female Academy es va fundar originalment el 1772 i va ser constituïda com a Female Academy and College el 1866. El 1907 canvia el nom a Salem Academy and College, i el 1912 la institució es divideix en Salem College i Salem Acade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E69A-6FBD-4CB7-970E-7EEB102A0BA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pt-BR" sz="2900" spc="-1" strike="noStrike">
                <a:solidFill>
                  <a:srgbClr val="000000"/>
                </a:solidFill>
                <a:latin typeface="Calibri"/>
              </a:rPr>
              <a:t> Número, data i lloc d’un congrés, etc.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13.1.8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fegiu els elements següents al nom d’un congrés, etc., si s’apliquen i es poden determinar fàcilment. Incloeu-los en l’ordre següen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) el número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b) la data del congrés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) el lloc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Australian Bioethics Association.$bNational Conference$n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6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:$d1998 :$cHobart, Tasmàni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0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1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1X $n $d $c / opcionalment + 046 +3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6F35-A96D-46EF-8388-8C55FD97F57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.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, el nom d'un congrés, etc. no necessita tenir una paraula específica que indiqui que és un congrés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concreció a 21.1B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ot ser que el punt d'accés autoritzat no doni la idea d'entitat corporativa i sigui necessari afegir una addici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iencia y Tecnología 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ngré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no distingeix entre congressos, exposicion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 diferència d’AACR2 no s’omet del nom la periodicitat, però sí s’ometen l’any o els anys de convocatò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nnua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Symposium on Sea Turtle Biology and Conserv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xpo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d(1992 :$cSevilla, Andalus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'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C38D-0807-4EC1-935B-391469718E5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 s'afegeix el lloc del congrés, tot i que formi part del n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Salzburger Festspiele$d(2010 : 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z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Àustr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es sessions d’un congrés, etc., s’han celebrat en dues o més localitzacions, s’hi afegeix cada un dels noms de lloc, separats per punt i coma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regla de tr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Danish-Swedish Analysis Seminar $d(1995 :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penhaguen, Dinamarca; Lund, Suècia; París, Franç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’enregistra "En línia" com a lloc en el cas d’un congrés que es celebra en lí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4879-F98E-4D6E-85AE-E1A91B82244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dentificació dels llocs (RDA 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ls noms de llocs s’usen habitualment de les maneres segü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 noms de governs (RDA 11.2.2.5.4) i de comunitats que no són gov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títols d’obres (RDA 6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’entitats corporatives per diferenciar entre entitats amb el mateix nom (RDA 11.13.1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e congressos (RDA 11.13.1.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ons al capítol 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: Per determinar la </a:t>
            </a:r>
            <a:r>
              <a:rPr b="0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form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, per ordre de preferència: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Gran enciclopèdi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Atles universal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Nomenclàtor oficial de toponímia major de Cataluny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No apliqueu l'apèndix B.11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Noms d’alguns països, estats, províncies, territoris, etc.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RSFSR, UR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271D-6944-406E-9CF0-492BC9A896B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A6C2-06B8-4A02-A9B1-7594F567173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ermin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individu o una identitat establerta per un individu (ja sigui sol o en col·laboració amb un o més individus)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a paraula, un caràcter o a un grup de paraules i/o de caràcters pel qual es coneix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a persona, una família o una entitat corporativ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nom o una forma de nom triat per identificar una persona, una família o una entitat corporativa"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ase per al punt d'accés autoritz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Variant de 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nom o una forma de nom pel qual es coneix una persona, una família o una entitat corporativa i que difereix del nom o de la forma de nom triat com a nom preferit d’aquesta persona, família o entitat corpor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1677-08D8-4B20-9C87-9098B7BD852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ls noms (RDA 8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Majúscule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úmeros expressats com a xifres o com a paraule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general, en la forma en què figuren a la font d’informaci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ccents i altres signes diacrític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afegiu-los si és segur que són part integrant d’un nom.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Guionet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retingueu un guionet entre els noms de pila si la persona fa servir el guio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spaiament de les inicials i els acrònim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ersones: deixeu un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titats corporatives: no deixeu cap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breviacions: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Apliqueu les instruccions de l’apèndix B.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2481-D8A4-4252-B9D9-754A7EEE9BA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unts d'accés autoritzats (RDA 8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Utilitzeu el nom preferit com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dues o més entitats tenen noms idèntics o similars, incloeu un o més elements identificadors addici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sobre com construir el punt d'accés autoritzat es troben al final dels capítols 9, 10, 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F6E2-7650-496F-BBB1-79F6E26D1A3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9T17:32:27Z</dcterms:created>
  <dc:creator>Biblioteca de Catalunya</dc:creator>
  <dc:description/>
  <dc:language>en-US</dc:language>
  <cp:lastModifiedBy>vilsnb</cp:lastModifiedBy>
  <dcterms:modified xsi:type="dcterms:W3CDTF">2017-04-21T07:58:03Z</dcterms:modified>
  <cp:revision>326</cp:revision>
  <dc:subject/>
  <dc:title>Diapositiva 1</dc:title>
</cp:coreProperties>
</file>