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FC29-23A7-4499-AA0B-987618B345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7C93-3A6C-45D9-B789-50FDA9767B6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lantilles de catalogac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plantilles de Millennium estaran disponible amb els camps 336, 337, i 338 preestablertes. Podeu escollir la plantilla apropiada per al tipus de contingut del recurs i si es necessita més d'un d'aquests camps, podeu copiar els camps i després enganxar-l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2C8A-F0AA-4C1F-9067-1A8B35DA940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 l'extensió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 Useu l’evidència presentada pel recurs mateix (o en qualsevol material d’acompanyament o contenidor) com a base per a enregistrar l’extensió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RDA parla d'"unitat" (p. ex.; un volum) o de subunitats (p. ex., una pàgi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43D2-5B06-4FEC-9534-4CDEAED58A2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nregistrament de l'extens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element bàsic nomé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és complet o si se’n sap l’extens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'extensió d'un recurs donant el nombre d'unitats i un terme apropiat per al tipus de suport, d'acord a la llista d'RDA 3.3.1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terme no està a la llista, enregistreu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ces diverse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ropiat, o un terme d'ús comú. (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n aquest cas aviseu a fi de recollir-ho en concreció per a l'ús d'altres institucions)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erme en singular o plural segons correspongui. Si el recurs consta de més d'un tipus de suport físic, enregistreu el número corresponent a cada tip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4942-1BC6-4B2E-9E95-40A7AADD6CF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 de recursos específic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2-3.4.6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óna instruccions especials per a materials cartogràfics, música notada, imatges fixes, textos i objectes tridimensionals. No entrarem a comentar cadascuna d'aquestes instruccions, tanmateix fixeu-vos en els exemples que no hi ha abreviatures. Aquest és un dels canvis d'RDA respecte a les AACR2  o ISB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DF1D-493B-4B96-B630-E2B3E0DAC14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'extensió està tractada sota cada tipus de recurs. Veurem algun exemples de dels recursos que són "text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3B1-4F8A-485C-B759-1DC92BBC07B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tensió del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RDA 3.4.5.2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un recurs d'un sol volum, enregistreu l'extensió en termes de pàgines, fulls o columnes, segons correspongui, aplicant les instruccions general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paginat (si les pàgines tenen números en ambdós costats dels fulls), enregistreu el nombre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està foliat (si els fulls estan numerats en un sol costat), enregistreu el nombre de fu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consta de pàgines amb més d'una columna per pàgina, i les columnes estan numerades, enregistreu el nombre de colum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Si el volum té seqüències de fulls i pàgines, o pàgines i columnes numerats, o fulls i columnes numerades, enregistreu cada seqüènc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4.5.3 Un volum sol amb les pàgines, els fulls o les columnes no numerat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ot i que RDA dóna tres opcions per a aquestes situacions, 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segueix la pràctica d'aplicar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l mètode c) 1 volum (no paginat)" excepte 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er a recursos impresos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ntics</a:t>
            </a: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instruccions d'RDA 3.4.5 recullen casuístiques de "extensió", incloent canvis en la forma de la numeració dins d'una seqüència, numeració errònia, volums incomplets, paginació complexa o irregular, fulls o pàgines de làmines, més d'un volum, volums amb paginació contínua, actualització de fulls solts, i altres situac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a la paginació complexa o irregular la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Concreció 3.4.5.8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segueix la pràctica d'aplicar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el mètode c)  1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volum (paginació múltiple)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94FA-3D9A-4CF4-BB5F-42BFEAFAE1D2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entrarem a comentar cadascun, tanmateix fixeu-vos que no s'utilitzen claudàtors per a les pàgines, etc. no numerades, ni les abreviatures "ca.", "i.e.", 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C15A-1CBB-4A70-969A-817BFE04F01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incipals canvis relacionats amb l'extensi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utitizar abreviatures per als termes com per exemple, "pàgines," "volums", (no "p.", "vol.", "v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aproximadament" (en lloc de "ca.") i "és a dir" (en lloc de "i.e."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ar "pàgines no numerades", "fulls no numerats", etc. en lloc de donar els números entre claudà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ambé cal anar amb compte amb els canvis en el vocabulari, ex: "partitura guió" s'usa tant, per a la "partitura guió" com per a la "partitura reduïda". Consulteu RDA 3.3.1.3, 3.4.2 -3.4.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722D-A94F-4DF8-A65C-64063553479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5 les dimensions són un ELEMENT BÀSIC PER A LA BC I EL CCUC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un altre element de la descripció del suport d'una manifestació. En el cas de publicacions en sèrie és opcional, si es considera es poden dona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es dimensions són les mesures del suport físic o dels suports físics i/o del contenidor d’un recurs. Les dimensions inclouen les mesures d’alçada, amplada, profunditat, llargada, format i diàme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següent centímetre complet, usant el símbol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(ex., 17,2 centímetre, enregistreu 18 cm) o en mil·límetres, useu el símbol mètri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m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D25B-145B-4F64-9347-E602281A88D7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aquesta diapositiva  hi ha exemples que mostren l'extensió al camp 300 subcamp $a i als camps 336-337-33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1r exemple és el mateix que hem vist abans; l'extensió està donada en termes de pàgi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2n exemple, el terme "disc àudio"  obtingut de la llista que de suports físics (RDA 3.3.1.3), s'utilitza també per a descriure l'extensió de la unitat; per tant, 300 $a i 338 $a porten el mateix term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81B1-F713-4D53-816F-2819353A3D0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 suports fí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veurem les instruccions relacionades amb l’enregistrament dels atributs del suport físic de les manifestacions. El propòsit d'aquests elements, és ajudar l'usuari a seleccionar el recurs que vol obten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3B7E-37B8-456B-A9B5-F0F364E1A8E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9713-1E13-4A45-AC48-77658A2B96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ràctica conjun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0999-8A12-429C-8373-24D74E6F048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cas és un lloc web que conté diversos tipus de continguts: el text es considera el predominant, tanmateix la presència de mapes i fotografies  és considerable i és recomanable informar els camps 336 corresponents a aquest tipus de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8AB9-6169-4C0B-BAC8-9687552FD7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mostra l'ús del subcamp $3 en els camps 336-337-338 per identificar les característiques de cada part del recurs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T</a:t>
            </a: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  <a:ea typeface="Courier New"/>
              </a:rPr>
              <a:t>anmateix  l'ús de $3 és opcion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D76-7A39-419C-93E1-43154407080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 exemple és un recull o  col·lecció de fotografies procedent d'un donant. Cal tractar-lo com un tot i proporcionar els camps 33X d'acord amb el seu contingu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2537-2068-4591-8770-2D7AED21965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nivell de CSUC s'ha decidit utilitzar els nous camps MARC per a donar la característica del so (MARC 344),  la característica vídeo (MARC 346) i la  característica del fitxer digital (MARC 347 i 35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CF83-728D-4BA6-B03D-9CBE2F9AD7DD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del so – MARC 3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del so és una especificació tècnica relativa a la codificació del s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recursos sonors. No anem a tractar aquests elements en detall, doncs la majoria ja eren enregistrats en els registres MARC, però en el camp 300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7E2C-0741-4AD5-9DD7-230CF63677F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aracterística vídeo – MARC 34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na característica vídeo és una especificació tècnica relativa a la codificació de les imatges de vídeo d’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í es llisten les instruccions addicionals que s'han de considerar en el moment de catalogar imatges en moviment. No anem a tractar aquests elements en detall, doncs la majoria ja eren enregistrats en els registres MARC, però en el camp 300 $b o en no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00C6-7FFB-4C81-B28C-DEA9F634F1D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continuació es llisten instruccions addicionals que s'han de considerar en el moment de catalogar recursos fitxers digitals. No anem a tractar aquests elements en de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C2C8-70E3-43ED-BEF1-B5CE9E2C110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s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E11B-3116-4EC8-A26A-6A48D2A69F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Substitució de la designació general de materi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esignació general de material (DGM) del subcamp $h no existeix a RDA. La DGM era un conjunt de termes inconsistents, que de vegades es referia al contingut i altres vegades al sup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Joint Steering Committee, conjuntament amb la comunitat d'editors (ONIX), van desenvolupar tres elements per a “substituir" la DG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nous camps MARC só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contingut - RDA 6.9 (camp MARC 336)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que en realitat és un atribut de l'expressió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- RDA 3.2 (camp MARC 33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Tipus de suport físic - RDA 3.3 (camp MARC 33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CAA5-E6F4-4BC3-8252-1C6D279CF2A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 d'enregistraments de ví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D595-44EF-4698-9555-0CF23B75BCF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ltres característiques - 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isposició (RDA 3.11 ) i la característica del fitxer digital (RDA 3.19.8) só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BE9E-5965-4785-A1B7-7CF151E5E6F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AB22-E267-4219-939A-0AE78902C36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4 les restriccions d'accés són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9DEE-DEFE-4CCD-B842-00105C3996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triccions d'ú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5 les restriccions d'ús són un ELEMENT BÀSIC PER A LA B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ón notes que indiquen a l'usuari les limitacions imposades sobre els usos del recurs, com ara la reproducció, la publicació, l’exposició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C342-BE7C-47FF-A0DB-3CF3B9B2237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dreça UR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4.6 l'adreça URL és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RL és l'adreça d’un recurs d’accés remot. Les URL inclouen tots els identificadors del recurs, destinats a permetre l'accés en línia a un recurs mitjançant l'ús d'un cercador d'internet normalitz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29F5-F502-4E07-9184-A839BF66D0F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URL: restriccions i accé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utilitzada fins ara no canvia amb l'aplicació d'R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752B-E9CA-4C3B-82E5-9C3E585BE1A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 u="sng">
                <a:solidFill>
                  <a:srgbClr val="000000"/>
                </a:solidFill>
                <a:uFillTx/>
                <a:latin typeface="Calibri"/>
              </a:rPr>
              <a:t>Canvis que requereixen l’addició, la revisió o l’eliminació d’una adreça UR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Bibliografia nacional de Catalunya i la URL ja no està activa. Es cerca a interne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'informa un $z i $x de la seguent maner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856 40 $zAdreça electrònica (http....) no disponible en fer la cerca el 06/03/2015$xBibliografia nacional de Catalu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F400-5D66-47C4-8A8C-0E69C90C5F0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16E3-EEB3-41B1-B329-98258A96F4B5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ixem el capítol 6, que tracta sobre les obres i les expressions per més endavant, i tractarem primer el capítol 7 perquè inclou una sèrie d'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 associats amb el contingut d’un recurs que són enregistrats en un registre bibliogràfic en el camp 300 i en camps de n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246C-0443-45B2-84CC-08013911D7D9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dificació MARC de cada un d'aquests cam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cada camps conté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terme,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b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codi i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2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$2 identifica el vocabulari d’RDA utilitzat (en un camp 336 ha de ser "rdacontent"; en un camp 337 "rdamedia" i en un camp 338 "rdacarrier"). Aquests són codis registrats i validats per MARC 21, no s'han de traduir mai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subcamp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$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s fa servir, si es considera necessari, per identificar parts d'un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correspondència entre el terme, el codi i la font de cada element RDA es troben disponibles en tres documents publicats per la B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[Veurem exemples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8D24-1F59-49A1-9C18-F08D481C6BE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DA divideix els elements de contingut 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o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questa distinció no sempre és intuïtiva, però està clarament dividida a les instrucc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No analitzarem cada element de contingut d'RDA. Començarem per aquells elements que s'han d'enregistrar en un camp MARC 300 i continuarem pels elements que s'han considerat bàsics o han estat contemplats en els nivells de cataloga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lvl="2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CAD-C413-4DF0-B445-E3DA3F03570C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ARC - Descripció del conting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mp 300 s'han d'enregistrar elements que estan relacionats amb el contingut de les obres i les expressions. És per aquest motiu que es troben en el capítol 7 RDA i no en el capítol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durada, el contingut il·lustratiu, el de color i el sonor són atributs de les obres i/o de l'expressió. Heu de tenir present que en el camp 300 s'hi barregen dades sobre el suport físic i dades d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BFA0E-5E8D-43A1-813C-74FF14936AC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il·lustrati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5 el contingut il·lustratiu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ontingut il·lustratiu és el contingut concebut per il·lustrar el contingut principal d’un recurs. Les taules que només contenen paraules i/o dades numèriques no es consideren contingut il·lustratiu. Descarteu les portades, etc., il·lustrades i les il·lustracions men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ó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il·lustracions,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  <a:ea typeface="Courier New"/>
              </a:rPr>
              <a:t>no useu l'abreviatura "i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F317-95C4-4133-9C8E-A13C2C7DCE5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del col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7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el contingut del color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. Enregistreu les particularitats del contingut de color si es consideren importants; utilitzeu frases com "(algunes en color)", "(principalment en color)", etc.; no utilitzeu l'abreviatura "col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850-79E5-48F9-A400-5B577CD0F910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on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8 el contingut sonor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és un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és aplicable i si es considera important per a la identificació o la selecci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onor" per indicar la presència de so en un recurs que no consisteix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incipalment en so enregistrat.  En el cas d'enregistraments de vídeo, enregistreu: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"so" o "mut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019-C0AE-4069-98F4-2BC440A4F67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Dur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2 la durada és un ELEMENT BÀSIC PER A LA BC I EL CCU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 el cas de la música notada, enregistraments d'àudio i de vídeo i si es pot  determinar fàcilment; si no, es pot donar una durada aproximada, o ometre-la si es desconeix. No utilitzeu abreviatures com "ca.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98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tilitzeu els símbols d'unitat de temps de l'apèndix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DE6-7D90-419D-A551-AB1304DFFA9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Informació sobre la tesi o la memòr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9 la informació sobre la tesi o la memòria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 subelements s'enregistren en diferents subcamps del camp 502 (sense puntuar). A diferència d'AACR2/ISBD, amb RDA </a:t>
            </a:r>
            <a:r>
              <a:rPr b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o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 es fa constar si es tracta d'una tesi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no es disposa de tots els subelements, o no conté la tesi original, la informació disponible es dóna en un camp 500 $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250E-A536-4381-A782-409988FCEC6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sum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0 el resum del contingut és un ELEMENT BÀSIC PER A LA BC I EL CCUC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 dóna una nota de resum com a addició o com a substitut d’una nota de conté 505. Les notes de resum són narratives, de text lliure i normalment són emprades per donar informació sobre l’abast i el contingut del fons o de la col·lecció. El tipus d’informació pot ser: tipus i formes dels materials, ordenació, dates i matèries, persones, llocs o esdeveniments més significati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001C-2827-42E1-9A5C-A4F127968894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oc  i data de captu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1 el lloc i la data de captura són un ELEMENT BÀSIC PER A LA BC I EL CCU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C1DB-1DE8-4A0A-A730-51956258893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Llengua del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2 la llengua del contingut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 la  posició 008/35-37 es dóna el codi de llengua del recurs. El camp 041 només s'utilitza quan s'han d'enregistrar múltiples llengües incloses en el recurs (primer indicador 0) o perquè es tracta  una traducció (primer indicador 1). Utilitzeu en ambdós camps la llista de codis MARC per a les llengües. La nota 546 s'utilitza per a descriure les llengües del contingut i pot ser utilitzada per a una sola llengua si es considera úti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A9F4-3DBD-4308-9741-8359042A78F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Vocabularis controlats  per al tipus de contingut, suport i suport fí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s vocabularis per aquests termes es troben a RDA en llistes "tancades": RDA 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6.9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contingut), 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2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), RDA 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3.3.1.3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(Tipus de suport físi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hi ha dues opc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- E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nregistrar tots els termes apropiats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 Si trieu aquesta opció, repetiu el camp complet, en comptes de repetir el subcamp $a en el mateix ca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- </a:t>
            </a:r>
            <a:r>
              <a:rPr b="0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riar el terme que representi el contingut, el suport o el suport físic predominant o substanc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s desconeix la informació, s’enregistra "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ense especificar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cap terme d'aquestes llistes és apropiat, s’enregistra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"altre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BD18-8C03-4A23-8D8A-87AFF846E15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Forma de la notaci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3 la forma de la notació és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l que fa a l'escriptura, utilitzeu els subcamps $a i $b del camp 546. Anoteu el nom de la llengua en el $a i el nom de l’escriptura en un $b en les següents situacion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Quan el contingut es troba en una escriptura que no és l’habitual de la llengu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Quan el contingut és en una llengua que pot ser escrita en més d’una escriptur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xe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ciríl·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564 ## $aSerbi;$bAlfabet lla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ixeu-vos també en l'exemple, el nou ús del camp 546 per a la notació musical; amb AACR2 no es donava aquest tipus de notació i altres tipus de notació s'enregistraven en un camp 5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3749-8D93-492B-B37D-22798126FDC3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Contingut suplementar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16 el contingut suplementari és un ELEMENT BÀSIC PER A LA BC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àctica no canvia, tanmateix recordeu que no es poden utilitzar abrevi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1DB2-60AE-4007-A138-A2F5F3CBB6B6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Música nota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0-7.21 el format de la música notada i el repartiment de l’execució d’un contingut musical són ELEMENTS BÀSICS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84ED-C66B-4AB0-9218-8C3C9CF779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Recursos cartogràf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Són ELEMENTS BÀSICS PER A LA BC I EL CCU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horitzontal (RDA 7.25.3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scala vertical (RDA 7.25.4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Informació d'escala addicional (RDA 7.25.5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279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rojecció del contingut cartogràfic (RDA 7.26 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AA13-1C4B-47A3-A5DB-2EF0D1E215D8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Prem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7.28 els premis són un ELEMENT BÀSIC PER A LA BC I EL CCU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2DA7-7CEC-4B17-8E8B-26CF80A5B3EE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Fi del mòdul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0B3D-85D5-43F0-B95B-3B3AAF6C78F1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conting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 6.9 el tipus de contingut és un ELEMENT BÀSI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és una categorització que reflecteix la forma fonamental de comunicació, en què s’expressa el contingut i el sentit humà per mitjà del qual s’ha de percebre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contingut del recurs, usant un o més dels termes de la llista que figura a RDA 6.9 (taula 6.1)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el recurs té més d'un tipus de contingut, la 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6.9.1.3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especifica l'aplicació de l'alternativ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En lloc d'enregistrar-los tots, es pot enregistra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 a la part predominant del recurs (si n'hi ha alguna que sigui predominant), 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que correspongui a les parts substancials del recurs (incloent la part predominant, quan hi hagi un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85CE-7B41-4843-B0FB-757ECFC4707A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tipus de suport físic és un ELEMENT BÀSIC PER A LA BC I EL CCUC.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És una categorització que reflecteix el format del suport d’emmagatzematge i d’allotjament d’un suport físic en combinació amb el tipus d’aparell de mediació requerit per visionar, reproduir, fer funcionar, etc. el contingut d’un recurs (és a dir,  quin tipus d'aparell, si és el cas, es necessita per poder veure, escoltar, etc., el contingut d'un recur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s: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 S'aplica.</a:t>
            </a: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nregistreu el tipus de suport utilitzant un o més dels termes de la llista 3.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i hi ha més d'un terme apropiat, enregistreu el tipus de suport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5070-C233-4CC8-A02C-9F16B39CDF1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Tipus de suport fís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RDA 3.3 el tipus de suport físic és un ELEMENT BÀS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és una categorització que reflecteix 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ont: Useu l’evidència presentada pel recurs mateix (o en qualsevol material d’acompanyament o contenidor) com a base per enregistrar el tipus de suport físic. Obtingueu l’evidència addicional de qualsevol altra f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 Si hi ha més d'un terme apropiat enregistreu el tipus de suport físic que correspongui a la part predominant o parts substancials del recu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t físic dóna informació més específica que el tipus de suport, indica el format, emmagatzematge i tipus d'aparell requerit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FA37-1451-4F69-A077-9F5411A2BC8B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 u="sng">
                <a:solidFill>
                  <a:srgbClr val="000000"/>
                </a:solidFill>
                <a:uFillTx/>
                <a:latin typeface="Calibri"/>
              </a:rPr>
              <a:t>Exe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r exemple: es tracta d'un llibre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contingut en el camp 336 és "text"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llibre no necessita de cap aparell per poder llegir el seu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n exemple: es tracta d'un llibre principalment il·lustrat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principal en el camp 336 és "text", però té una part substancial d'un altre tipus de contingut: "imatge fitxa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sense mediació" perquè el contingut d'un llibre pugui ser llegit no necessita cap apar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"volum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r exemple: es tracta d'un CD de música, per ta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contingut en el camp 336 és "</a:t>
            </a:r>
            <a:r>
              <a:rPr b="0" lang="pt-BR" sz="12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- El tipus de suport en el camp 337 és "àudio", és a dir necessita d'un aparell d'àudio (en genèric) per reproduir el conting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tipus de supor físic és un "disc àudi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200" spc="-1" strike="noStrike">
                <a:solidFill>
                  <a:srgbClr val="000000"/>
                </a:solidFill>
                <a:latin typeface="Calibri"/>
              </a:rPr>
              <a:t>(Recordeu que els termes del subcamp $a corresponen a un vocabulari control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B81C-10D8-4C48-A9EA-D5A5B727653F}" type="slidenum">
              <a:rPr b="0" lang="ca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111-0658-4D5F-B073-004FDFB7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E5F-17C3-4018-B723-B34C6E82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E01B-97BE-496D-AE0E-7F79B3FA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E3F-363E-4FF6-951D-F037A4E5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6E27-C0C2-4F69-A921-2C5BAFE4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F25A-EFE1-4A84-90EA-F29E637A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298-4258-406C-AAB6-6AF83868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C559-C842-49A4-B59F-D4BE68AC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9E5-4D15-4A5E-A897-B01F6A98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A26C-0170-437D-A658-E54FB367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C72-6B3D-4D5F-9A4E-473E7388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5D2-9323-4714-98AC-41A20AA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A2B9-1BB6-423C-AC11-EC997542EC00}" type="datetime">
              <a:rPr b="0" lang="ca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96B7-D859-48ED-8BF9-0CC354248DD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nc.cat/sprof/normalitzacio/RDAcontingut.html" TargetMode="External"/><Relationship Id="rId2" Type="http://schemas.openxmlformats.org/officeDocument/2006/relationships/hyperlink" Target="http://www.bnc.cat/sprof/normalitzacio/RDAsuport.html" TargetMode="External"/><Relationship Id="rId3" Type="http://schemas.openxmlformats.org/officeDocument/2006/relationships/hyperlink" Target="http://www.bnc.cat/sprof/normalitzacio/RDAsuport_fisic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611280" y="333360"/>
            <a:ext cx="81532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|RDA|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, descripció i ac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76364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Biblioteca de Cataluny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98989"/>
                </a:solidFill>
                <a:latin typeface="Calibri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332000" y="263700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898989"/>
                </a:solidFill>
                <a:latin typeface="Calibri"/>
              </a:rPr>
              <a:t>Mòdul 2:</a:t>
            </a:r>
            <a:r>
              <a:rPr b="1" lang="ca-ES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Informació relativa a l’adquisició i a l’acc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76092"/>
                </a:solidFill>
                <a:latin typeface="Calibri"/>
              </a:rPr>
              <a:t>Descripció del conting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D7B0-01DF-4DF6-86AA-0949308707D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Plantilles Millennium:</a:t>
            </a:r>
            <a:r>
              <a:rPr b="0" lang="ca-E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ca-ES" sz="4000" spc="-1" strike="noStrike">
                <a:solidFill>
                  <a:srgbClr val="000000"/>
                </a:solidFill>
                <a:latin typeface="Calibri"/>
              </a:rPr>
              <a:t>Camps MARC 336-337-33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4ADB-4454-4A19-9269-8B0FAE29915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rcRect l="0" t="47507" r="64662" b="42232"/>
          <a:stretch/>
        </p:blipFill>
        <p:spPr>
          <a:xfrm>
            <a:off x="900000" y="2565360"/>
            <a:ext cx="7128000" cy="230364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84" name="6 Rectángulo"/>
          <p:cNvSpPr/>
          <p:nvPr/>
        </p:nvSpPr>
        <p:spPr>
          <a:xfrm>
            <a:off x="1047600" y="2060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Lli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Rectángulo"/>
          <p:cNvSpPr/>
          <p:nvPr/>
        </p:nvSpPr>
        <p:spPr>
          <a:xfrm>
            <a:off x="971640" y="5084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(En procés de creació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(RDA 3.4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bast= "és el nombre i el tipus d’unitats i/o de subunitats que constitueixen un recurs.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itat = és un component físic o lògic d’un recurs (ex. un volum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ubunitat = és una subdivisió física o lògica d’una unitat (per exemple, una pàgina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MARC 300 $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8B9F-CF2C-4E8D-A61B-1F6EE035658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nregistrament de l'extensió (RDA 3.4.1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41264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’extensió és un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només si el recurs és complet o si se’n sap l’extens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el nombre d'unitats i el terme apropia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e la llista del tipus de suport físic (RDA 3.3.1.3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l terme no està a la llista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les unitats no es poden anomenar concisament (RDA 3.4.1.5) useu "peces diverses"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un terme d'ús com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95F2-7512-4261-A88F-3A990B80F99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recursos específics (RDA3.4.2-3.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07920"/>
            <a:ext cx="842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3.4.1.3 (general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2 fitxers vídeo</a:t>
            </a: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0 carpetes (1.564 documen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2 Extensió d’un recurs cartogràf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 mapes en 1 f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3 Extensió de la música not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 pàg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4 Extensió de les imatges 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aproximadament 1.000 fotograf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5 Extensió del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3.4.6 Extensió d’una forma tridimens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trencaclosques (1.000 pec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D03C-3118-4C9F-945C-C198FCA8E89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3816360" cy="6667560"/>
          </a:xfrm>
          <a:prstGeom prst="rect">
            <a:avLst/>
          </a:prstGeom>
          <a:ln w="0">
            <a:noFill/>
          </a:ln>
        </p:spPr>
      </p:pic>
      <p:sp>
        <p:nvSpPr>
          <p:cNvPr id="96" name="5 Rectángulo redondeado"/>
          <p:cNvSpPr/>
          <p:nvPr/>
        </p:nvSpPr>
        <p:spPr>
          <a:xfrm>
            <a:off x="1258920" y="1700280"/>
            <a:ext cx="2881440" cy="64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6 Rectángulo redondeado"/>
          <p:cNvSpPr/>
          <p:nvPr/>
        </p:nvSpPr>
        <p:spPr>
          <a:xfrm>
            <a:off x="1258920" y="3357720"/>
            <a:ext cx="2881440" cy="43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9 Conector recto de flecha"/>
          <p:cNvCxnSpPr/>
          <p:nvPr/>
        </p:nvCxnSpPr>
        <p:spPr>
          <a:xfrm flipH="1">
            <a:off x="3563280" y="1125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10 Conector recto de flecha"/>
          <p:cNvCxnSpPr/>
          <p:nvPr/>
        </p:nvCxnSpPr>
        <p:spPr>
          <a:xfrm flipH="1">
            <a:off x="3563280" y="90756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11 Conector recto de flecha"/>
          <p:cNvCxnSpPr/>
          <p:nvPr/>
        </p:nvCxnSpPr>
        <p:spPr>
          <a:xfrm flipH="1">
            <a:off x="3563280" y="1267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12 Conector recto de flecha"/>
          <p:cNvCxnSpPr/>
          <p:nvPr/>
        </p:nvCxnSpPr>
        <p:spPr>
          <a:xfrm flipH="1">
            <a:off x="3851280" y="645300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13 Conector recto de flecha"/>
          <p:cNvCxnSpPr/>
          <p:nvPr/>
        </p:nvCxnSpPr>
        <p:spPr>
          <a:xfrm flipH="1">
            <a:off x="3635280" y="1483920"/>
            <a:ext cx="2161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3" name="14 Cerrar llave"/>
          <p:cNvSpPr/>
          <p:nvPr/>
        </p:nvSpPr>
        <p:spPr>
          <a:xfrm>
            <a:off x="4716360" y="1700280"/>
            <a:ext cx="432000" cy="4537080"/>
          </a:xfrm>
          <a:custGeom>
            <a:avLst/>
            <a:gdLst>
              <a:gd name="textAreaLeft" fmla="*/ 0 w 432000"/>
              <a:gd name="textAreaRight" fmla="*/ 155880 w 43200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5 CuadroTexto"/>
          <p:cNvSpPr/>
          <p:nvPr/>
        </p:nvSpPr>
        <p:spPr>
          <a:xfrm>
            <a:off x="529272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18B6-8E80-4DB9-AB1E-53B66ED2DC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tensió del text (RDA 3.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Un volum sol amb les pàgines, els fulls o les columnes no numerats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3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74304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3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no pagin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Paginació, etc., complexa o irregular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RDA 3.4.5.8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RDA dóna tres opcions,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però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4.5.8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En general s’aplica el mètode 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olum (paginació múltip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748-2762-4A8E-8C1A-7660E8D237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6 pàgines, 32 pàgines de làmines no numera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504 pàgines, aproximadament 500 pàgines de làm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estimació de làmines no numerad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3 fulls, 31 fulls no numer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 volums (XX, 800 pàgin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329, és a dir, 392 pàgin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i="1" lang="ca-E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hi ha un erro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2 fulls pleg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8DF3-1817-4595-8623-9575B4B8FF0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nvis 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lacionats amb l'extensi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No fer servir abreviatures  (Ex., "pàgines", "volums", 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no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"p.", "vol.", "v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aproximadament" (en lloc de "ca.") i "és a dir" (en lloc de"i.e.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Utilitzar "pàgines no numerades"/ "fulls no numerats" en lloc de donar els números entre claudàto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Cal anar amb compte amb els canvis dels termes per a certs tipus de materials (ex., "partitura guió" s'usa tant, per a la "partitura guió" com per a la "partitura reduïda"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A225-D60F-4A47-BC91-B0DE00E6852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imensions (RDA 3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Excepte en el cas de publicacions en sèrie i recursos en líni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mesures del suport físic o dels suports físics i/o del contenidor d’un recurs"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es dimensions inclouen les mesures d’alçada, amplada, profunditat, llargada, format i diàmetr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es dimensions en centímetres arrodonits al centímetre superior i useu el </a:t>
            </a:r>
            <a:r>
              <a:rPr b="0" lang="ca-ES" sz="2700" spc="-1" strike="noStrike" u="sng">
                <a:solidFill>
                  <a:srgbClr val="000000"/>
                </a:solidFill>
                <a:uFillTx/>
                <a:latin typeface="Calibri"/>
              </a:rPr>
              <a:t>símb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l mètric 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cm" (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no és una abreviatura), o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mm"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egons el tipus de recurs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 300 $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E7F5-7443-4406-8407-A61B2669C3F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23 pàgines, 28 pàgines no numerad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CD de músic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61FB-A136-43E9-8266-AA28459E0BD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s suports fís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1BAF-8758-4345-8041-2E6FAAD41A6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DVD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en moviment bidimensiona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d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ídeo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ideodis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d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DF en líni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39 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4CAE-1647-4C09-8C3B-BC40998AA39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Partitur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partitura (23</a:t>
            </a: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pàgines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notad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t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Mapa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6 mapes en 1 ful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 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2EE2-2E7D-45AF-B612-C0E464D98B7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Lloc Web amb text, mapes i fotografi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</a:t>
            </a:r>
            <a:r>
              <a:rPr b="0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cartogràfic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informàti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ecurs en línia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cr</a:t>
            </a:r>
            <a:r>
              <a:rPr b="1" lang="ca-ES" sz="25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5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3B60-20C8-4690-A2F8-57FD8AE77F3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94920" y="1699920"/>
            <a:ext cx="843588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libre acompanyat d'un CD no musical (xerrad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44 pàgines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+$e1 C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paraula parlada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pw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llibre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volum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nc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338 ##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CD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0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 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(comentari: L'ús de $3 és opciona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AD94-08BE-4A9F-B7E0-8FF5617CCE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300 $a, 336-337-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184428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ol·lecció de fotografies (recull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apçalera/06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k</a:t>
            </a:r>
            <a:r>
              <a:rPr b="1" i="1" lang="es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capçalera/07 = </a:t>
            </a:r>
            <a:r>
              <a:rPr b="1" i="1" lang="es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68 fotograf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7 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338 ##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full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nb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BD42-B0EA-4E1F-91AB-B30813B067C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 del suport fís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341360"/>
            <a:ext cx="3600360" cy="460872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6: Material de bas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7: Material aplic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8: Muntur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9: Mètode de pro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0: Genera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1: Disposi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2: Format de llibre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3: Mida de la fon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4: Polarita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5: Escala de reducció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7280" y="1341000"/>
            <a:ext cx="4619520" cy="4535640"/>
          </a:xfrm>
          <a:prstGeom prst="rect">
            <a:avLst/>
          </a:prstGeom>
          <a:noFill/>
          <a:ln w="9360">
            <a:solidFill>
              <a:srgbClr val="c6d9f1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6: Característica del s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17: Característica de projecció d’una pel·lícula cinematogràfica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8: Característica vídeo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3.19: Característica del fitxer digital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47,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352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0: Equipament o sistema requerit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3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3.21: Nota sobre el suport físic 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159-D4CA-414B-B328-6F681611AE3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500" spc="-1" strike="noStrike">
                <a:solidFill>
                  <a:srgbClr val="000000"/>
                </a:solidFill>
                <a:latin typeface="Calibri"/>
              </a:rPr>
              <a:t>Característica del so (MARC 344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a: Tipus de d’enregistrament - 3.16.2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analògic, digi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b: Suport d’enregistrament - 3.16.3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agnètic, magnetoòptic, òpti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c: Velocitat de reproducció - 3.16.4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rpm,  m/s, cm/s, f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d: Característiques del solc - 3.16.5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icrosolc, solc gruixut, fi, estànda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e: Configuració de la pista - 3.16.6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pista central, pista later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f: Configuració de la cinta - 3.16.7.3 = </a:t>
            </a:r>
            <a:r>
              <a:rPr b="0" i="1" lang="ca-ES" sz="2200" spc="-1" strike="noStrike">
                <a:solidFill>
                  <a:srgbClr val="376092"/>
                </a:solidFill>
                <a:latin typeface="Calibri"/>
              </a:rPr>
              <a:t>(nombre de piste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g: Configuració dels canals de reproducció - 3.16.8.3 = 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mono, estèreo, quadrifònic, so envolt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$h: Característica especial de reproducció - 3.16.9.3 = </a:t>
            </a:r>
            <a:r>
              <a:rPr b="0" lang="ca-ES" sz="2200" spc="-1" strike="noStrike">
                <a:solidFill>
                  <a:srgbClr val="376092"/>
                </a:solidFill>
                <a:latin typeface="Calibri"/>
              </a:rPr>
              <a:t>codificació CX, Dolby, LPCM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E6F9-F92C-46D9-9B34-B4A83A879B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Nous camps MAR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racterística vídeo (MARC 34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Format vídeo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només analògic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eta, U-matic, VHS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Estàndard d’emissió (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per televisió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 - 3.18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37609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HDTV, NTSC, PAL, SEC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2572-881B-4E00-ABB3-355EEEA1811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itxer digital (MARC 34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a: Tipus de fitxer - 3.19.2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fitxer àudio, fitxer de vídeo, fitxer d’imatg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b: Format de codificació - 3.19.3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CD àudio, DVD vídeo, JPE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c: Mida del fitxer - 3.19.4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KB, </a:t>
            </a:r>
            <a:r>
              <a:rPr b="0" lang="pt-BR" sz="2800" spc="-1" strike="noStrike">
                <a:solidFill>
                  <a:srgbClr val="376092"/>
                </a:solidFill>
                <a:latin typeface="Calibri"/>
              </a:rPr>
              <a:t>MB, GB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d: Resolució - 3.19.5 =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 píx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e: Codi de regió - 3.19.6 =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regió 4, totes les region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$f: Velocitat de transmissió - 3.19.7 </a:t>
            </a:r>
            <a:r>
              <a:rPr b="0" lang="ca-ES" sz="2800" spc="-1" strike="noStrike">
                <a:solidFill>
                  <a:srgbClr val="376092"/>
                </a:solidFill>
                <a:latin typeface="Calibri"/>
              </a:rPr>
              <a:t>= kb/s, Mb/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C038-D409-48AB-88F5-1A1DD5757B0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4000" y="907920"/>
            <a:ext cx="8434080" cy="14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C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4 discs àudio (aproximadament 16 h) ;$c12 c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$2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3077-E181-42B5-8BB3-E99176664944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324000" y="2565360"/>
            <a:ext cx="8434080" cy="144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àudi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324000" y="4221000"/>
            <a:ext cx="843408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set à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casset àudio ;$c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codificació Dolby-B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324000" y="5489640"/>
            <a:ext cx="843408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disc àudio ;$c30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3 1/3 rpm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stèr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Substitució de la designació general de material (DGM)-245 $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Tres nous camps MARC , desenvolupats amb la comunitat d’editors ONIX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6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Tipus de contingut (RDA </a:t>
            </a:r>
            <a:r>
              <a:rPr b="0" lang="ca-ES" sz="2800" spc="-1" strike="noStrike" u="sng">
                <a:solidFill>
                  <a:srgbClr val="000000"/>
                </a:solidFill>
                <a:uFillTx/>
                <a:latin typeface="Calibri"/>
              </a:rPr>
              <a:t>6.9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7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 de suport (RDA 3.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 </a:t>
            </a:r>
            <a:r>
              <a:rPr b="1" lang="ca-ES" sz="2800" spc="-1" strike="noStrike">
                <a:solidFill>
                  <a:srgbClr val="376092"/>
                </a:solidFill>
                <a:latin typeface="Calibri"/>
              </a:rPr>
              <a:t>338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Tipus de suport físic (RDA 3.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7992-33AE-434F-A372-E8C70A20205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8E4-9D31-4124-83CF-5F8ED078DD5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324000" y="1341360"/>
            <a:ext cx="8434080" cy="15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V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casset (77 min) :$bblanc i negre, 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nalòg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magnè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VHS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 Marcador de contenido"/>
          <p:cNvSpPr/>
          <p:nvPr/>
        </p:nvSpPr>
        <p:spPr>
          <a:xfrm>
            <a:off x="324000" y="3284640"/>
            <a:ext cx="8434080" cy="187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DVD ví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color, so ;$c 12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4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igital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òpti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g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so envoltan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h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lby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6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NTSC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</a:t>
            </a:r>
            <a:r>
              <a:rPr b="1" lang="en-U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##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VD vídeo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egió 1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ltres característiques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55736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2 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Disposició - RDA 3.11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00 $b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2 mapes en 1 full :$bcara i c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Característica del fitxer digital - RDA 3.19.8       (MARC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352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524C-7D72-4C56-BCC4-991117B782A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 Marcador de contenido"/>
          <p:cNvSpPr/>
          <p:nvPr/>
        </p:nvSpPr>
        <p:spPr>
          <a:xfrm>
            <a:off x="611280" y="4005360"/>
            <a:ext cx="813600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mapa: imatge digital en lí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recurs en línia (1 mapa) :$bc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47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fitxer d’imatges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7.413 KB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352 ## 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Trama :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píxel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(5.381 x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e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 6.105) ;</a:t>
            </a:r>
            <a:r>
              <a:rPr b="1" lang="en-CA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q</a:t>
            </a:r>
            <a:r>
              <a:rPr b="1" lang="en-CA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JP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1633E-857A-407A-98F3-81B2A9D8208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 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Informació relativa a l’adquisició i a l’acc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accés (RDA 4.4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’accés a 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accé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fr-FR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6 ##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$aAccés restringit:$ces requereix permís escrit del dona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2C30-047D-4FAB-A963-B23DA0196FC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triccions d'ús (RDA 4.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són les limitacions imposades sobre l'ús d'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totes les restriccions d'ús al recurs, incloent la naturalesa i durada de la restricció, en la forma més específica que sigui possible. També es pot indicar l'absència de restriccions si es considera import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40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40 ## $aRestringit: reproducció permesa només a organitzacions sense ànim de luc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2775-C93A-4303-AA8F-ABFB2E2D298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Adreça URL (RDA 4.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267920"/>
            <a:ext cx="82296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= "és l’adreça d’un recurs d’accés remot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Font: obtingueu la informació de qualsevol fon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85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alibri"/>
              </a:rPr>
              <a:t>Concreció 4.6.1.3.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 Si hi ha més d'una URL per al recurs, enregistreu-les totes. S’informen, quan sigui apropiat, els subcamps: $3, $z, $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 856 42 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3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Sumari</a:t>
            </a:r>
            <a:r>
              <a:rPr b="1" lang="ca-E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8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EB8D-7514-49F4-B572-DF31AE058DC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URL: restriccions i accés ($z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o una de les URL's tingui un accés restringit indiqueu-ho en un $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la URL no sigui accessible per IP i es necessiti usuari i/o contrasenya, etc., afegiu les indicacions apropiad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restringit als usuaris de la [institució/s]. Cal codi d'usuari i contraseny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 cas que el recurs sigui d'accés lliure, indiqueu-ho en un subcamp $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i="1" lang="ca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Accés lliure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u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http:// ..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A3FF-9816-42F3-A962-51CDCE73EA0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Canvis que requereixen l’addició, la revisió o l’eliminació d’una adreça URL (RDA 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4.6.1.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000" spc="-1" strike="noStrike">
                <a:solidFill>
                  <a:srgbClr val="000000"/>
                </a:solidFill>
                <a:latin typeface="Calibri"/>
              </a:rPr>
              <a:t>Concreció 4.6.1.4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 mostra la pràctica de la BC per a recursos que pertanyen a la </a:t>
            </a:r>
            <a:r>
              <a:rPr b="0" i="1" lang="ca-ES" sz="3000" spc="-1" strike="noStrike">
                <a:solidFill>
                  <a:srgbClr val="000000"/>
                </a:solidFill>
                <a:latin typeface="Calibri"/>
              </a:rPr>
              <a:t>Bibliografia nacional de Catalunya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 i la URL ja no està activa. Es cerca a Interne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es troba l'adreça, s'actualitza al registr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i no es troba i es considera important de mantenir el recurs a la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BnC,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s'informa un $z i $x de la següent manera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856 40 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z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Adreça electrònica (http....) no disponible en fer la cerca el 06/03/2015</a:t>
            </a: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$x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Bibliografia nacional de Catalun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0446-3224-445C-9009-D2D0AC116C0D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pítol 7</a:t>
            </a:r>
            <a:br>
              <a:rPr sz="3200"/>
            </a:br>
            <a:r>
              <a:rPr b="1" lang="ca-ES" sz="3200" spc="-1" strike="noStrike">
                <a:solidFill>
                  <a:srgbClr val="376092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a-E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8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C200-0142-4B73-B556-88FBE3A063E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Aquest capítol proporciona les directrius generals i les instruccions sobre l'enregistrament dels </a:t>
            </a:r>
            <a:r>
              <a:rPr b="0" lang="ca-ES" sz="3200" spc="-1" strike="noStrike" u="sng">
                <a:solidFill>
                  <a:srgbClr val="000000"/>
                </a:solidFill>
                <a:uFillTx/>
                <a:latin typeface="Calibri"/>
              </a:rPr>
              <a:t>atributs de les obres i les expression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s associats amb el contingut intel·lectual o artístic d’un recu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Els elements del capítol 7 s’usen normalment per seleccionar un recurs que satisfaci les necessitats de l’usuari en termes del seu contingut (per exemple, contingut il·lustratiu, sonor, informació sobre la tesi, llengua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EC65B-D565-4411-96FE-9257F5051C9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: 336, 337, 3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341360"/>
            <a:ext cx="889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Cada camp conté els següents subcamps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6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content 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[= Capçalera/06]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7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 rdame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338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a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terme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b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 codi </a:t>
            </a:r>
            <a:r>
              <a:rPr b="1" lang="ca-ES" sz="2700" spc="-1" strike="noStrike">
                <a:solidFill>
                  <a:srgbClr val="376092"/>
                </a:solidFill>
                <a:latin typeface="Calibri"/>
              </a:rPr>
              <a:t>$2 rdacarrier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Llista de termes i codis per als tipus de contingu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lista de termes i codis per als tipus de suport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Llista de termes i codis per als tipus de suports físics d'RD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ca-ES" sz="17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ca-ES" sz="2000" spc="-1" strike="noStrike">
                <a:solidFill>
                  <a:srgbClr val="000000"/>
                </a:solidFill>
                <a:latin typeface="Calibri"/>
              </a:rPr>
              <a:t>Els codis del $2 són enregistrats i validats per MARC 21, no s'han de traduir ma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57B0-40E6-4641-BC74-9F994225D97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RDA divideix els elements de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345600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obr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24000" y="1628640"/>
            <a:ext cx="3456000" cy="2952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2: Natura del contingut</a:t>
            </a:r>
            <a:r>
              <a:rPr b="0" lang="ca-ES" sz="1600" spc="-1" strike="noStrike">
                <a:solidFill>
                  <a:srgbClr val="376092"/>
                </a:solidFill>
                <a:latin typeface="Calibri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3: Cobertura del contingut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4: Coordenades d’un contingut cartogràfic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5: Equinocci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6: Èpoc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7: Destinataris previstos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21</a:t>
            </a: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8: Sistema d’organització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35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000000"/>
                </a:solidFill>
                <a:latin typeface="Calibri"/>
              </a:rPr>
              <a:t>7.9: Informació sobre la tesi o la memòria </a:t>
            </a:r>
            <a:r>
              <a:rPr b="1" lang="ca-ES" sz="1600" spc="-1" strike="noStrike">
                <a:solidFill>
                  <a:srgbClr val="376092"/>
                </a:solidFill>
                <a:latin typeface="Calibri"/>
              </a:rPr>
              <a:t>5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66920" y="1052280"/>
            <a:ext cx="404172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Atributs de l'expressi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24360" y="1557360"/>
            <a:ext cx="4751280" cy="446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0: Resum del contingut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 5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1: Lloc i data de la captur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033, 5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2: Llengua del contingut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3</a:t>
            </a:r>
            <a:r>
              <a:rPr b="0" lang="ca-ES" sz="1300" spc="-1" strike="noStrike">
                <a:solidFill>
                  <a:srgbClr val="00b050"/>
                </a:solidFill>
                <a:latin typeface="Calibri"/>
              </a:rPr>
              <a:t>:</a:t>
            </a: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 Forma de la notac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4: Contingut accessibl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, 54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5: Contingut il·lustratiu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6: Contingut suplementari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7: Contingut de col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18: Contingut sonor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19: Relació d’aspecte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0: Format de la música not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48, 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1: Repartiment de l’execució d’un contingut musical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300" spc="-1" strike="noStrike">
                <a:solidFill>
                  <a:srgbClr val="000000"/>
                </a:solidFill>
                <a:latin typeface="Calibri"/>
              </a:rPr>
              <a:t>7.22: Durad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300 $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3: Intèrpret, narrador i/o presentador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1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4: Crèdit artístic i/o tècnic </a:t>
            </a:r>
            <a:r>
              <a:rPr b="1" lang="ca-ES" sz="1300" spc="-1" strike="noStrike">
                <a:solidFill>
                  <a:srgbClr val="376092"/>
                </a:solidFill>
                <a:latin typeface="Calibri"/>
              </a:rPr>
              <a:t>508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5: Escala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6: Projecció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25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7: Altres particularitats del contingut cartogràfic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8: Premis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300" spc="-1" strike="noStrike">
                <a:solidFill>
                  <a:srgbClr val="000000"/>
                </a:solidFill>
                <a:latin typeface="Calibri"/>
              </a:rPr>
              <a:t>7.29: Nota sobre l’expressió </a:t>
            </a:r>
            <a:r>
              <a:rPr b="1" lang="ca-ES" sz="1400" spc="-1" strike="noStrike">
                <a:solidFill>
                  <a:srgbClr val="376092"/>
                </a:solidFill>
                <a:latin typeface="Calibri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6 CuadroTexto"/>
          <p:cNvSpPr/>
          <p:nvPr/>
        </p:nvSpPr>
        <p:spPr>
          <a:xfrm>
            <a:off x="1258920" y="4581360"/>
            <a:ext cx="25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a-ES" sz="1600" spc="-1" strike="noStrike">
                <a:solidFill>
                  <a:srgbClr val="376092"/>
                </a:solidFill>
                <a:latin typeface="Calibri"/>
              </a:rPr>
              <a:t>*diversos ca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8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21FA7-37E5-49D4-A15B-1D47D5785E3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ARC - Descripció del conting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000" spc="-1" strike="noStrike">
                <a:solidFill>
                  <a:srgbClr val="000000"/>
                </a:solidFill>
                <a:latin typeface="Calibri"/>
              </a:rPr>
              <a:t>MARC 3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 aquest camp s'han d'enregistrar elements que estan relacionats amb el contingut de les obres i les expressions. És per aquest motiu que es troben en el capítol 7 RDA i no en el capítol 3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il·lustratiu (7.15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de color (7.17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ontingut sonor (7.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urada 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l camp 300 s'hi barregen dades sobre el suport físic com dades del conting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B417-CB07-47D1-A3C0-58A4ACE01917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il·lustratiu (RDA 7.15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Àmbit = "és el contingut concebut per il·lustrar el contingut principal d’un recurs.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Font: Obtingueu la informació de qualsevol fo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Enregistreu: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ó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o </a:t>
            </a:r>
            <a:r>
              <a:rPr b="1" lang="ca-ES" sz="2600" spc="-1" strike="noStrike">
                <a:solidFill>
                  <a:srgbClr val="376092"/>
                </a:solidFill>
                <a:latin typeface="Courier New"/>
                <a:ea typeface="Courier New"/>
              </a:rPr>
              <a:t>il·lustrac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5 Alternativa: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En general, no s’aplica.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No és necessari especificar</a:t>
            </a:r>
            <a:r>
              <a:rPr b="0" i="1" lang="ca-E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tipus específics (per ex.: gràfics, mapes, retrats, formularis, plànols, etc.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alibri"/>
              </a:rPr>
              <a:t>Concreció 7.17 Addició opcional</a:t>
            </a: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. És opcional donar el nombre d'il·lustrac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600" spc="-1" strike="noStrike">
                <a:solidFill>
                  <a:srgbClr val="000000"/>
                </a:solidFill>
                <a:latin typeface="Calibri"/>
              </a:rPr>
              <a:t>MARC 300 $b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7E48-6B23-4500-BC10-98A0C2513C8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del color (RDA 7.1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Àmbit = "és la presència de color, de tonalitat, etc., en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7.17 Alternativ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.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el contingut de color usant un o més dels termes alternatius a monocrom, policrom: </a:t>
            </a:r>
            <a:r>
              <a:rPr b="0" lang="ca-ES" sz="2400" spc="-1" strike="noStrike">
                <a:solidFill>
                  <a:srgbClr val="376092"/>
                </a:solidFill>
                <a:latin typeface="Calibri"/>
              </a:rPr>
              <a:t>blanc i negre, color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Enregistreu les particularitats del contingut de color si es consideren importa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300## … :$bil·lustracions (algunes en col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E322-9747-42AB-84C1-A810DA99880A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ontingut sonor (RDA 7.1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és la presència de so en un recurs que no consisteix principalment en so enregistrat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: Useu l’evidència presentada pel recurs mateix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"</a:t>
            </a:r>
            <a:r>
              <a:rPr b="0" i="1" lang="ca-ES" sz="2700" spc="-1" strike="noStrike">
                <a:solidFill>
                  <a:srgbClr val="376092"/>
                </a:solidFill>
                <a:latin typeface="Calibri"/>
              </a:rPr>
              <a:t>sonor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" per indicar la presència de so en un recurs que no consisteix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principalment en so enregistrat (p. ex.: c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onjunt de diapositives amb so integrat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Excepció. Per a recursos d’imatges en moviment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(p. ex.: els</a:t>
            </a:r>
            <a:r>
              <a:rPr b="1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aments de vídeo), enregistreu: 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so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ca-E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376092"/>
                </a:solidFill>
                <a:latin typeface="Calibri"/>
                <a:ea typeface="Courier New"/>
              </a:rPr>
              <a:t>mut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  <a:ea typeface="Courier New"/>
              </a:rPr>
              <a:t>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300 $b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400" spc="-1" strike="noStrike">
                <a:solidFill>
                  <a:srgbClr val="376092"/>
                </a:solidFill>
                <a:latin typeface="Courier New"/>
                <a:ea typeface="Courier New"/>
              </a:rPr>
              <a:t>300 ## $a1 videodisc (100 min) :$bs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A8B0-3028-4AB4-8C4D-5C27BBFC4CB5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Durada (RDA 7.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836280"/>
            <a:ext cx="8291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5400" indent="-95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 "es el temps de reproducció, de projecció, d’execució, etc., d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sobre la durada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nregistrament de la dura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Enregistreu el temps exacte si es pot determin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Un temps aproximat si es pot estimar precedit de "</a:t>
            </a:r>
            <a:r>
              <a:rPr b="1" lang="ca-ES" sz="2200" spc="-1" strike="noStrike">
                <a:solidFill>
                  <a:srgbClr val="376092"/>
                </a:solidFill>
                <a:latin typeface="Calibri"/>
                <a:ea typeface="Courier New"/>
              </a:rPr>
              <a:t>aproximadament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  <a:ea typeface="Courier New"/>
              </a:rPr>
              <a:t>"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5400" indent="-95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Si no es pot determinar o estimar fàcilment, ometeu-l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Useu els símbols de l'apendix B, 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llista B.7, que s’apliquin a les unitats de temp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00 $a</a:t>
            </a: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/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 300 ## $a1 disc àudio(45 mi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Duració: aproximadament 30 m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68200" indent="-268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omentari: es tracta d'un recurs de música not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81E4-2C27-47BA-A27C-D3A649918B0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Informació sobre la tesi o la memòria (RDA 7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és una informació sobre una obra presentada com a part dels requisits formals per a l’obtenció d’un títol acadèmic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Obtingueu la informació sobre la tesi o la memòria de 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 la informació següent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) el títol per al qual l’autor era candidat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b) el nom de la institució o la facultat en la qual es va presentar la tesi,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c) l’any d’obtenció del títol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502 $b, $c, $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02 ## 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Doctorat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c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Universitat de Barcelona</a:t>
            </a:r>
            <a:r>
              <a:rPr b="1" lang="ca-E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d</a:t>
            </a:r>
            <a:r>
              <a:rPr b="1" lang="ca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197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C8F0C-83FA-4D61-9710-FC768B303E81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sum del contingut (RDA 7.1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per a materials d'arxi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 = "és una síntesi, un sumari, una sinopsi, etc., del contingut del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Font: Obtingueu la informació que s’ha d’usar en resumir el contingut de qualsevol fo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Proporcioneu un resum breu i objectiu del contingut del recurs si aquesta informació es considera important per a la identificació o la selecció i no s’ha enregistrat informació suficient en una altra part de la descripció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2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520 ## $aActes, llistes de membres i de cotitzacions, periòdics, llibres d’entrades i sortides, formularis, circulars i correspondència d’un grup local del sindicat de fusters de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7E4C-4163-43CF-80A1-166C472EA46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alibri"/>
              </a:rPr>
              <a:t>Lloc i data de captura (RDA </a:t>
            </a: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7.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 = "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són el lloc i la data associats amb la captura (és a dir, l’enregistrament, la filmació, etc.) del contingut d’un recurs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Font</a:t>
            </a: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qualsevol fo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Enregistreu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loc: l’estudi concret, la sala del concert, etc., quan s’aplica i es pot determinar fàcilment </a:t>
            </a: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a ciutat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Data:</a:t>
            </a: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l’any, el mes, el dia i l’hora quan s’apliqu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MARC 033, 518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033 20 $a20081020$a20081022$b6564$cB3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  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18 ## $aEnregistrat en directe: 20-22 d'octubre de 2008, Sala Luz de Gas, Barcelon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119B-E50D-4411-A7B0-10A135D0E278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Llengua del contingut (RDA 7.1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6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Abast = "és la llengua usada per expressar el contingut d’un recurs."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Enregistreu les particularitats de la llengua o les llengües usades per expressar el contingut del recurs si es consideren importants per a la identificació o la selecció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MARC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008/35-37, 041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546</a:t>
            </a:r>
            <a:r>
              <a:rPr b="0" lang="ca-ES" sz="3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ca-ES" sz="3000" spc="-1" strike="noStrike">
                <a:solidFill>
                  <a:srgbClr val="000000"/>
                </a:solidFill>
                <a:latin typeface="Calibri"/>
              </a:rPr>
              <a:t>(segons el c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316F-6146-44CE-AED8-6DEC0571326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Vocabularis controlats per</a:t>
            </a:r>
            <a:r>
              <a:rPr b="0" lang="ca-E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l</a:t>
            </a:r>
            <a:br>
              <a:rPr sz="3600"/>
            </a:b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ipus de contingut, suport i suport fís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00200"/>
            <a:ext cx="88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Llistes tancades: RDA </a:t>
            </a: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6.9.1.3, 3.2.1.3, 3.3.1.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hi ha més d'un terme apropiat, hi ha dues opc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ar-los tots. Repetiu el camp comp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ollir el terme que representi el contingut, suport o suport físic predominant o substan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es desconeix la informació s'enregistra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no especific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Si cap terme és apropiat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s’enregistra 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ca-ES" sz="2800" spc="-1" strike="noStrike">
                <a:solidFill>
                  <a:srgbClr val="376092"/>
                </a:solidFill>
                <a:latin typeface="Calibri"/>
              </a:rPr>
              <a:t>altre</a:t>
            </a:r>
            <a:r>
              <a:rPr b="0" i="1" lang="ca-ES" sz="2800" spc="-1" strike="noStrike">
                <a:solidFill>
                  <a:srgbClr val="000000"/>
                </a:solidFill>
                <a:latin typeface="Calibri"/>
              </a:rPr>
              <a:t>"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EC89-A4BB-488B-8C3E-05A04454827E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Forma de la notació (RDA 7.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Abast = "és un conjunt de caràcters i/o de símbols usat per expressar el contingut d’un recurs."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500" spc="-1" strike="noStrike">
                <a:solidFill>
                  <a:srgbClr val="000000"/>
                </a:solidFill>
                <a:latin typeface="Calibri"/>
              </a:rPr>
              <a:t>Enregistreu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) l’escriptu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b) la forma de la notació musical usada per expressar el contingut musical (p. ex., notació alfabètic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c) la forma de la notació tàctil (per ex., braill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d) la forma de la notació del moviment (p. ex., notació de dansa per traços d’acció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 54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376092"/>
                </a:solidFill>
                <a:latin typeface="Courier New"/>
                <a:ea typeface="Courier New"/>
              </a:rPr>
              <a:t>Ex.: 546 ## $bNotació en pentagr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1C03-739C-4EA9-918B-808844A1D6D6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4 CuadroTexto"/>
          <p:cNvSpPr/>
          <p:nvPr/>
        </p:nvSpPr>
        <p:spPr>
          <a:xfrm>
            <a:off x="6804000" y="638172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abril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ontingut suplementari (RDA 7.1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(no per al CCU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és un contingut (per exemple, un índex, una bibliografia, un apèndix) concebut per complementar el contingut principal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Font: qualsevol fo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504 i 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0 ## $aInclou 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 $aBibliografia: pàgines 859-91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	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504 ##</a:t>
            </a:r>
            <a:r>
              <a:rPr b="1" lang="ca-ES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ca-ES" sz="1900" spc="-1" strike="noStrike">
                <a:solidFill>
                  <a:srgbClr val="376092"/>
                </a:solidFill>
                <a:latin typeface="Courier New"/>
                <a:ea typeface="Courier New"/>
              </a:rPr>
              <a:t>$aInclou bibliografies i índex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086E-5DAD-44DA-9354-2A088157E7CB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Música not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Format de la música notada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RDA 7.20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partitura vo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Repartiment de l’execució d’un contingut musical 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( RDA 7.21 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. ex., reducció per a clarinet i pia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00</a:t>
            </a:r>
            <a:br>
              <a:rPr sz="2800"/>
            </a:b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6929-A50E-4DBF-85CC-02799D5B4583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Recursos cartogràf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9280" y="1341000"/>
            <a:ext cx="8147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S BÀSICS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horitzontal (RDA 7.25.3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scala vertical (RDA 7.25.4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Informació d'escala addicional (RDA 7.25.5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68200" indent="-268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Projecció del contingut cartogràfic (RDA 7.26 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ARC 2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082E-D9C5-4A42-A4B3-37A3DF09C67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5 CuadroTexto"/>
          <p:cNvSpPr/>
          <p:nvPr/>
        </p:nvSpPr>
        <p:spPr>
          <a:xfrm>
            <a:off x="6588000" y="6381720"/>
            <a:ext cx="16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400" spc="-1" strike="noStrike">
                <a:solidFill>
                  <a:srgbClr val="000000"/>
                </a:solidFill>
                <a:latin typeface="Calibri"/>
              </a:rPr>
              <a:t>Act. gener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Premis (RDA 7.28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Abast = "és un reconeixement formal d’excel·lència, etc., del contingut d’un recurs, concedit per un organisme amb capacitat de concedir premis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Enregistreu la informació sobre els premis si es considera important per a la identificació o la selecci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000000"/>
                </a:solidFill>
                <a:latin typeface="Calibri"/>
              </a:rPr>
              <a:t>MARC 58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.: </a:t>
            </a:r>
            <a:r>
              <a:rPr b="1" lang="es-ES" sz="2000" spc="-1" strike="noStrike">
                <a:solidFill>
                  <a:srgbClr val="376092"/>
                </a:solidFill>
                <a:latin typeface="Courier New"/>
                <a:ea typeface="Courier New"/>
              </a:rPr>
              <a:t>586 8# $aOscar al millor documental 2010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EE26-BA32-472B-B554-26D66716C5E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3200" spc="-1" strike="noStrike">
                <a:solidFill>
                  <a:srgbClr val="000000"/>
                </a:solidFill>
                <a:latin typeface="Calibri"/>
              </a:rPr>
              <a:t>Pregun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171E-8F3A-43D8-82F8-DB40D41EC182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contingut (RDA 6.9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000" y="981000"/>
            <a:ext cx="82803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7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Abast = "... forma fonamental de comunicació en què s’expressa el contingut i el sentit humà per mitjà del qual s’ha de percebre."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700" spc="-1" strike="noStrike">
                <a:solidFill>
                  <a:srgbClr val="000000"/>
                </a:solidFill>
                <a:latin typeface="Calibri"/>
              </a:rPr>
              <a:t>Termes de la Taula 6.1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684360" y="2932200"/>
            <a:ext cx="73818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9B92-9AE1-417D-8325-19AFF8A280F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395280" y="5013360"/>
            <a:ext cx="828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000" spc="-1" strike="noStrike">
                <a:solidFill>
                  <a:srgbClr val="000000"/>
                </a:solidFill>
                <a:latin typeface="Arial"/>
              </a:rPr>
              <a:t>Concreció 6.9.1.3 Alternativa: </a:t>
            </a:r>
            <a:r>
              <a:rPr b="0" i="1" lang="ca-ES" sz="2000" spc="-1" strike="noStrike">
                <a:solidFill>
                  <a:srgbClr val="000000"/>
                </a:solidFill>
                <a:latin typeface="Arial"/>
              </a:rPr>
              <a:t>S'aplica</a:t>
            </a: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. Si hi ha més d'un terme apropiat, enregistreu el tipus de contingut que correspongui a la part predominant o parts substancials del rec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Arial"/>
              </a:rPr>
              <a:t>MARC 336 $a $b $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(RDA 3.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11280" y="1052640"/>
            <a:ext cx="8229600" cy="20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Calibri"/>
              </a:rPr>
              <a:t>ELEMENT BÀSIC PER A LA BC I EL CCU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Abast = ".. reflecteix el tipus general de l’aparell d’intermediació requerit per visionar, reproduir, fer funcionar, etc., el contingut d’un recurs.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Termes de la Taula 3.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F3D6-6CD1-413C-BD89-EBB73F2F913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321840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6 Rectángulo"/>
          <p:cNvSpPr/>
          <p:nvPr/>
        </p:nvSpPr>
        <p:spPr>
          <a:xfrm>
            <a:off x="684360" y="472428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400" spc="-1" strike="noStrike">
                <a:solidFill>
                  <a:srgbClr val="000000"/>
                </a:solidFill>
                <a:latin typeface="Calibri"/>
              </a:rPr>
              <a:t>Concreció 3.2 Alternativa: </a:t>
            </a:r>
            <a:r>
              <a:rPr b="0" i="1" lang="ca-ES" sz="24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que correspongui a la part predominant o parts substancials del re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Calibri"/>
              </a:rPr>
              <a:t>MARC 337 $a $b $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Tipus de suport físic (RDA 3.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200" spc="-1" strike="noStrike">
                <a:solidFill>
                  <a:srgbClr val="000000"/>
                </a:solidFill>
                <a:latin typeface="Calibri"/>
              </a:rPr>
              <a:t>ELEMENT BÀS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Abast= "... el format del suport d’emmagatzematge i d’allotjament d’un suport físic en combinació amb el tipus d’aparell de mediació requerit per visionar, reproduir, fer funcionar, etc. el contingut d’un recurs.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Termes de la llista en 3.3.1.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CEBB-0DF7-4AD7-834F-672A55A76FA9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826920" y="3147840"/>
            <a:ext cx="73821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de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611280" y="4724280"/>
            <a:ext cx="792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2200" spc="-1" strike="noStrike">
                <a:solidFill>
                  <a:srgbClr val="000000"/>
                </a:solidFill>
                <a:latin typeface="Calibri"/>
              </a:rPr>
              <a:t>Concreció 3.3 Alternativa: </a:t>
            </a:r>
            <a:r>
              <a:rPr b="0" i="1" lang="ca-ES" sz="2200" spc="-1" strike="noStrike">
                <a:solidFill>
                  <a:srgbClr val="000000"/>
                </a:solidFill>
                <a:latin typeface="Calibri"/>
              </a:rPr>
              <a:t>S'aplica</a:t>
            </a: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. Si hi ha més d'un terme apropiat, enregistreu el tipus de suport físic que correspongui a la part predominant o parts substancials del recu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000000"/>
                </a:solidFill>
                <a:latin typeface="Calibri"/>
              </a:rPr>
              <a:t>MARC 338 $a $b $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Exemples:</a:t>
            </a:r>
            <a:r>
              <a:rPr b="0" lang="ca-ES" sz="3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200"/>
            </a:br>
            <a:r>
              <a:rPr b="1" lang="ca-ES" sz="3200" spc="-1" strike="noStrike">
                <a:solidFill>
                  <a:srgbClr val="000000"/>
                </a:solidFill>
                <a:latin typeface="Calibri"/>
              </a:rPr>
              <a:t>Camps MARC 336-337-33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1466-9A32-478A-8DEE-C355FA891F6F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5 Rectángulo"/>
          <p:cNvSpPr/>
          <p:nvPr/>
        </p:nvSpPr>
        <p:spPr>
          <a:xfrm>
            <a:off x="1187280" y="1225440"/>
            <a:ext cx="65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Ex.llibre principalment il·lustr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e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txt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336 ##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imatge fixa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ti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ense mediació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n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ca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volum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nc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a-E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. CD mús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Capçalera/06 = 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6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música executada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prm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7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a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àud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pt-BR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376092"/>
                </a:solidFill>
                <a:latin typeface="Courier New"/>
                <a:ea typeface="MS PGothic"/>
              </a:rPr>
              <a:t>338 ##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disc àudio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b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sd</a:t>
            </a:r>
            <a:r>
              <a:rPr b="1" lang="it-IT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2</a:t>
            </a:r>
            <a:r>
              <a:rPr b="1" lang="it-IT" sz="1800" spc="-1" strike="noStrike">
                <a:solidFill>
                  <a:srgbClr val="376092"/>
                </a:solidFill>
                <a:latin typeface="Courier New"/>
                <a:ea typeface="Courier New"/>
              </a:rPr>
              <a:t>rda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1T16:06:38Z</dcterms:created>
  <dc:creator>Biblioteca de Catalunya</dc:creator>
  <dc:description/>
  <dc:language>en-US</dc:language>
  <cp:lastModifiedBy>vilsnb</cp:lastModifiedBy>
  <dcterms:modified xsi:type="dcterms:W3CDTF">2017-04-21T07:27:31Z</dcterms:modified>
  <cp:revision>490</cp:revision>
  <dc:subject/>
  <dc:title>Mòdul 2:  Descripció de Suports i Identificació d'Obres</dc:title>
</cp:coreProperties>
</file>