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B078-55D6-4616-9B4E-914DFB9953B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67B-AFBE-49EF-A8C8-F399AA000C4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329-EC6B-4934-ADE5-4A5B78178E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F8AF-C8F1-48D9-993C-111AE8FA81E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1127-E367-41CE-BB0D-DB65C872A7C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EBAB-9C90-4F2F-963A-D720A5B345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FCB3-6DD3-46F3-AF0D-27A7CD68462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D5A9-6760-469B-81DF-1FC2C6A838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800C-3BE0-41C6-B16A-10E4898C8A6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3B35-32A7-4FF2-9B6C-D6FFCBCAB2C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8B55-8977-4D86-A393-D5EE44E33F0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0265-7B67-452F-981F-84ED357A267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7833-451D-4AB9-A73D-29AD53A68E8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5AE0-5B41-4443-A211-187396C7129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441A-2E01-4191-AB0C-CC781F2DDB1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1568-67B0-4E1E-B65E-6DC73AE1CB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C526-8AD2-41BB-AA89-D8683F305D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FBC-15AD-48DE-9D62-88E280CA8E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EA1C-EFE7-4ABC-898A-C61A6A144F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9AA1-7A64-4C3B-A5F0-E33A2A7D518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1752-3136-4985-A288-966A41F17B8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A980-CEE3-46CD-94C7-5BE386CD1A2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3CF6-DB8B-401B-A386-26823CE0390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1BB0-9D3E-494F-816C-DC02C305AEA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2D7C-C7AF-4B0E-871A-FE7DC85C057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B2C1-82E0-421A-8C8D-2D2EDBAF1BA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18FB-72E4-45E1-9199-86AC39FCCE0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57C0-5099-4651-9D3D-7351A9ED78A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F1E1-2FD7-4065-AFB0-978760F299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E9B8-86F6-453A-9DAA-C1C9DE1FEC1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81C8-53FD-4AEB-BA2B-3EE5839A84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6DA-54A8-4AD8-AEA4-08EC31E4BD9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D66-D47A-4CCF-9524-876F7FA152A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3443-CA81-47D6-9EB6-D476944CD2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60D-D6BF-4560-857C-CE18EF3F83E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333D-10A7-4D48-B898-203654D54C6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3C0B-0192-4BBC-89C2-199408E935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5FF9F-CFA1-426D-B393-5D9D7EE3B0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6956-2488-4F5C-B6DA-EDF5AA176FC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0D94-3EF9-4476-BE7A-C77CEC45F5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B1BF-F637-4D8F-9F94-C0AEEC9FF73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D8EE-1D96-4E53-8D72-E9EF6205D0B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E54-4421-44B4-923C-A605BB52160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0B9F-7E82-4AF9-B174-230C3272E9E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523B2-BF1C-4FF1-A9A7-BB7F26FBB4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1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29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8C0F-8725-4CB9-B2F6-89483213FF5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D8E8-8A72-4BC4-8C0C-1F035CC934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2CC5-EF69-4EC5-B8E7-45E23482DCC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A559-4F2B-4B64-BE15-CF85D2E76D7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7D1E-E228-46F3-B3F6-F03479E1DC7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59C3-B6E7-4A3E-8589-DAF1FA1A95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695-2834-429F-8AA6-7CF1B9F0424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9564-C797-4CF1-9450-481687B087D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47B9-431C-499F-8F6F-3959194672B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68C2-81C1-4AE3-9910-18C9318E26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D27B-3837-451E-A55D-B9CA0BB6D8C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5737-3E90-4AD9-8F46-CD857A6627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4E1F-8CAB-4593-BD80-24D197F94D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EBAA-30E2-4322-9512-20B96719B81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9EAA-1E2D-41C1-AB1C-DF79E595D4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FF6A-D313-40CE-A9CC-6ECA636BF7C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8B5D-88E1-4590-A39C-FD3D039D97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46AA-1843-44E4-8A14-4F16526013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8438-7FE8-4690-B27A-52916E4593E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F2D7-77BA-4E47-B22E-765171B6869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E79F-77BE-403D-9DA5-B7C88FB392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mòdul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AEB-3D34-48A6-A097-A9D573D5E54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D662-D132-41F3-99CA-18150F9AD68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0CED-FF2C-42F9-A46D-1525F7F48C8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3FDC-D95B-4D47-B405-803CD28C43B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AE1-6357-4300-A277-73790A65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3E5B-9B4F-4209-A7FA-B5D76C17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6881-1942-4AD8-AAC0-FF1DDF0F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EC8-2E5D-4F09-873C-BF6271161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A34A-2B88-4B5E-B99F-7B121969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4EC-1682-4BF5-A908-1E1D603C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2E0-20AC-4C17-90A2-85D3A43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C0C-CA98-4F69-8305-876E0654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9648-7E72-4F92-B197-8516C370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A7A0-09A4-4B0C-987C-4EF1D153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0926-085A-484C-85D4-F0B1D48D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C504-9AEE-48BB-86B2-890F9032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C233-8E76-491E-94AF-5B7798A22356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BBA4-D70D-4938-A2E8-4E0D5F91F4E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horities.loc.gov/" TargetMode="External"/><Relationship Id="rId2" Type="http://schemas.openxmlformats.org/officeDocument/2006/relationships/hyperlink" Target="http://www.bnc.cat/lenoti/" TargetMode="External"/><Relationship Id="rId3" Type="http://schemas.openxmlformats.org/officeDocument/2006/relationships/hyperlink" Target="http://www.bnc.cat/lenot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4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Persones, famílies i entitats corpo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 Subtítulo"/>
          <p:cNvSpPr/>
          <p:nvPr/>
        </p:nvSpPr>
        <p:spPr>
          <a:xfrm>
            <a:off x="1619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73C09-A7BD-460A-BF68-7E095970C1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btingueu informació sobre els atributs per identificar de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er determinar el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nom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preferit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(en aquest ordre de preferènci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es fonts preferides d’informació (vegeu 2.2.2) en els recursos associats amb 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encions formal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e figuren 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recursos associats a l'entitat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ltres font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incloses les fonts de referènci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6809-E4F8-4CF1-B4B9-DDE5ABFF6D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pers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96DA-D762-42F5-BBEB-F8ADBCAF55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opòsit i abast (RDA 9.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mb RDA quan es parla d'una "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ersona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, es fa referència a un individu, el qual pot ser un ésser humà real, o n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Inclo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mencionades en les sagrades escriptures o en els llibres apòcrif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ersones fictícies i llegendàri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titats reals no human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560A-105D-405E-97FC-04E1A1028D4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196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 partir de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l'1 de desembre de 201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per a persones de les sagrades escriptures o dels llibres apòcrifs, persones fictícies i llegendàries, entitats reals no humanes, animals individuals amb nom propi, etc. seran establerts només com autoritats de nom utilitzant R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ls punts d'accés creats amb RDA seran vàlids com a punts d'accés de matèri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ins que no s'hagi creat el registre de nom, utilitzeu el registre de la LEMAC existent en els punts d'accés de matèri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50280" indent="-257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8DF-6A9F-4C41-AD59-659E0BDE5B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reals no hum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9 CuadroTexto"/>
          <p:cNvSpPr/>
          <p:nvPr/>
        </p:nvSpPr>
        <p:spPr>
          <a:xfrm>
            <a:off x="539640" y="105264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eguiu les mateixes instruccions d'RDA com ho faríeu per a qualsevol altra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971640" y="2133720"/>
            <a:ext cx="734544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130 0# $aFree Willy (Pel·lícula cinematogràf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Free Willy /$cWarner Bros. in associa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700 0#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$aKeiko,$daproximadament 1976-2003,$e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11 CuadroTexto"/>
          <p:cNvSpPr/>
          <p:nvPr/>
        </p:nvSpPr>
        <p:spPr>
          <a:xfrm>
            <a:off x="468360" y="3500280"/>
            <a:ext cx="828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afegeix una addició al punt d'accés autoritzat quan cal distingir entre dos punts d'accés amb el mateix nom o quan aquest no dóna idea de "persona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in-Tin-Tin (G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.: Obama, B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nom del gos inclou un cognom i un nom de pi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5 CuadroTexto"/>
          <p:cNvSpPr/>
          <p:nvPr/>
        </p:nvSpPr>
        <p:spPr>
          <a:xfrm>
            <a:off x="611280" y="587700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Tanmateix, es pot afegir l'addició sempre que es consideri important per a la identificació.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9.19.1.2.6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34A9-A75C-4907-8070-7C0DC521573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 (RDA 9.2.2)</a:t>
            </a:r>
            <a:br>
              <a:rPr sz="11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50560" y="1268280"/>
            <a:ext cx="889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Trieu en general el nom pel qual se la coneix normal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 diferència d'AACR2, les paraules que indiquen una relació són part del nom preferit (ex.: Jr, III, etc.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i="1" lang="ca-E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.: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Abbott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ud,$c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J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ls termes de tractament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hi inclouen</a:t>
            </a:r>
            <a:r>
              <a:rPr b="0" lang="ca-ES" sz="1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és si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cognom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eus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Dr</a:t>
            </a:r>
            <a:r>
              <a:rPr b="1" lang="ca-ES" sz="26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a persona casada és identificada només pel nom de la parella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Davis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 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axwell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,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Mrs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</a:rPr>
              <a:t>.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Consisteixen en un nom de pila precedit per un terme de tractament (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am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400" spc="-1" strike="noStrike">
                <a:solidFill>
                  <a:srgbClr val="953735"/>
                </a:solidFill>
                <a:latin typeface="Calibri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ousin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E19F-98C5-4665-BF5B-35AB770AA85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8360" y="1412640"/>
            <a:ext cx="8229600" cy="44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ompletes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 Si les formes del nom d’una persona varien en completesa, trieu com a nom preferit la form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trobada més habitualment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allas, Mari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3-197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de naixement "Maria Anna Cecilia Sofia Kalogeropoulos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Valera, Juan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24-190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a forma més habitual és "Juan Valera". La forma ocasional "Juan Valera y Alcalá Galiano"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D8BD-D90D-4A61-939D-D8A44F5287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4839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lengua: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correspon a la llengua de la majoria dels recursos associa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Excepc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Grec o llatí enfront d’altres formes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rieu com a nom preferit la forma que figura més habitualment en les fonts de referència. Per als noms romans apliqueu l'apèndix F.8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nl-NL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èsar, Gai Juli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00 aC-44 a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Forma establerta en català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el primer element del nom preferit d’una persona consisteix en un nom de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pila i/o una paraula o una frase associad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amb la persona, </a:t>
            </a:r>
            <a:r>
              <a:rPr b="0" lang="ca-ES" sz="2200" spc="-1" strike="noStrike" u="sng">
                <a:solidFill>
                  <a:srgbClr val="000000"/>
                </a:solidFill>
                <a:uFillTx/>
                <a:latin typeface="Calibri"/>
              </a:rPr>
              <a:t>trieu la forma ben establerta en catal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, si n'hi ha u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nl-NL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fr-FR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rancesc,$cd'Assís,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ant,$d 1182-122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9122-8F70-4C2E-9306-185DE59C7F4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es diferents del mateix nom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9.2.2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557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454680" indent="-1573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scriptura no preferida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ha d'utilitzar la transcripció al català de l'IEC (àrab, rus, hebreu), ISO 843 (grec), Pinyin (xinès), Hepburn (japonè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59 Grupo"/>
          <p:cNvGrpSpPr/>
          <p:nvPr/>
        </p:nvGrpSpPr>
        <p:grpSpPr>
          <a:xfrm>
            <a:off x="1232640" y="2781360"/>
            <a:ext cx="7227000" cy="3166920"/>
            <a:chOff x="1232640" y="2781360"/>
            <a:chExt cx="7227000" cy="3166920"/>
          </a:xfrm>
        </p:grpSpPr>
        <p:sp>
          <p:nvSpPr>
            <p:cNvPr id="107" name="5 Rectángulo"/>
            <p:cNvSpPr/>
            <p:nvPr/>
          </p:nvSpPr>
          <p:spPr>
            <a:xfrm>
              <a:off x="1232640" y="2781360"/>
              <a:ext cx="33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Ex.: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Чайк</a:t>
              </a:r>
              <a:r>
                <a:rPr b="0" lang="ca-E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вский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az-Cyrl-AZ" sz="1800" spc="-1" strike="noStrike">
                  <a:solidFill>
                    <a:srgbClr val="000000"/>
                  </a:solidFill>
                  <a:latin typeface="Arial"/>
                </a:rPr>
                <a:t>Пётр Ильи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9 Imagen" descr=""/>
            <p:cNvPicPr/>
            <p:nvPr/>
          </p:nvPicPr>
          <p:blipFill>
            <a:blip r:embed="rId1"/>
            <a:srcRect l="33333" t="61417" r="0" b="31767"/>
            <a:stretch/>
          </p:blipFill>
          <p:spPr>
            <a:xfrm>
              <a:off x="1691280" y="3141360"/>
              <a:ext cx="3600720" cy="27612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pic>
          <p:nvPicPr>
            <p:cNvPr id="109" name="10 Imagen" descr=""/>
            <p:cNvPicPr/>
            <p:nvPr/>
          </p:nvPicPr>
          <p:blipFill>
            <a:blip r:embed="rId2"/>
            <a:srcRect l="34669" t="30827" r="0" b="61412"/>
            <a:stretch/>
          </p:blipFill>
          <p:spPr>
            <a:xfrm>
              <a:off x="1691280" y="3501360"/>
              <a:ext cx="3600720" cy="288000"/>
            </a:xfrm>
            <a:prstGeom prst="rect">
              <a:avLst/>
            </a:prstGeom>
            <a:ln w="9360">
              <a:solidFill>
                <a:srgbClr val="1f497d"/>
              </a:solidFill>
              <a:miter/>
            </a:ln>
          </p:spPr>
        </p:pic>
        <p:sp>
          <p:nvSpPr>
            <p:cNvPr id="110" name="11 Elipse"/>
            <p:cNvSpPr/>
            <p:nvPr/>
          </p:nvSpPr>
          <p:spPr>
            <a:xfrm>
              <a:off x="1692000" y="2781360"/>
              <a:ext cx="28728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12 Elipse"/>
            <p:cNvSpPr/>
            <p:nvPr/>
          </p:nvSpPr>
          <p:spPr>
            <a:xfrm>
              <a:off x="2771640" y="278136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13 Cerrar llave"/>
            <p:cNvSpPr/>
            <p:nvPr/>
          </p:nvSpPr>
          <p:spPr>
            <a:xfrm>
              <a:off x="5508360" y="3286080"/>
              <a:ext cx="215640" cy="43164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5400 h 431640"/>
                <a:gd name="textAreaBottom" fmla="*/ 4262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450"/>
                    <a:pt x="10800" y="900"/>
                  </a:cubicBezTo>
                  <a:lnTo>
                    <a:pt x="10800" y="9900"/>
                  </a:lnTo>
                  <a:cubicBezTo>
                    <a:pt x="10800" y="10350"/>
                    <a:pt x="16200" y="10800"/>
                    <a:pt x="21600" y="10800"/>
                  </a:cubicBezTo>
                  <a:cubicBezTo>
                    <a:pt x="16200" y="10800"/>
                    <a:pt x="10800" y="11250"/>
                    <a:pt x="10800" y="11700"/>
                  </a:cubicBezTo>
                  <a:lnTo>
                    <a:pt x="10800" y="20700"/>
                  </a:lnTo>
                  <a:cubicBezTo>
                    <a:pt x="10800" y="2115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14 CuadroTexto"/>
            <p:cNvSpPr/>
            <p:nvPr/>
          </p:nvSpPr>
          <p:spPr>
            <a:xfrm>
              <a:off x="5796000" y="3285360"/>
              <a:ext cx="194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IEC transcripci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22 Imagen" descr=""/>
            <p:cNvPicPr/>
            <p:nvPr/>
          </p:nvPicPr>
          <p:blipFill>
            <a:blip r:embed="rId3"/>
            <a:srcRect l="0" t="34660" r="47082" b="61353"/>
            <a:stretch/>
          </p:blipFill>
          <p:spPr>
            <a:xfrm>
              <a:off x="1619280" y="5517360"/>
              <a:ext cx="4753080" cy="4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23 Imagen" descr=""/>
            <p:cNvPicPr/>
            <p:nvPr/>
          </p:nvPicPr>
          <p:blipFill>
            <a:blip r:embed="rId4"/>
            <a:srcRect l="0" t="55389" r="39464" b="40330"/>
            <a:stretch/>
          </p:blipFill>
          <p:spPr>
            <a:xfrm>
              <a:off x="1763280" y="4941360"/>
              <a:ext cx="5473080" cy="4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26 Cerrar llave"/>
            <p:cNvSpPr/>
            <p:nvPr/>
          </p:nvSpPr>
          <p:spPr>
            <a:xfrm>
              <a:off x="7307280" y="4942080"/>
              <a:ext cx="144360" cy="792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3600 h 792000"/>
                <a:gd name="textAreaBottom" fmla="*/ 7884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64"/>
                    <a:pt x="10800" y="328"/>
                  </a:cubicBezTo>
                  <a:lnTo>
                    <a:pt x="10800" y="10472"/>
                  </a:lnTo>
                  <a:cubicBezTo>
                    <a:pt x="10800" y="10636"/>
                    <a:pt x="16200" y="10800"/>
                    <a:pt x="21600" y="10800"/>
                  </a:cubicBezTo>
                  <a:cubicBezTo>
                    <a:pt x="16200" y="10800"/>
                    <a:pt x="10800" y="10964"/>
                    <a:pt x="10800" y="11128"/>
                  </a:cubicBezTo>
                  <a:lnTo>
                    <a:pt x="10800" y="21272"/>
                  </a:lnTo>
                  <a:cubicBezTo>
                    <a:pt x="10800" y="21436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27 CuadroTexto"/>
            <p:cNvSpPr/>
            <p:nvPr/>
          </p:nvSpPr>
          <p:spPr>
            <a:xfrm>
              <a:off x="7523640" y="5157360"/>
              <a:ext cx="9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800" spc="-1" strike="noStrike">
                  <a:solidFill>
                    <a:srgbClr val="000000"/>
                  </a:solidFill>
                  <a:latin typeface="Arial"/>
                </a:rPr>
                <a:t>VIA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22 Imagen" descr=""/>
            <p:cNvPicPr/>
            <p:nvPr/>
          </p:nvPicPr>
          <p:blipFill>
            <a:blip r:embed="rId5"/>
            <a:srcRect l="0" t="45177" r="48503" b="34355"/>
            <a:stretch/>
          </p:blipFill>
          <p:spPr>
            <a:xfrm>
              <a:off x="1690200" y="3860640"/>
              <a:ext cx="5689800" cy="936360"/>
            </a:xfrm>
            <a:prstGeom prst="rect">
              <a:avLst/>
            </a:prstGeom>
            <a:ln w="9360">
              <a:solidFill>
                <a:srgbClr val="376092"/>
              </a:solidFill>
              <a:miter/>
            </a:ln>
          </p:spPr>
        </p:pic>
        <p:sp>
          <p:nvSpPr>
            <p:cNvPr id="119" name="7 Elipse"/>
            <p:cNvSpPr/>
            <p:nvPr/>
          </p:nvSpPr>
          <p:spPr>
            <a:xfrm>
              <a:off x="2050920" y="5013360"/>
              <a:ext cx="28872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21 Elipse"/>
            <p:cNvSpPr/>
            <p:nvPr/>
          </p:nvSpPr>
          <p:spPr>
            <a:xfrm>
              <a:off x="2842920" y="501336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8 Elipse"/>
            <p:cNvSpPr/>
            <p:nvPr/>
          </p:nvSpPr>
          <p:spPr>
            <a:xfrm>
              <a:off x="2771640" y="5589720"/>
              <a:ext cx="215640" cy="287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20 Elipse"/>
            <p:cNvSpPr/>
            <p:nvPr/>
          </p:nvSpPr>
          <p:spPr>
            <a:xfrm>
              <a:off x="1979280" y="5518080"/>
              <a:ext cx="288720" cy="360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54 Conector recto"/>
            <p:cNvSpPr/>
            <p:nvPr/>
          </p:nvSpPr>
          <p:spPr>
            <a:xfrm>
              <a:off x="1331640" y="3213000"/>
              <a:ext cx="0" cy="20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4" name="56 Conector recto de flecha"/>
          <p:cNvCxnSpPr/>
          <p:nvPr/>
        </p:nvCxnSpPr>
        <p:spPr>
          <a:xfrm>
            <a:off x="1332000" y="5229000"/>
            <a:ext cx="5763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58 CuadroTexto"/>
          <p:cNvSpPr/>
          <p:nvPr/>
        </p:nvSpPr>
        <p:spPr>
          <a:xfrm>
            <a:off x="250920" y="61498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i no es pot donar la forma transcrita al català, provisionalment s'accepta la forma anglesa de la L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6BA-3794-4E1C-A24F-D55480C6B52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de la persona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 Diferents noms per a la mateixa persona </a:t>
            </a:r>
            <a:br>
              <a:rPr sz="2500"/>
            </a:b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(RDA 9.2.2.6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36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de manera clara més habitualment. Except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anvi de nom (RDA 9.2.2.7): Trieu el nom més rec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Onassis, Jacqueline Kennedy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29-199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últiples identitats (RDA 9.2.2.8): Trieu el nom associat amb cada identit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identitats separad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Dodgson, Charles Lutwidge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real utilitzat en obres de matemàtic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Carroll, Lewis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32-189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s: pseudònim utilitzat en obres de literatur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S'ha de respectar totes les identitats separades d'una persona. No hi ha la limitació en el temps ni en el nombre de punts d'accés autoritza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0BC0-DD83-4E55-9712-623C45E79B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troduc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A4D5-CDEE-4342-B030-DF66F5513F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tegories de noms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2.2.9 - RDA 9.2.2.2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971280" y="1988640"/>
            <a:ext cx="74278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cogno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compos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ognoms amb prefix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inclouen un títol nobiliar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inicia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que consisteixen en una fr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2AC6-5E5C-437E-89CD-C73FA43B17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981000"/>
            <a:ext cx="8300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pmany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aria Aurèlia,$d1918-199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G.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Migu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bri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Nelson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p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lverdú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$q(Jaume </a:t>
            </a:r>
            <a:r>
              <a:rPr b="1" lang="es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Ro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Fàbrega Pallarès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Pau </a:t>
            </a:r>
            <a:r>
              <a:rPr b="1" lang="fr-FR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e la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913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Or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Eugeni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d'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881-19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es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La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Roca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France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ca-ES" sz="2000" spc="-1" strike="noStrike" u="sng">
                <a:solidFill>
                  <a:srgbClr val="953735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hn,$d1942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americà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082520" indent="-108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Valken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. C. </a:t>
            </a:r>
            <a:r>
              <a:rPr b="1" lang="ca-ES" sz="20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Van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q(Cornelis Constantijn),$d1910-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neerlandè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vat-Papasseit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Joan,$d1894-192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evot de M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</a:t>
            </a:r>
            <a:r>
              <a:rPr b="1" lang="fr-F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aldes de Montbui</a:t>
            </a: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Carles Sanllehy i Girona,$cmarquès de,$d1882-197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</a:t>
            </a:r>
            <a:r>
              <a:rPr b="1" lang="it-IT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Dragonetti</a:t>
            </a:r>
            <a:r>
              <a:rPr b="1" lang="it-IT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Giacinto,$cmarchese,$d1738-18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AC96-F5A1-49BF-AB72-3E7DF421D0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naixement i mor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13000"/>
            <a:ext cx="8362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Obtingueu les dates de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9.3.2.3 i 9.3.3.3: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utilitzen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Calibri"/>
              </a:rPr>
              <a:t>guions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n lloc d'abreviatures "n." i "m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'indica una data probable mitjançant l'addició d'un signe d'interrogació "?"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només pot ser aproximat s'hi afegeix "aproximadament". No es pot utilitzar "ca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'any és incert, s'enregistren els dos anys possibles senc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4B8-074E-4002-BC11-CD8DAD977B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Dates (període d'activit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només quan és necessari per distingir una persona d'una alt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Una data o rang de dates indicatiu del període en què una persona ha estat activa en el seu camp principal d’activita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9.3.4.3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tilitzeu "actiu/activa" i "segle" en lloc d'abreviatures "fl." i "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l terme "actiu/activa" ha de constar abans del primer període d'activitat (ex.: "activa segle XII"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: X00 $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2371-4FB9-4F16-93B4-10EA1321BA7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95280" y="1484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524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900, gener 10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6 o</a:t>
            </a:r>
            <a:r>
              <a:rPr b="1" i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189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proximadament 1837-aproximadament 189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1825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mith, John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-18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hnson, Carl F.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1893-19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aca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oannes,$cactuarius,$d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ctiu segle XIII-segle XI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BEC-AF13-43B1-9EA7-6F5908D7B72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de la persona (RDA 9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n és una paraula o una frase indicativa de reialesa, de noblesa o de rang o càrrec eclesiàstic o un terme de tractament d’una persona de vocació religios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</a:t>
            </a:r>
            <a:r>
              <a:rPr b="1" i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aElisabet$bII,$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reina de la Gran Bretany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,$d1926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Qualsevol altre terme indicatiu de rang, de distinció o de càrrec és un element bàsic quan cal distingir una persona d’una altra persona amb el mateix no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s autors amb el mateix nom prefer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261880" indent="-1818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Watkins, Pat,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Rever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4168-F27A-4220-B7D8-01C64FCC54E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Forma més completa del nom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(RDA 9.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cal distingir una persona d’una altra persona amb el mateix nom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forma desenvolupada del nom és la forma completa d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'un nom representat només per una inicial o l'abreviatura de la forma escolli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ues autores amb el mateix nom prefer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izabet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Smith, Nancy E.$q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Nancy Elle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a part del nom no inclòs en la forma triada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$aCarey-Hobson,$cMrs.$q(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Mary Ann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(S'aplica l'addició opcional d'afegir la forma més completa, </a:t>
            </a:r>
            <a:r>
              <a:rPr b="1" i="1" lang="ca-ES" sz="1900" spc="-1" strike="noStrike">
                <a:solidFill>
                  <a:srgbClr val="000000"/>
                </a:solidFill>
                <a:latin typeface="Calibri"/>
              </a:rPr>
              <a:t>Concreció 19.1.4</a:t>
            </a:r>
            <a:r>
              <a:rPr b="0" i="1" lang="ca-ES" sz="19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00 $q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00 $q / opcionalment + 37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C7DF-1BB0-4569-A143-8A39E5B4E1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a designació associada amb la persona (RDA 9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r>
              <a:rPr b="0" lang="es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un sant cristià o d'un esperit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0# $aTeresa de Jesús,$c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nt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$d1515-158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Presley, Elvis,$d1935-1977$c(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sperit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el cas d’altres persones, una altra designació associada amb la persona és un element bàsic quan cal distingir una persona d’una altra persona amb el mateix no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ues autores amb el mateix nom pref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 $aAdler, Irene$c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Personatge de ficció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c / opcionalment + 36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4231-3DDF-42FA-9DFC-60D7726737E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800"/>
            </a:b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 Sexe (RDA 9.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El gènere amb el qual s’identifica una perso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vocabulari RD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femen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masculí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desconeg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termes de la llista és apropiat se'n pot proporcionar un alt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1E124-C340-4B70-8E4D-83F17B3A9CA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Llocs associat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263700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reugeu els noms dels països, els estats, les províncies, els territoris, etc., tal com s’indica a l’apèndix B (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B.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hicago, Illinois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cago, Il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arcelona,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Rectángulo"/>
          <p:cNvSpPr/>
          <p:nvPr/>
        </p:nvSpPr>
        <p:spPr>
          <a:xfrm>
            <a:off x="2843280" y="1125360"/>
            <a:ext cx="3673440" cy="131364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naixement (RDA 9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defunció (RDA 9.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País associat (RDA 9.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Lloc de residència (RDA 9.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18E3-997F-4B1B-AB1D-A99F7A812B0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On són les instrucc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per a la identificació de les persones, famílies i entitats corporatives són 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8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Directrius gener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9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pers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0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famí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Capítol 11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Identificació de les entitats corpora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2224-0B55-4E20-B5A0-659C79B5036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a persona (RDA 9.12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’adreça del lloc de residència o de treball d’una persona, l’adreça de l’empresa on treballa i/o una adreça de correu electrònic o d’intern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Box 1216, Barrière, B.C., Canada V0E 1E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timmins@doc.govt.n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100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179-9744-444F-B835-8CE07566572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filiació (RDA 9.1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grup amb el qual una persona està o ha estat afiliada per qüestions de feina, en qualitat de membre, per afinitat cultural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'enregistra el nom preferit del gr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Istituto nazionale di economia agr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afiliació de Carla Abitab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4887-76F1-47E3-B1A1-6C305ADCB8F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persona (RDA 9.1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00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Llengua que usa una persona quan escriu per publicar, per fer radiodifusió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en el terme i el codi MAR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lengües usades per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ntonio Caparró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6CB6-29DD-4975-8B17-0C4DCB6FCD1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Camp d’activitat de la person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9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Un camp d’acció, una àrea d’experiència, etc., al qual es dedica o s’ha dedicat una perso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 prefereix un terme controlat, p. ex.: LEMA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Econom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e treball o especialització</a:t>
            </a: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bià Estapé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6B5E-B64C-43E3-BAAD-0198E2CD82A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Professió o ocupació (RDA 9.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ÉS UN ELEMENT BÀSIC 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n el cas d’una persona el nom de la qual consisteix en una frase o una apel·lació que no dóna la idea d’una perso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La professió o l’ocupació és un element bàsic quan cal distingir una persona d’una altra amb el mateix nom i no es disposa de date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s prefereix un terme controlat, p. ex.: LEMAC en singu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os autor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Frommer, Paul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dues autores amb el mateix nom preferit, no es disposa de les da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1# $aHamilton, Judith$c</a:t>
            </a:r>
            <a:r>
              <a:rPr b="1" lang="ca-ES" sz="1800" spc="-1" strike="noStrike">
                <a:solidFill>
                  <a:srgbClr val="953735"/>
                </a:solidFill>
                <a:latin typeface="Courier New"/>
                <a:ea typeface="Courier New"/>
              </a:rPr>
              <a:t>(Compositor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l gènere ha de concord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MARC - Registre autoritat: X00 $c / opcionalment + 3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69873-4196-4285-9177-23A25CCC047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person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biogràfica (RDA 9. 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bast = Informació sobre la vida o la història d’una perso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lice Ann Munro(nascuda Laidlaw) és una escriptora canadenca de narracions curtes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. Ha guanyat nombrosos premis per la seva obra, inclosos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l Premi Nobel, el Man Broker International Prize i el Governor General’s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Literary Award de Canadà. Va néixer el 10 de juliol de 1931 a Wingham, Ontar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D4AD-9E15-4BAC-9430-76486A9E03C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95280" y="2276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famí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3 Rectángulo"/>
          <p:cNvSpPr/>
          <p:nvPr/>
        </p:nvSpPr>
        <p:spPr>
          <a:xfrm>
            <a:off x="971640" y="429264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</a:rPr>
              <a:t>Amb les AACR2, els noms de família no podien constituir un punt d’accés per a la catalogació descriptiva. RDA permet utilitzar el noms de família com a punt d’accés de la catalogació descriptiva si a la família se li atribueix la creació d’una ob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8575-F9AD-4A45-9508-9E91475F5E7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(RDA 10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general trieu el nom pel qual se la coneix habitualm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l cognom utilitzat pels membres de la famíl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a casa reial o d'una dinasti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nom d'un clan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consisteix en diverses parts, enregistreu com a primer element aquella part del nom sota la qual la família seria normalment ordenada en les llistes alfabètiques autoritatives en la seva llengua, el seu país de residència o el seu país d’activ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466-C2F3-44DD-AA7B-3295BB5CBB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a famíli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ria del nom prefer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Formes diferents del mateix nom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5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al considerar: completesa, llengua, escriptura no preferida, ortograf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Noms diferents de la mateixa família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6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el qual se la coneix més habitual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Preferència: recursos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ssociats amb la</a:t>
            </a:r>
            <a:r>
              <a:rPr b="0" lang="ca-ES" sz="1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amíl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 de referènc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1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de nom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10.2.2.7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anterior com a nom preferit per usar-lo amb els recursos associats amb el nom an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rieu el nom posterior com a nom preferit per usar-lo amb els recursos associats amb el nom posteri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0345-F8AF-4E20-8B48-B04EF7ACEB8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Tipus de família (RDA 10.3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a categorització o un descriptor genèric del tipus de famíli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tipus de família entre parèntesis, a continuació del nom preferi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ranson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Famíli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Donald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lan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Borbó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asa reial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(primer indicador 3)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X00 (primer indicador 3) $a / opcionalment + 3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7887-B539-4DF5-80B0-EA072036316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unts d'accés i catàlegs de referèn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CANTIC (Catàleg d'autoritats de noms i títols de Cataluny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és un punt d'accés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nou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ccepteu la forma trobada:</a:t>
            </a:r>
            <a:r>
              <a:rPr b="0" lang="ca-E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internacion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Library of Congress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thorities.loc.gov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català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de Catalunya </a:t>
            </a:r>
            <a:r>
              <a:rPr b="1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bnc.cat/lenoti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300" spc="-1" strike="noStrike">
                <a:solidFill>
                  <a:srgbClr val="000000"/>
                </a:solidFill>
                <a:latin typeface="Calibri"/>
              </a:rPr>
              <a:t>Adeqüeu la forma trobada a RDA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Àmbit estatal: Autoritats de la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Biblioteca 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atalogo.bne.es/uhtbin/authoritybrowse.cg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no es troba: S'estableix el punt d'accés autoritzat d'acord amb RDA i les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Concrecions a RDA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F477-C15E-4DD8-890A-2CA3A9052CD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 Data associada amb la famíli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(RDA 10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773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Data significativa associada amb la història d’una famíl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00 3# $aPahlavī (Dinastia 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925-197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907720" indent="-2815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$aCiurianni (Família :$d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1179-1429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X00 $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- Registre autoritat: X00 $d / opcionalment + 04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4289-AFB6-47BE-82B0-090F2B827B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oc associat amb la família (RDA 10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600200"/>
            <a:ext cx="84358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lloc on la família resideix o ha residit o amb el qual té algun tipus de relació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Filipines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 Yan (Família :$c</a:t>
            </a:r>
            <a:r>
              <a:rPr b="1" lang="ca-ES" sz="1900" spc="-1" strike="noStrike">
                <a:solidFill>
                  <a:srgbClr val="953735"/>
                </a:solidFill>
                <a:latin typeface="Courier New"/>
                <a:ea typeface="Courier New"/>
              </a:rPr>
              <a:t>Xina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(S'aplica l'addició opcional d'afegir un lloc associat si ajuda a identificar la família, </a:t>
            </a: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0.11.1.4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68200" indent="-1936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00 $c / opcionalment + 37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C880-5142-49B5-A7C5-E98FD211FE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36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Membre destacat de la família (RDA 10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cal distingir una família d’una altra família amb el mateix no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bast = Un individu ben conegut que és membre d’una famíli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 el nom en la forma usada en el punt d’accés autoritzat que representa la person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00 3# $aMedici (Casa reial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edici, Lorenzo de', 1449–1492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(S'aplica l'addició opcional d'afegir un membre destacat si ajuda a identificar la família, </a:t>
            </a: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ó 10.11.1.5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308680" indent="-2058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7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00 $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00 $g/ opcionalment + 3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CAE3-D17E-4DF6-8148-354BEE5B6D6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Ordre i puntuació (RDA 10.11.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Quan es construeix el punt d'accés autoritzat, s'afegeixen els atributs al nom de la família en aquest ordr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de família (10.11.1.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ssociada 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associat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mb l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embre destacat de la família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(10.11.1.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inclouen les addicions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sol conjunt de parèntesis, separant cada addició amb "[espai]: [espai]" (apèndix E.1.2.3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6E0D-21D7-4E72-8F59-21C3EE1047A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famílies </a:t>
            </a:r>
            <a:br>
              <a:rPr sz="2900"/>
            </a:b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29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d'autorita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ítol hereditari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7): MARC 37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8): MARC 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Història de la família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(RDA 10.9): MARC 6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C5BE-8B7B-4D3C-ADC7-9D0011BC010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EMA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permet utilitzar el noms de família com a punt d’accés de la catalogació descriptiva si a la família se li atribueix la creació d’una obra, però no son vàlids com a matè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tracta les famílies específiques, és a dir, dins d'un temps i d'un lloc específic. La LEMAC contempla el nom de la família al llarg de la seva existència i es tracta d'acord amb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Genealogia i noms de família (CM-132)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el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 Manual de la LEMA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2 Marcador de contenido"/>
          <p:cNvSpPr/>
          <p:nvPr/>
        </p:nvSpPr>
        <p:spPr>
          <a:xfrm>
            <a:off x="324000" y="4365720"/>
            <a:ext cx="8496000" cy="19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00 3#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</a:t>
            </a:r>
            <a:r>
              <a:rPr b="1" lang="es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 (Família :$g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, Narcís, 1819-1885</a:t>
            </a:r>
            <a:r>
              <a:rPr b="1" lang="ca-ES" sz="2000" spc="-1" strike="noStrike">
                <a:solidFill>
                  <a:srgbClr val="953735"/>
                </a:solidFill>
                <a:latin typeface="Calibri"/>
                <a:ea typeface="Courier New"/>
              </a:rPr>
              <a:t>)</a:t>
            </a:r>
            <a:r>
              <a:rPr b="1" lang="ca-ES" sz="2000" spc="-1" strike="noStrike">
                <a:solidFill>
                  <a:srgbClr val="376092"/>
                </a:solidFill>
                <a:latin typeface="Calibri"/>
                <a:ea typeface="Courier New"/>
              </a:rPr>
              <a:t>,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e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0 10 $aCorrespondència.$kSelecc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245 10 $a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rrespondència familiar de Narcís Monturi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8920" indent="-988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600 37 $a</a:t>
            </a:r>
            <a:r>
              <a:rPr b="1" lang="pt-BR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Monturiol(Família)</a:t>
            </a:r>
            <a:r>
              <a:rPr b="1" lang="pt-B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xEpistolaris$2lema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913B-56CA-4BBD-9AA8-8BFFD225372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852280"/>
            <a:ext cx="8229600" cy="136836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dentificació de les entitats corpor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1D56-C6EB-4D17-869D-4BFE72D49D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Què és una entitat corporativ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Glossari</a:t>
            </a:r>
            <a:r>
              <a:rPr b="0" lang="ca-ES" sz="16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d'R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Organització o grup de persones i/o d’organitzacions que s’identifica amb un nom concret i que actua, o pot actuar, com una unitat</a:t>
            </a:r>
            <a:r>
              <a:rPr b="0" i="1" lang="ca-ES" sz="32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96EBB-2848-45B0-AAB5-0AC221489F8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’entitat corporativa (RDA 11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Trieu el nom pel qual l’entitat corporativa s’identifica habitualme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més d'una forma,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vegeu RDA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11.2.2.5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hi ha un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canvi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de</a:t>
            </a:r>
            <a:r>
              <a:rPr b="0" lang="ca-ES" sz="11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 (RDA 11.2.2.6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6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Es considera que no hi ha hagut un canvi de nom, qua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les diferències són menor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i no es té informació que confirmi que hi hagi hagut un veritable canvi de nom. Es consideren diferències menor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representació de les paraules (abreviatura, sigles o símbols, etc.)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una preposició, article, etc.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canvi en la puntuació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'addició, omissió, o la variació de la freqüència d'una paraula en un nom de cong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B069-6203-4DE1-BC3E-729D37B314F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iferents formes (RDA 11.2.2.5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362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i les formes variants apareixen a la font preferida, trieu (en aquest ordre)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que es present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rmalment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a forma del nom més habitual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una forma breu del nom (pot ser una sigla o un acrònim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Llengu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.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té més d'una llengua oficial i una d'elles és el català, es tria la forma en català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11.2.2.5.2 Alternativa.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quan el nom d'una entitat internacional figura anomenada formalment en les fonts principals d'informació dels recursos associats en català, o en obres de referència catalanes fiab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Noms convencion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una entitat s’identifica sovint amb un nom convencional en les fonts de referència en la seva pròpia llengua, trieu aquest nom convencional com a nom prefer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15D2B-9CB4-443E-BCAF-7FD39A7FA9B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Període de transic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ccepteu un punt d'accés autoritzat existent al CCUC, CANTIC o de la BC, 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ncara que no estigui d'acord amb RDA. A partir de l’estiu de 2017 s'iniciarà el procés de canvi i revisió tant dels registres d'autoritat com dels bibliogràfics associ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3400" spc="-1" strike="noStrike" u="sng">
                <a:solidFill>
                  <a:srgbClr val="000000"/>
                </a:solidFill>
                <a:uFillTx/>
                <a:latin typeface="Calibri"/>
              </a:rPr>
              <a:t>No creeu punts d'accés duplicats per adequar-los a RDA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65A4-83D8-472D-8079-3078A53B90A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8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95280" y="1268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Institut Valencià d’Art Mod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stituto Valenciano de Arte Modern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L'entitat té com a llengües oficials el català i el castellà</a:t>
            </a:r>
            <a:r>
              <a:rPr b="1" i="1" lang="ca-E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Amnistia Internac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esty Internat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mnistía Internacio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ntitat internacional, el català és llengua ofici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Museo del Pra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 Pintura y Escultu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useo Nacional del Pr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 Museo de Pinturas y Escultur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Nom convencional, diferent del nom real o de l’ofici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1F9E-C787-4AFA-8594-96FEBE3C37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nvi de nom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2.2.6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el nom d'una entitat corporativa ha canviat (incloent canvis d'una llengua a una altra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anterior per als recursos associats amb el nom an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rieu el nom posterior per als recursos associats amb el nom poster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L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relació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tre els noms anteriors i posteriors s'enregistra en els camps 5XX dels respectius registres d'autorita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DACE-A421-4C03-9857-3A14DEF91FB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ltres consideracion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ó 11.2.2.8 Altern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. S'omet u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article inicial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’ha d’accedir al nom per mitjà de l’articl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els termes que indiquen constitució 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societat comercial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(abreviatures com: S.A, Ltd.), tipus de societat, un terme que indica que l’entitat corporativa pertany a l’Estat,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si són una part integrant del nom o són necessaris per aclarir que es tracta del nom d’una entitat corporativa (RDA 11.2.2.10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S'ometen </a:t>
            </a:r>
            <a:r>
              <a:rPr b="0" lang="ca-ES" sz="2500" spc="-1" strike="noStrike" u="sng">
                <a:solidFill>
                  <a:srgbClr val="000000"/>
                </a:solidFill>
                <a:uFillTx/>
                <a:latin typeface="Calibri"/>
              </a:rPr>
              <a:t>del nom d'un congré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, etc., les indicacions del número, l’any o els anys de convocatòria, etc. (RDA 11.2.2.11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500" spc="-1" strike="noStrike">
                <a:solidFill>
                  <a:srgbClr val="000000"/>
                </a:solidFill>
                <a:latin typeface="Calibri"/>
              </a:rPr>
              <a:t>(Es donen com addició, però no en el nom del congré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4896-8001-45D7-901F-2C921561236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Exemples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55736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Washington Post Compa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Los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Angeles Philharmonic Orches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Compañía Internacional de Map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añía Internacional de Mapas S.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Films </a:t>
            </a:r>
            <a:r>
              <a:rPr b="1" lang="ca-ES" sz="2400" spc="-1" strike="noStrike" u="sng">
                <a:solidFill>
                  <a:srgbClr val="376092"/>
                </a:solidFill>
                <a:uFillTx/>
                <a:latin typeface="Courier New"/>
                <a:ea typeface="Courier New"/>
              </a:rPr>
              <a:t>Incorpora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th Calcutta Film Festi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7D00-2F26-4746-876A-921923EBF26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m de l'entitat corporativa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titats subordinades i relacion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des subordinadament (RDA 11.2.2.1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divisió directa o indirecta (RDA 11.2.2.15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àrrecs governamentals, cossos legislatius, tribunals, forces armades, ambaixades, consolats, delegacions en organitzacions internacionals i intergovernamentals (RDA 11.2.2.18- 11.2.2.2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s d’entitats i de càrrecs religiosos (RDA 11.2.2.25 -11.2.2.29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E663-04FC-4621-85B3-A4F208D8381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 Lloc associat amb l’entitat (RDA 1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nom d’un lloc associat amb l’entitat corporativa si cal distingir un punt d’accés autoritzat d’un altr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ot ser un país, estat, província o localita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Xil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2567520" indent="-22172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Sociedad Nacional de Agricultur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Perú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s'aplica l'apèndix B.11, els estats, províncies, etc. no s'abreu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- Registre autoritat: X10 $a / opcionalment + 37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EFCD-65C3-4B35-AC67-404214E3CD1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Data associada amb l’entitat (RDA 11.4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036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Afegiu una data o dates associades a l'entitat, si cal per distingi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punt d'accés d'un altre,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quan el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lloc o la institució associada no estan disponibl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77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Double Image (Grup musical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1989–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04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90D1-4AF8-4274-849D-F65542FBA19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stitució associada (RDA 1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 el nom d'una institució associad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l nom de la institució s’associa normalment amb el nom de l’entitat corporativa. Preferiu aquesta nom en lloc del nom de la localita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Instituto de Ecología y Sistemática (</a:t>
            </a:r>
            <a:r>
              <a:rPr b="1" lang="es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Academia de Ciencias de Cuba</a:t>
            </a:r>
            <a:r>
              <a:rPr b="1" lang="es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7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3007-171C-4867-8B4C-B256340D1AC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'entitat corporativa (RDA 11.7.1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fegiu</a:t>
            </a:r>
            <a:r>
              <a:rPr b="0" lang="ca-ES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n terme que designi el tipus d’entitat corporativ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cal distingir un punt d’accés autoritzat d’un al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Un nom que no transmet la idea d’una entitat corporativ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'afegeix un terme en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català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2# $aJohann Traeg</a:t>
            </a:r>
            <a:r>
              <a:rPr b="0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Firma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979F-14BA-4029-93D3-1A4E8E7A58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jurisdicció (RDA 11.7.1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fegiu el tipus de jurisdicció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i és</a:t>
            </a: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ecessari per distingir un punt d'accés d'un altre. Afegiu el terme al nom d’un govern que no sigui el d’una ciutat o un po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Cork (Irlanda : 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Comt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Ducat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Westfàlia (</a:t>
            </a:r>
            <a:r>
              <a:rPr b="1" lang="ca-ES" sz="2200" spc="-1" strike="noStrike">
                <a:solidFill>
                  <a:srgbClr val="953735"/>
                </a:solidFill>
                <a:latin typeface="Courier New"/>
                <a:ea typeface="Courier New"/>
              </a:rPr>
              <a:t>Regne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8A77-6C8A-41F9-BA19-AB42A9AC8F4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olítica: Elements identificadors addicion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3964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s elements identificadors addicionals són ELEMENTS BÀSICS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quan s'han d'enregistrar per distingir una persona, família o entitat corporativa d'una altr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RDA dóna opcions per a enregistrar-los: com a elements separats, com a parts del punt d’accés, o de totes dues maneres (RDA 0.6.7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Política a segu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empre s'han d'enregistrar com a addicions als punts d'accés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si cal diferenciar-los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És opcional enregistrar-los com a elements separats en els registres d'autorit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48A-6200-42B7-ADDF-47E61F3F97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ltra designació associada amb l’entitat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7.1.6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Si cap dels elements d’</a:t>
            </a: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11.13.1.2–11.13.1.6 no és suficient o apropiat per distingir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tre els punts d’accés autoritzats de dues o més entitats, incloeu-hi una designació adequad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0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X10 1# $aIndiana (</a:t>
            </a:r>
            <a:r>
              <a:rPr b="1" lang="ca-ES" sz="2400" spc="-1" strike="noStrike">
                <a:solidFill>
                  <a:srgbClr val="953735"/>
                </a:solidFill>
                <a:latin typeface="Courier New"/>
                <a:ea typeface="Courier New"/>
              </a:rPr>
              <a:t>Cuirassat : BB-58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37609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X10 $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 - Registre autoritat: X10 $a / opcionalment + 36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912-B379-483D-85B3-E2F6ADEBBB0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Llengua de l’entitat corporativa (RDA 11.8)</a:t>
            </a:r>
            <a:r>
              <a:rPr b="0" i="1" lang="ca-ES" sz="2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lengua que usa una entitat corporativa en les seves comunicac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s prefereixen el terme i el codi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a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Castellà </a:t>
            </a:r>
            <a:r>
              <a:rPr b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 codi MARC =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sp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C1C9-BF25-47DD-9C77-0A90110DAFA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Adreça de l’entitat corporativa (RDA 11.9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 - Registre autoritat: opcionalment 37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 = La seu central o les oficines d’una entitat corporativa, o una adreça de correu electrònic o d’internet de l’entit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mbustia@bnc.c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orreu electrònic de la 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C22F-5EF9-4800-84AE-AF8092F25A1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Camp d'activitat (RDA 11.10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37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Un camp d’activitat al qual es dedica una entitat corporativa i/o l’àrea de competència, de responsabilitat, de jurisdicció, etc., de l’entit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s prefereix un vocabulari controlat, p. ex.: LEMA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i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Art moder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camp d'activitat de la Fundació Suño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CF71-1333-486B-8152-4B6D6904918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</a:t>
            </a:r>
            <a:r>
              <a:rPr b="0" lang="ca-ES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 Història corporativa (RDA 11.11)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</a:t>
            </a:r>
            <a:r>
              <a:rPr b="0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Registre bibliogràfic: </a:t>
            </a:r>
            <a:r>
              <a:rPr b="1" lang="ca-ES" sz="30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 - Registre autoritat: opcionalment 67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Informació històrica sobre l’entitat corporativ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La nota ha de ser concisa però completa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a Salem Female Academy es va fundar originalment el 1772 i va ser constituïda com a Female Academy and College el 1866. El 1907 canvia el nom a Salem Academy and College, i el 1912 la institució es divideix en Salem College i Salem Acade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5E12-424A-479E-BA56-B085442A82E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Atributs de les entitats corporatives </a:t>
            </a:r>
            <a:br>
              <a:rPr sz="2900"/>
            </a:br>
            <a:r>
              <a:rPr b="1" lang="pt-BR" sz="2900" spc="-1" strike="noStrike">
                <a:solidFill>
                  <a:srgbClr val="000000"/>
                </a:solidFill>
                <a:latin typeface="Calibri"/>
              </a:rPr>
              <a:t> Número, data i lloc d’un congrés, etc.</a:t>
            </a:r>
            <a:br>
              <a:rPr sz="2900"/>
            </a:br>
            <a:r>
              <a:rPr b="1" lang="ca-ES" sz="2900" spc="-1" strike="noStrike">
                <a:solidFill>
                  <a:srgbClr val="000000"/>
                </a:solidFill>
                <a:latin typeface="Calibri"/>
              </a:rPr>
              <a:t>(RDA 11.13.1.8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fegiu els elements següents al nom d’un congrés, etc., si s’apliquen i es poden determinar fàcilment. Incloeu-los en l’ordre següent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) el número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b) la data del congrés, et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) el lloc del congrés, etc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Australian Bioethics Association.$bNational Conference$n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6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:$d1998 :$cHobart, Tasmàni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0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bibliogràfic: 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X11 $n $d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- Registre autoritat: X1X $n $d $c / opcionalment + 046 +37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16E-89A0-41ED-8805-7DDF754AF7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.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3964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, el nom d'un congrés, etc. no necessita tenir una paraula específica que indiqui que és un congrés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concreció a 21.1B1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Pot ser que el punt d'accés autoritzat no doni la idea d'entitat corporativa i sigui necessari afegir una addició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ca-E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Ciencia y Tecnología (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ngrés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no distingeix entre congressos, exposicion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 diferència d’AACR2 no s’omet del nom la periodicitat, però sí s’ometen l’any o els anys de convocatò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Annual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Symposium on Sea Turtle Biology and Conserv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X11 2# $a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Expo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$d(1992 :$cSevilla, Andalusi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no </a:t>
            </a:r>
            <a:r>
              <a:rPr b="0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'9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73160" indent="-1731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81A2-7346-471F-92D7-4EBB7BCD6E3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grés, etc </a:t>
            </a:r>
            <a:br>
              <a:rPr sz="3200"/>
            </a:b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Canvis respecte AACR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mb RDA s'afegeix el lloc del congrés, tot i que formi part del n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Salzburger Festspiele$d(2010 : 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Salzbur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, Àustri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i les sessions d’un congrés, etc., s’han celebrat en dues o més localitzacions, s’hi afegeix cada un dels noms de lloc, separats per punt i coma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(no existeix la regla de tr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X11 2# $aDanish-Swedish Analysis Seminar $d(1995 :$c</a:t>
            </a:r>
            <a:r>
              <a:rPr b="1" lang="ca-ES" sz="2000" spc="-1" strike="noStrike">
                <a:solidFill>
                  <a:srgbClr val="953735"/>
                </a:solidFill>
                <a:latin typeface="Courier New"/>
                <a:ea typeface="Courier New"/>
              </a:rPr>
              <a:t>Copenhaguen, Dinamarca; Lund, Suècia; París, Franç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S’enregistra "En línia" com a lloc en el cas d’un congrés que es celebra en lí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FA3B-A9F3-4C1B-9808-19A1860E172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dentificació dels llocs (RDA 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96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Els noms de llocs s’usen habitualment de les maneres segü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 noms de governs (RDA 11.2.2.5.4) i de comunitats que no són gov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títols d’obres (RDA 6.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’entitats corporatives per diferenciar entre entitats amb el mateix nom (RDA 11.13.1.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com addicions als noms de congressos (RDA 11.13.1.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alibri"/>
              </a:rPr>
              <a:t>Concrecions al capítol 16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Fonts: Per determinar la </a:t>
            </a:r>
            <a:r>
              <a:rPr b="0" lang="ca-ES" sz="2000" spc="-1" strike="noStrike" u="sng">
                <a:solidFill>
                  <a:srgbClr val="000000"/>
                </a:solidFill>
                <a:uFillTx/>
                <a:latin typeface="Calibri"/>
              </a:rPr>
              <a:t>form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, per ordre de preferència: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Gran enciclopèdia catalan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Atles universal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2000"/>
            </a:b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Nomenclàtor oficial de toponímia major de Catalunya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No apliqueu l'apèndix B.11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Noms d’alguns països, estats, províncies, territoris, etc. 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xcepte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: RSFSR, UR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3A92-BA23-4A14-BFDF-77E113FDE15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9242-D3B0-4AF2-AD4F-41498D0E3C9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erminolog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Perso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individu o una identitat establerta per un individu (ja sigui sol o en col·laboració amb un o més individus)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a paraula, un caràcter o a un grup de paraules i/o de caràcters pel qual es coneix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a persona, una família o una entitat corporativ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om prefer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un nom o una forma de nom triat per identificar una persona, una família o una entitat corporativa"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ase per al punt d'accés autoritza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Variant de no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"un nom o una forma de nom pel qual es coneix una persona, una família o una entitat corporativa i que difereix del nom o de la forma de nom triat com a nom preferit d’aquesta persona, família o entitat corporativ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D08-BAEF-457D-8DB6-ACED45278F1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ls noms (RDA 8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Majúscule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Números expressats com a xifres o com a paraule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 general, en la forma en què figuren a la font d’informació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ccents i altres signes diacrítics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: afegiu-los si és segur que són part integrant d’un nom. Seguiu les instruccions de l’apèndix A (per al català: </a:t>
            </a:r>
            <a:r>
              <a:rPr b="1" i="1" lang="ca-ES" sz="2500" spc="-1" strike="noStrike">
                <a:solidFill>
                  <a:srgbClr val="000000"/>
                </a:solidFill>
                <a:latin typeface="Calibri"/>
              </a:rPr>
              <a:t>Concrecions Apèndix A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Guionets: 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retingueu un guionet entre els noms de pila si la persona fa servir el guio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Espaiament de les inicials i els acrònim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ersones: deixeu un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titats corporatives: no deixeu cap espai entre les lletr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Abreviacions: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Apliqueu les instruccions de l’apèndix B.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56F9-D193-418E-98C0-44DE1A7595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rectrius general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unts d'accés autoritzats (RDA 8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Utilitzeu el nom preferit com a 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i dues o més entitats tenen noms idèntics o similars, incloeu un o més elements identificadors addicion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Les instruccions sobre com construir el punt d'accés autoritzat es troben al final dels capítols 9, 10, 1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3464-5DA4-4431-A15C-CFDEEFBAE8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9T17:32:27Z</dcterms:created>
  <dc:creator>Biblioteca de Catalunya</dc:creator>
  <dc:description/>
  <dc:language>en-US</dc:language>
  <cp:lastModifiedBy>vilsnb</cp:lastModifiedBy>
  <dcterms:modified xsi:type="dcterms:W3CDTF">2017-04-21T07:58:03Z</dcterms:modified>
  <cp:revision>326</cp:revision>
  <dc:subject/>
  <dc:title>Diapositiva 1</dc:title>
</cp:coreProperties>
</file>