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95.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8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A3A1-65B1-4E84-98BD-CB701AEA00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 Target="../slides/slide43.xml"/><Relationship Id="rId3"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hyperlink" Target="http://authorities.loc.gov/" TargetMode="External"/><Relationship Id="rId4" Type="http://schemas.openxmlformats.org/officeDocument/2006/relationships/slide" Target="../slides/slide9.xml"/><Relationship Id="rId5"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90720" y="766800"/>
            <a:ext cx="5118120" cy="3838680"/>
          </a:xfrm>
          <a:prstGeom prst="rect">
            <a:avLst/>
          </a:prstGeom>
          <a:ln w="0">
            <a:noFill/>
          </a:ln>
        </p:spPr>
      </p:sp>
      <p:sp>
        <p:nvSpPr>
          <p:cNvPr id="4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6A35-76EF-4804-B7E0-51B6E9E631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90720" y="766800"/>
            <a:ext cx="5118120" cy="3838680"/>
          </a:xfrm>
          <a:prstGeom prst="rect">
            <a:avLst/>
          </a:prstGeom>
          <a:ln w="0">
            <a:noFill/>
          </a:ln>
        </p:spPr>
      </p:sp>
      <p:sp>
        <p:nvSpPr>
          <p:cNvPr id="4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958E-220D-436C-81B0-F512D1FC307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90720" y="766800"/>
            <a:ext cx="5118120" cy="3838680"/>
          </a:xfrm>
          <a:prstGeom prst="rect">
            <a:avLst/>
          </a:prstGeom>
          <a:ln w="0">
            <a:noFill/>
          </a:ln>
        </p:spPr>
      </p:sp>
      <p:sp>
        <p:nvSpPr>
          <p:cNvPr id="4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identificadors addicionals – Polít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elements de les obres són bàsics quan es consideren necessaris per solucionar conflictes. RDA indica a 0.6.6 que es poden enregistrar com a elements separats, com a parts del punt d’accés, o de totes dues mane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mpre s'han de enregistrar com a addicions als punts d'accé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opcional enregistrar-los com a elements separats en els registres d'autoritat amb els nous camps MARC (p. ex., 046, 37X, 38X,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E4C1B-FFF7-48EB-B340-5D9B81A9FC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990720" y="766800"/>
            <a:ext cx="5118120" cy="3838680"/>
          </a:xfrm>
          <a:prstGeom prst="rect">
            <a:avLst/>
          </a:prstGeom>
          <a:ln w="0">
            <a:noFill/>
          </a:ln>
        </p:spPr>
      </p:sp>
      <p:sp>
        <p:nvSpPr>
          <p:cNvPr id="4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engua i escriptura - Polí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dóna opcions per a la llengua i l'escriptura del títol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La</a:t>
            </a:r>
            <a:r>
              <a:rPr b="1" i="1" lang="ca-ES" sz="1200" spc="-1" strike="noStrike">
                <a:solidFill>
                  <a:srgbClr val="000000"/>
                </a:solidFill>
                <a:latin typeface="Calibri"/>
              </a:rPr>
              <a:t> Concreció 5.4 Alternativa. </a:t>
            </a:r>
            <a:r>
              <a:rPr b="0" i="1" lang="ca-ES" sz="1200" spc="-1" strike="noStrike">
                <a:solidFill>
                  <a:srgbClr val="000000"/>
                </a:solidFill>
                <a:latin typeface="Calibri"/>
              </a:rPr>
              <a:t>S'aplica</a:t>
            </a:r>
            <a:r>
              <a:rPr b="0" lang="ca-ES" sz="1200" spc="-1" strike="noStrike">
                <a:solidFill>
                  <a:srgbClr val="000000"/>
                </a:solidFill>
                <a:latin typeface="Calibri"/>
              </a:rPr>
              <a:t>.</a:t>
            </a:r>
            <a:r>
              <a:rPr b="1" i="1" lang="ca-ES" sz="1200" spc="-1" strike="noStrike">
                <a:solidFill>
                  <a:srgbClr val="000000"/>
                </a:solidFill>
                <a:latin typeface="Calibri"/>
              </a:rPr>
              <a:t> </a:t>
            </a:r>
            <a:r>
              <a:rPr b="0" lang="ca-ES" sz="1200" spc="-1" strike="noStrike">
                <a:solidFill>
                  <a:srgbClr val="000000"/>
                </a:solidFill>
                <a:latin typeface="Calibri"/>
              </a:rPr>
              <a:t>S'enregistren en escriptura llatina, tant en els punts d'accés autoritzats dels registres d'autoritat com dels registres bibliogràfics. </a:t>
            </a:r>
            <a:endParaRPr b="0" lang="en-US" sz="1200" spc="-1" strike="noStrike">
              <a:solidFill>
                <a:srgbClr val="000000"/>
              </a:solidFill>
              <a:latin typeface="Calibri"/>
            </a:endParaRPr>
          </a:p>
        </p:txBody>
      </p:sp>
      <p:sp>
        <p:nvSpPr>
          <p:cNvPr id="4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F063-B1C7-46D9-AAAA-C5354E4F24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90720" y="766800"/>
            <a:ext cx="5118120" cy="3838680"/>
          </a:xfrm>
          <a:prstGeom prst="rect">
            <a:avLst/>
          </a:prstGeom>
          <a:ln w="0">
            <a:noFill/>
          </a:ln>
        </p:spPr>
      </p:sp>
      <p:sp>
        <p:nvSpPr>
          <p:cNvPr id="4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sponsable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fa difícil parlar d'identificar una obra sense fer referència al seu responsable. Ara veurem quan una persona, família, o entitat  corporativa és el responsable del contingut intel·lectual o artístic d'una obra (és a dir, el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D332-BC8A-4C1C-ACF6-D1CEF09E1F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90720" y="766800"/>
            <a:ext cx="5118120" cy="3838680"/>
          </a:xfrm>
          <a:prstGeom prst="rect">
            <a:avLst/>
          </a:prstGeom>
          <a:ln w="0">
            <a:noFill/>
          </a:ln>
        </p:spPr>
      </p:sp>
      <p:sp>
        <p:nvSpPr>
          <p:cNvPr id="4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4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4DF8-15FC-491D-9DB2-ADDFFE1ADD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90720" y="766800"/>
            <a:ext cx="5118120" cy="3838680"/>
          </a:xfrm>
          <a:prstGeom prst="rect">
            <a:avLst/>
          </a:prstGeom>
          <a:ln w="0">
            <a:noFill/>
          </a:ln>
        </p:spPr>
      </p:sp>
      <p:sp>
        <p:nvSpPr>
          <p:cNvPr id="4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1B265-818C-4FC2-AB99-0635C202854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90720" y="766800"/>
            <a:ext cx="5118120" cy="3838680"/>
          </a:xfrm>
          <a:prstGeom prst="rect">
            <a:avLst/>
          </a:prstGeom>
          <a:ln w="0">
            <a:noFill/>
          </a:ln>
        </p:spPr>
      </p:sp>
      <p:sp>
        <p:nvSpPr>
          <p:cNvPr id="4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19.2 el creador és un ELEMENT BÀS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vegades hi ha més d'un creador. Quan tots els creadors fan la mateixa funció (</a:t>
            </a:r>
            <a:r>
              <a:rPr b="0" lang="es-ES" sz="1200" spc="-1" strike="noStrike">
                <a:solidFill>
                  <a:srgbClr val="000000"/>
                </a:solidFill>
                <a:latin typeface="Calibri"/>
              </a:rPr>
              <a:t>per </a:t>
            </a:r>
            <a:r>
              <a:rPr b="0" lang="ca-ES" sz="1200" spc="-1" strike="noStrike">
                <a:solidFill>
                  <a:srgbClr val="000000"/>
                </a:solidFill>
                <a:latin typeface="Calibri"/>
              </a:rPr>
              <a:t>exemple, una col·laboració entre dos escriptors) s'ha de determinar si hi ha algun que tingui la responsabilitat principal indicada, en aquest cas només es requereix el mencionat en primer lloc. Si la responsabilitat principal no està indicada, només es requereix el creador mencionat en primer llo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lang="ca-ES" sz="1200" spc="-1" strike="noStrike">
                <a:solidFill>
                  <a:srgbClr val="000000"/>
                </a:solidFill>
                <a:latin typeface="Calibri"/>
              </a:rPr>
              <a:t> </a:t>
            </a:r>
            <a:r>
              <a:rPr b="1" i="1" lang="ca-ES" sz="1200" spc="-1" strike="noStrike">
                <a:solidFill>
                  <a:srgbClr val="000000"/>
                </a:solidFill>
                <a:latin typeface="Calibri"/>
              </a:rPr>
              <a:t>Concreció 19.</a:t>
            </a:r>
            <a:r>
              <a:rPr b="1" lang="ca-ES" sz="1200" spc="-1" strike="noStrike">
                <a:solidFill>
                  <a:srgbClr val="000000"/>
                </a:solidFill>
                <a:latin typeface="Calibri"/>
              </a:rPr>
              <a:t>2 </a:t>
            </a:r>
            <a:r>
              <a:rPr b="0" lang="ca-ES" sz="1200" spc="-1" strike="noStrike">
                <a:solidFill>
                  <a:srgbClr val="000000"/>
                </a:solidFill>
                <a:latin typeface="Calibri"/>
              </a:rPr>
              <a:t>indica que queda a judici del catalogador elaborar altres punts d'accés d'autoritats addicionals, a més del princip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onsulteu l'</a:t>
            </a:r>
            <a:r>
              <a:rPr b="1" lang="ca-ES" sz="1200" spc="-1" strike="noStrike">
                <a:solidFill>
                  <a:srgbClr val="000000"/>
                </a:solidFill>
                <a:latin typeface="Calibri"/>
              </a:rPr>
              <a:t>apèndix I.2.1 </a:t>
            </a:r>
            <a:r>
              <a:rPr b="0" lang="ca-ES" sz="1200" spc="-1" strike="noStrike">
                <a:solidFill>
                  <a:srgbClr val="000000"/>
                </a:solidFill>
                <a:latin typeface="Calibri"/>
              </a:rPr>
              <a:t>veureu que es descriuen els designadors de relacions usats per als creadors; us podeu fer una idea de les funcions que es consideren pròpies dels creadors).</a:t>
            </a:r>
            <a:endParaRPr b="0" lang="en-US" sz="1200" spc="-1" strike="noStrike">
              <a:solidFill>
                <a:srgbClr val="000000"/>
              </a:solidFill>
              <a:latin typeface="Calibri"/>
            </a:endParaRPr>
          </a:p>
        </p:txBody>
      </p:sp>
      <p:sp>
        <p:nvSpPr>
          <p:cNvPr id="4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C684-E751-4F6D-8369-0061B59B6F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90720" y="766800"/>
            <a:ext cx="5118120" cy="3838680"/>
          </a:xfrm>
          <a:prstGeom prst="rect">
            <a:avLst/>
          </a:prstGeom>
          <a:ln w="0">
            <a:noFill/>
          </a:ln>
        </p:spPr>
      </p:sp>
      <p:sp>
        <p:nvSpPr>
          <p:cNvPr id="4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 els contribuïd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a:t>
            </a:r>
            <a:r>
              <a:rPr b="1" lang="ca-ES" sz="1200" spc="-1" strike="noStrike">
                <a:solidFill>
                  <a:srgbClr val="000000"/>
                </a:solidFill>
                <a:latin typeface="Calibri"/>
              </a:rPr>
              <a:t>contribuïdor </a:t>
            </a:r>
            <a:r>
              <a:rPr b="0" lang="ca-ES" sz="1200" spc="-1" strike="noStrike">
                <a:solidFill>
                  <a:srgbClr val="000000"/>
                </a:solidFill>
                <a:latin typeface="Calibri"/>
              </a:rPr>
              <a:t>és una persona, una família o una entitat corporativa que fa una contribució </a:t>
            </a:r>
            <a:r>
              <a:rPr b="1" lang="ca-ES" sz="1200" spc="-1" strike="noStrike" u="sng">
                <a:solidFill>
                  <a:srgbClr val="000000"/>
                </a:solidFill>
                <a:uFillTx/>
                <a:latin typeface="Calibri"/>
              </a:rPr>
              <a:t>a una 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ontribuïdors inclouen els editors literaris, els traductors, els arranjadors de música, els intèrpret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els contribuïdors es troben en el </a:t>
            </a:r>
            <a:r>
              <a:rPr b="1" lang="ca-ES" sz="1200" spc="-1" strike="noStrike">
                <a:solidFill>
                  <a:srgbClr val="000000"/>
                </a:solidFill>
                <a:latin typeface="Calibri"/>
              </a:rPr>
              <a:t>capítol 20 </a:t>
            </a:r>
            <a:r>
              <a:rPr b="0" lang="ca-ES" sz="1200" spc="-1" strike="noStrike">
                <a:solidFill>
                  <a:srgbClr val="000000"/>
                </a:solidFill>
                <a:latin typeface="Calibri"/>
              </a:rPr>
              <a:t>(Si consulteu  l'</a:t>
            </a:r>
            <a:r>
              <a:rPr b="1" lang="ca-ES" sz="1200" spc="-1" strike="noStrike">
                <a:solidFill>
                  <a:srgbClr val="000000"/>
                </a:solidFill>
                <a:latin typeface="Calibri"/>
              </a:rPr>
              <a:t>apèndix I.3.1 </a:t>
            </a:r>
            <a:r>
              <a:rPr b="0" lang="ca-ES" sz="1200" spc="-1" strike="noStrike">
                <a:solidFill>
                  <a:srgbClr val="000000"/>
                </a:solidFill>
                <a:latin typeface="Calibri"/>
              </a:rPr>
              <a:t>veureu que es descriuen els designadors de relacions usats per als col·laboradors; us podeu fer una idea de les funcions que es consideren pròpies de 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F185-5D31-48AE-A964-1344C17A4E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90720" y="766800"/>
            <a:ext cx="5118120" cy="3838680"/>
          </a:xfrm>
          <a:prstGeom prst="rect">
            <a:avLst/>
          </a:prstGeom>
          <a:ln w="0">
            <a:noFill/>
          </a:ln>
        </p:spPr>
      </p:sp>
      <p:sp>
        <p:nvSpPr>
          <p:cNvPr id="4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reador - Canvis respecte a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dos canvis significatius respecte a les AACR2:</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hi ha la "regla de tres" per identificar l'obra només pel seu títol preferit quan hi ha més de tres creadors; l'impacte d'aquest canvi és que hi haurà moltes més obres identificades pel seu creador + títol preferit.</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intèrpret d'obres de diferents compositors, presentades en un enregistrament sonor, no és considerat automàticament el creador; l'impacte d'aquest canvi és que el catalogador necessitarà saber si l'intèrpret té la responsabilitat de la creació de les obres, o no.</a:t>
            </a:r>
            <a:endParaRPr b="0" lang="en-US" sz="1200" spc="-1" strike="noStrike">
              <a:solidFill>
                <a:srgbClr val="000000"/>
              </a:solidFill>
              <a:latin typeface="Calibri"/>
            </a:endParaRPr>
          </a:p>
        </p:txBody>
      </p:sp>
      <p:sp>
        <p:nvSpPr>
          <p:cNvPr id="4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D38F-AC12-49AC-8F8E-3E3EA936664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90720" y="766800"/>
            <a:ext cx="5118120" cy="3838680"/>
          </a:xfrm>
          <a:prstGeom prst="rect">
            <a:avLst/>
          </a:prstGeom>
          <a:ln w="0">
            <a:noFill/>
          </a:ln>
        </p:spPr>
      </p:sp>
      <p:sp>
        <p:nvSpPr>
          <p:cNvPr id="4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dors i modificadors com a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els FRBR i amb el que estableixen les RDA </a:t>
            </a:r>
            <a:r>
              <a:rPr b="1" lang="ca-ES" sz="1200" spc="-1" strike="noStrike">
                <a:solidFill>
                  <a:srgbClr val="000000"/>
                </a:solidFill>
                <a:latin typeface="Calibri"/>
              </a:rPr>
              <a:t>19.2.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compilació d'una obra addicional </a:t>
            </a:r>
            <a:r>
              <a:rPr b="0" lang="ca-ES" sz="1200" spc="-1" strike="noStrike">
                <a:solidFill>
                  <a:srgbClr val="000000"/>
                </a:solidFill>
                <a:latin typeface="Calibri"/>
              </a:rPr>
              <a:t>pot ser considerada </a:t>
            </a:r>
            <a:r>
              <a:rPr b="0" i="1" lang="ca-ES" sz="1200" spc="-1" strike="noStrike">
                <a:solidFill>
                  <a:srgbClr val="000000"/>
                </a:solidFill>
                <a:latin typeface="Calibri"/>
              </a:rPr>
              <a:t>creadora </a:t>
            </a:r>
            <a:r>
              <a:rPr b="0" lang="ca-ES" sz="1200" spc="-1" strike="noStrike">
                <a:solidFill>
                  <a:srgbClr val="000000"/>
                </a:solidFill>
                <a:latin typeface="Calibri"/>
              </a:rPr>
              <a:t>de la compilació </a:t>
            </a:r>
            <a:r>
              <a:rPr b="0" i="1" lang="ca-ES" sz="1200" spc="-1" strike="noStrike">
                <a:solidFill>
                  <a:srgbClr val="000000"/>
                </a:solidFill>
                <a:latin typeface="Calibri"/>
              </a:rPr>
              <a:t>si </a:t>
            </a:r>
            <a:r>
              <a:rPr b="0" lang="ca-ES" sz="1200" spc="-1" strike="noStrike">
                <a:solidFill>
                  <a:srgbClr val="000000"/>
                </a:solidFill>
                <a:latin typeface="Calibri"/>
              </a:rPr>
              <a:t>la selecció, l'arranjament, l'edició, etc., del contingut de la compilació, efectivament té com a resultat la creació d'una </a:t>
            </a:r>
            <a:r>
              <a:rPr b="0" i="1" lang="ca-ES" sz="1200" spc="-1" strike="noStrike">
                <a:solidFill>
                  <a:srgbClr val="000000"/>
                </a:solidFill>
                <a:latin typeface="Calibri"/>
              </a:rPr>
              <a:t>nova obra </a:t>
            </a:r>
            <a:r>
              <a:rPr b="0" lang="ca-ES" sz="1200" spc="-1" strike="noStrike">
                <a:solidFill>
                  <a:srgbClr val="000000"/>
                </a:solidFill>
                <a:latin typeface="Calibri"/>
              </a:rPr>
              <a:t>(per exemple, el compilador d'una bibliograf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persona, família o entitat corporativa responsable de la </a:t>
            </a:r>
            <a:r>
              <a:rPr b="0" i="1" lang="ca-ES" sz="1200" spc="-1" strike="noStrike">
                <a:solidFill>
                  <a:srgbClr val="000000"/>
                </a:solidFill>
                <a:latin typeface="Calibri"/>
              </a:rPr>
              <a:t>modificació d'una obra anterior </a:t>
            </a:r>
            <a:r>
              <a:rPr b="0" lang="ca-ES" sz="1200" spc="-1" strike="noStrike">
                <a:solidFill>
                  <a:srgbClr val="000000"/>
                </a:solidFill>
                <a:latin typeface="Calibri"/>
              </a:rPr>
              <a:t>que canvia </a:t>
            </a:r>
            <a:r>
              <a:rPr b="0" i="1" lang="ca-ES" sz="1200" spc="-1" strike="noStrike">
                <a:solidFill>
                  <a:srgbClr val="000000"/>
                </a:solidFill>
                <a:latin typeface="Calibri"/>
              </a:rPr>
              <a:t>substancialment </a:t>
            </a:r>
            <a:r>
              <a:rPr b="0" lang="ca-ES" sz="1200" spc="-1" strike="noStrike">
                <a:solidFill>
                  <a:srgbClr val="000000"/>
                </a:solidFill>
                <a:latin typeface="Calibri"/>
              </a:rPr>
              <a:t>la naturalesa o el contingut de l'obra original, es considera </a:t>
            </a:r>
            <a:r>
              <a:rPr b="0" i="1" lang="ca-ES" sz="1200" spc="-1" strike="noStrike">
                <a:solidFill>
                  <a:srgbClr val="000000"/>
                </a:solidFill>
                <a:latin typeface="Calibri"/>
              </a:rPr>
              <a:t>creadora </a:t>
            </a:r>
            <a:r>
              <a:rPr b="0" lang="ca-ES" sz="1200" spc="-1" strike="noStrike">
                <a:solidFill>
                  <a:srgbClr val="000000"/>
                </a:solidFill>
                <a:latin typeface="Calibri"/>
              </a:rPr>
              <a:t>de la </a:t>
            </a:r>
            <a:r>
              <a:rPr b="0" i="1" lang="ca-ES" sz="1200" spc="-1" strike="noStrike">
                <a:solidFill>
                  <a:srgbClr val="000000"/>
                </a:solidFill>
                <a:latin typeface="Calibri"/>
              </a:rPr>
              <a:t>nov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EEF8-7C6B-4289-A8A0-E2D23BAE5D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90720" y="766800"/>
            <a:ext cx="5118120" cy="3838680"/>
          </a:xfrm>
          <a:prstGeom prst="rect">
            <a:avLst/>
          </a:prstGeom>
          <a:ln w="0">
            <a:noFill/>
          </a:ln>
        </p:spPr>
      </p:sp>
      <p:sp>
        <p:nvSpPr>
          <p:cNvPr id="4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9BE6-2CC1-402F-ACDD-BFE34E0573E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0720" y="766800"/>
            <a:ext cx="5118120" cy="3838680"/>
          </a:xfrm>
          <a:prstGeom prst="rect">
            <a:avLst/>
          </a:prstGeom>
          <a:ln w="0">
            <a:noFill/>
          </a:ln>
        </p:spPr>
      </p:sp>
      <p:sp>
        <p:nvSpPr>
          <p:cNvPr id="4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titats corporatives com a crea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gual que amb les AACR2, les entitats corporatives poden ser creadores. I de la mateixa manera que les AACR2, RDA enumera categories de recursos per als quals es justifica el punt d'accés (=l'entrada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RDA </a:t>
            </a:r>
            <a:r>
              <a:rPr b="1" lang="ca-ES" sz="1200" spc="-1" strike="noStrike">
                <a:solidFill>
                  <a:srgbClr val="000000"/>
                </a:solidFill>
                <a:latin typeface="Calibri"/>
              </a:rPr>
              <a:t>19.2.1.1.1., </a:t>
            </a:r>
            <a:r>
              <a:rPr b="0" lang="ca-ES" sz="1200" spc="-1" strike="noStrike">
                <a:solidFill>
                  <a:srgbClr val="000000"/>
                </a:solidFill>
                <a:latin typeface="Calibri"/>
              </a:rPr>
              <a:t>les categories són similars a les categories de les AACR2 21.1B2. Per aquests recursos, les entitats corporatives responsables es consideren creadores i les entitats corporatives com a creadores, tenen prioritat sobre una persona anomenada com a creado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19.2.1.1.1 </a:t>
            </a:r>
            <a:r>
              <a:rPr b="0" lang="ca-ES" sz="1200" spc="-1" strike="noStrike">
                <a:solidFill>
                  <a:srgbClr val="000000"/>
                </a:solidFill>
                <a:latin typeface="Calibri"/>
              </a:rPr>
              <a:t>dóna més instruccions sobre les entitats corporatives com a creadores (similar a la </a:t>
            </a:r>
            <a:r>
              <a:rPr b="0" i="1" lang="ca-ES" sz="1200" spc="-1" strike="noStrike">
                <a:solidFill>
                  <a:srgbClr val="000000"/>
                </a:solidFill>
                <a:latin typeface="Calibri"/>
              </a:rPr>
              <a:t>Concreció d'AACR2 </a:t>
            </a:r>
            <a:r>
              <a:rPr b="0" lang="ca-ES" sz="1200" spc="-1" strike="noStrike">
                <a:solidFill>
                  <a:srgbClr val="000000"/>
                </a:solidFill>
                <a:latin typeface="Calibri"/>
              </a:rPr>
              <a:t>a 21.1.B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a:t>
            </a:r>
            <a:r>
              <a:rPr b="1" lang="ca-ES" sz="1200" spc="-1" strike="noStrike">
                <a:solidFill>
                  <a:srgbClr val="000000"/>
                </a:solidFill>
                <a:latin typeface="Calibri"/>
              </a:rPr>
              <a:t>19.2.1.1.2 </a:t>
            </a:r>
            <a:r>
              <a:rPr b="0" lang="ca-ES" sz="1200" spc="-1" strike="noStrike">
                <a:solidFill>
                  <a:srgbClr val="000000"/>
                </a:solidFill>
                <a:latin typeface="Calibri"/>
              </a:rPr>
              <a:t>dóna instruccions per a càrrecs del govern i religiosos considera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744CE-F9B5-4320-9BA4-EB4EE57801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90720" y="766800"/>
            <a:ext cx="5118120" cy="3838680"/>
          </a:xfrm>
          <a:prstGeom prst="rect">
            <a:avLst/>
          </a:prstGeom>
          <a:ln w="0">
            <a:noFill/>
          </a:ln>
        </p:spPr>
      </p:sp>
      <p:sp>
        <p:nvSpPr>
          <p:cNvPr id="4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dificació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esquema representa les diverses formes que pot prendre un punt d'accés autoritzat per a una obra o una expressió i la seva correspondència amb el registre d'autoritat. A la part superior, quan l'obra té un creador, i en la part inferior quan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lau" està indicat el camp o subcamp on es codifica el títol preferit en cada cas.</a:t>
            </a:r>
            <a:endParaRPr b="0" lang="en-US" sz="1200" spc="-1" strike="noStrike">
              <a:solidFill>
                <a:srgbClr val="000000"/>
              </a:solidFill>
              <a:latin typeface="Calibri"/>
            </a:endParaRPr>
          </a:p>
        </p:txBody>
      </p:sp>
      <p:sp>
        <p:nvSpPr>
          <p:cNvPr id="4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615A-FBC2-4DE8-9C59-66EEC631D97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90720" y="766800"/>
            <a:ext cx="5118120" cy="3838680"/>
          </a:xfrm>
          <a:prstGeom prst="rect">
            <a:avLst/>
          </a:prstGeom>
          <a:ln w="0">
            <a:noFill/>
          </a:ln>
        </p:spPr>
      </p:sp>
      <p:sp>
        <p:nvSpPr>
          <p:cNvPr id="4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C22D-B241-4C9C-B8F1-F5FA3722810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990720" y="766800"/>
            <a:ext cx="5118120" cy="3838680"/>
          </a:xfrm>
          <a:prstGeom prst="rect">
            <a:avLst/>
          </a:prstGeom>
          <a:ln w="0">
            <a:noFill/>
          </a:ln>
        </p:spPr>
      </p:sp>
      <p:sp>
        <p:nvSpPr>
          <p:cNvPr id="4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 títol preferit és un ELEMENT BÀSIC. </a:t>
            </a:r>
            <a:r>
              <a:rPr b="0" lang="ca-ES" sz="1200" spc="-1" strike="noStrike">
                <a:solidFill>
                  <a:srgbClr val="000000"/>
                </a:solidFill>
                <a:latin typeface="Calibri"/>
              </a:rPr>
              <a:t>L'impacte d'aquest requeriment és que el catalogador necessitarà determinar el títol preferit de qualsevol tipus d'obra i enregistrar el punt d'accés autoritzat, si 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instruccions generals i específiques per a certes categories d'ob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bàsiques (RDA 6.2.1 i 6.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struccions específiques (RDA 6.2.2.9, 6.2.2.10, i altres instruccions en e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D295-FCD7-4915-A6FC-8A576A0CFB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90720" y="766800"/>
            <a:ext cx="5118120" cy="3838680"/>
          </a:xfrm>
          <a:prstGeom prst="rect">
            <a:avLst/>
          </a:prstGeom>
          <a:ln w="0">
            <a:noFill/>
          </a:ln>
        </p:spPr>
      </p:sp>
      <p:sp>
        <p:nvSpPr>
          <p:cNvPr id="4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bàsiqu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1 </a:t>
            </a:r>
            <a:r>
              <a:rPr b="0" lang="ca-ES" sz="1200" spc="-1" strike="noStrike">
                <a:solidFill>
                  <a:srgbClr val="000000"/>
                </a:solidFill>
                <a:latin typeface="Calibri"/>
              </a:rPr>
              <a:t>proporciona instruccions bàsiques. Inclou l'abast, les fonts i les directrius gener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breviatures</a:t>
            </a:r>
            <a:r>
              <a:rPr b="0" lang="ca-ES" sz="1200" spc="-1" strike="noStrike">
                <a:solidFill>
                  <a:srgbClr val="000000"/>
                </a:solidFill>
                <a:latin typeface="Calibri"/>
              </a:rPr>
              <a:t>: Aquelles que són part integrant del títol, o en el cas d'una obra musical les contemplades en l'Apèndix B (p. ex., "Núm.", "op.", etc.). Tanmateix, abreviatures utilitzades en AACR2 com "acomp.", "arr." no hi són presents; amb RDA s'han de donar de forma desenvolupada: "acompanyament" "arran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861B-3BB2-4D8C-B684-466C033AC78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90720" y="766800"/>
            <a:ext cx="5118120" cy="3838680"/>
          </a:xfrm>
          <a:prstGeom prst="rect">
            <a:avLst/>
          </a:prstGeom>
          <a:ln w="0">
            <a:noFill/>
          </a:ln>
        </p:spPr>
      </p:sp>
      <p:sp>
        <p:nvSpPr>
          <p:cNvPr id="4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nstruccions sobre l'enregistrament dels títols prefer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 </a:t>
            </a:r>
            <a:r>
              <a:rPr b="0" lang="ca-ES" sz="1200" spc="-1" strike="noStrike">
                <a:solidFill>
                  <a:srgbClr val="000000"/>
                </a:solidFill>
                <a:latin typeface="Calibri"/>
              </a:rPr>
              <a:t>dóna les instruccions sobre l'enregistrament dels </a:t>
            </a:r>
            <a:r>
              <a:rPr b="1" lang="ca-ES" sz="1200" spc="-1" strike="noStrike" u="sng">
                <a:solidFill>
                  <a:srgbClr val="000000"/>
                </a:solidFill>
                <a:uFillTx/>
                <a:latin typeface="Calibri"/>
              </a:rPr>
              <a:t>títols preferits </a:t>
            </a:r>
            <a:r>
              <a:rPr b="0" lang="ca-ES" sz="1200" spc="-1" strike="noStrike" u="sng">
                <a:solidFill>
                  <a:srgbClr val="000000"/>
                </a:solidFill>
                <a:uFillTx/>
                <a:latin typeface="Calibri"/>
              </a:rPr>
              <a:t>(específicamen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ota RDA 6.2.2 trobar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1 - 6.2.2.2  les instruccions específiques sobre l'abast i les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3 - 6.2.2.7 les instruccions específiques sobre la </a:t>
            </a:r>
            <a:r>
              <a:rPr b="0" i="1" lang="ca-ES" sz="1200" spc="-1" strike="noStrike">
                <a:solidFill>
                  <a:srgbClr val="000000"/>
                </a:solidFill>
                <a:latin typeface="Calibri"/>
              </a:rPr>
              <a:t>tria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6.2.2.8 - 6.2.2.10 les instruccions específiques sobre l'enregistrament</a:t>
            </a:r>
            <a:r>
              <a:rPr b="0" i="1" lang="ca-ES" sz="1200" spc="-1" strike="noStrike">
                <a:solidFill>
                  <a:srgbClr val="000000"/>
                </a:solidFill>
                <a:latin typeface="Calibri"/>
              </a:rPr>
              <a:t> </a:t>
            </a:r>
            <a:r>
              <a:rPr b="0" lang="ca-ES" sz="1200" spc="-1" strike="noStrike">
                <a:solidFill>
                  <a:srgbClr val="000000"/>
                </a:solidFill>
                <a:latin typeface="Calibri"/>
              </a:rPr>
              <a:t>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obres musicals haureu de consultar RDA 6.14.2.4; per a les obres jurídiques, RDA 6.19.2.4, i per a les obres religioses, RDA 6.23.2.4.</a:t>
            </a:r>
            <a:endParaRPr b="0" lang="en-US" sz="1200" spc="-1" strike="noStrike">
              <a:solidFill>
                <a:srgbClr val="000000"/>
              </a:solidFill>
              <a:latin typeface="Calibri"/>
            </a:endParaRPr>
          </a:p>
        </p:txBody>
      </p:sp>
      <p:sp>
        <p:nvSpPr>
          <p:cNvPr id="4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440A-C0F7-47B4-B59A-FE7350D68BA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990720" y="766800"/>
            <a:ext cx="5118120" cy="3838680"/>
          </a:xfrm>
          <a:prstGeom prst="rect">
            <a:avLst/>
          </a:prstGeom>
          <a:ln w="0">
            <a:noFill/>
          </a:ln>
        </p:spPr>
      </p:sp>
      <p:sp>
        <p:nvSpPr>
          <p:cNvPr id="4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398D-3856-4EDB-9B14-1923317314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90720" y="766800"/>
            <a:ext cx="5118120" cy="3838680"/>
          </a:xfrm>
          <a:prstGeom prst="rect">
            <a:avLst/>
          </a:prstGeom>
          <a:ln w="0">
            <a:noFill/>
          </a:ln>
        </p:spPr>
      </p:sp>
      <p:sp>
        <p:nvSpPr>
          <p:cNvPr id="4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ia del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tenir clar el tall cronològic (basat en la data de creació, no la de publicació), perquè en funció de si és una obra creada abans o després de 1500, es determinen les fonts per triar el títol preferit. </a:t>
            </a:r>
            <a:endParaRPr b="0" lang="en-US" sz="1200" spc="-1" strike="noStrike">
              <a:solidFill>
                <a:srgbClr val="000000"/>
              </a:solidFill>
              <a:latin typeface="Calibri"/>
            </a:endParaRPr>
          </a:p>
        </p:txBody>
      </p:sp>
      <p:sp>
        <p:nvSpPr>
          <p:cNvPr id="4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D7DC-3D26-46B2-9891-10FCB413A4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990720" y="766800"/>
            <a:ext cx="5118120" cy="3838680"/>
          </a:xfrm>
          <a:prstGeom prst="rect">
            <a:avLst/>
          </a:prstGeom>
          <a:ln w="0">
            <a:noFill/>
          </a:ln>
        </p:spPr>
      </p:sp>
      <p:sp>
        <p:nvSpPr>
          <p:cNvPr id="4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DC6BD-AEC3-4643-96CF-D17B29E31A5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990720" y="766800"/>
            <a:ext cx="5118120" cy="3838680"/>
          </a:xfrm>
          <a:prstGeom prst="rect">
            <a:avLst/>
          </a:prstGeom>
          <a:ln w="0">
            <a:noFill/>
          </a:ln>
        </p:spPr>
      </p:sp>
      <p:sp>
        <p:nvSpPr>
          <p:cNvPr id="4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Exemples</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r exemple: és una obra creada després del 1500. S'ha de triar un títol preferit en la llengua original, en aquest cas l'anglès. El catàleg de referència per a les obres que no són d'àmbit català és el catàleg d'autoritats de la Library of Congress. Si no hi fos caldria determinar el títol  a partir dels registres bibliogràfics del CCUC, si hi ha un títol predominant en llengua anglesa i/o si està ben establert en una obra de referència anglesa.</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quest exemple planteja tres situacions: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1) S'ha de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 No s'ha de crear un camp 240 per a enregistrar el títol preferit, perquè el títol propi coincideix. (100 + 245).</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 Punt d'accés autoritzat com a obra relacionada (X00 + $t).</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2n exemple: es tracta d'una obra anterior a 1501. S'ha de triar un títol preferit en la llengua original a partir de fonts de referència modernes. En aquest cas la GEC no ens proporciona el títol en llatí, però sí la traducció catalana de l'</a:t>
            </a:r>
            <a:r>
              <a:rPr b="0" i="1" lang="ca-ES" sz="1100" spc="-1" strike="noStrike">
                <a:solidFill>
                  <a:srgbClr val="000000"/>
                </a:solidFill>
                <a:latin typeface="Calibri"/>
              </a:rPr>
              <a:t>Eneida publicada </a:t>
            </a:r>
            <a:r>
              <a:rPr b="0" lang="ca-ES" sz="1100" spc="-1" strike="noStrike">
                <a:solidFill>
                  <a:srgbClr val="000000"/>
                </a:solidFill>
                <a:latin typeface="Calibri"/>
              </a:rPr>
              <a:t>per la Fundació Bernat Metge, la qual coincideix amb l'autoritat de la Library of Congress. En aquest exemple és necessari crear un camp 240 per a enregistrar el títol preferit, perquè el títol propi no coincideix (100 + 240).</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3r exemple: es tracta d'una obra grega clàssica. S'ha de triar un títol preferit en català si està ben establert. En aquest cas la GEC ens proporciona el títol preferit. En aquest exemple també és necessari crear un camp 240 per a enregistrar el títol preferit, perquè el títol propi no coincideix (100 + 240).</a:t>
            </a:r>
            <a:endParaRPr b="0" lang="en-US" sz="1100" spc="-1" strike="noStrike">
              <a:solidFill>
                <a:srgbClr val="000000"/>
              </a:solidFill>
              <a:latin typeface="Calibri"/>
            </a:endParaRPr>
          </a:p>
        </p:txBody>
      </p:sp>
      <p:sp>
        <p:nvSpPr>
          <p:cNvPr id="4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0E42-7214-40A4-A9F7-B907A5710B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90720" y="766800"/>
            <a:ext cx="5118120" cy="3838680"/>
          </a:xfrm>
          <a:prstGeom prst="rect">
            <a:avLst/>
          </a:prstGeom>
          <a:ln w="0">
            <a:noFill/>
          </a:ln>
        </p:spPr>
      </p:sp>
      <p:sp>
        <p:nvSpPr>
          <p:cNvPr id="41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n són les instru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Generalment, les instruccions per a la identificació de les obres i les expressions són al capítol 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drà consultar també les instruccions relacionades amb el capítol 19, "Persones, famílies i entitats corporatives associades amb una obra" i amb el capítol 20, "Persones, famílies i entitats corporatives associades amb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196A-6848-4F50-BAB3-E4741B0715D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90720" y="766800"/>
            <a:ext cx="5118120" cy="3838680"/>
          </a:xfrm>
          <a:prstGeom prst="rect">
            <a:avLst/>
          </a:prstGeom>
          <a:ln w="0">
            <a:noFill/>
          </a:ln>
        </p:spPr>
      </p:sp>
      <p:sp>
        <p:nvSpPr>
          <p:cNvPr id="4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en la llengua original no trobats o no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1, </a:t>
            </a:r>
            <a:r>
              <a:rPr b="0" lang="ca-ES" sz="1200" spc="-1" strike="noStrike">
                <a:solidFill>
                  <a:srgbClr val="000000"/>
                </a:solidFill>
                <a:latin typeface="Calibri"/>
              </a:rPr>
              <a:t>aquesta instrucció s’aplica als títols preferits triats a partir de les fonts de referència, com és el cas d'obres d'art amb nom. La </a:t>
            </a:r>
            <a:r>
              <a:rPr b="1" i="1" lang="ca-ES" sz="1200" spc="-1" strike="noStrike">
                <a:solidFill>
                  <a:srgbClr val="000000"/>
                </a:solidFill>
                <a:latin typeface="Calibri"/>
              </a:rPr>
              <a:t>Concreció</a:t>
            </a:r>
            <a:r>
              <a:rPr b="0" lang="ca-ES" sz="1200" spc="-1" strike="noStrike">
                <a:solidFill>
                  <a:srgbClr val="000000"/>
                </a:solidFill>
                <a:latin typeface="Calibri"/>
              </a:rPr>
              <a:t>  especifica que s'ha de triar un títol trobat en obres de referència en català. En aquest exemple, la font és la G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2.2.6.2 </a:t>
            </a:r>
            <a:r>
              <a:rPr b="0" lang="ca-ES" sz="1200" spc="-1" strike="noStrike">
                <a:solidFill>
                  <a:srgbClr val="000000"/>
                </a:solidFill>
                <a:latin typeface="Calibri"/>
              </a:rPr>
              <a:t>i </a:t>
            </a:r>
            <a:r>
              <a:rPr b="1" i="1" lang="ca-ES" sz="1200" spc="-1" strike="noStrike">
                <a:solidFill>
                  <a:srgbClr val="000000"/>
                </a:solidFill>
                <a:latin typeface="Calibri"/>
              </a:rPr>
              <a:t>Concreció</a:t>
            </a:r>
            <a:r>
              <a:rPr b="1" lang="ca-ES" sz="1200" spc="-1" strike="noStrike">
                <a:solidFill>
                  <a:srgbClr val="000000"/>
                </a:solidFill>
                <a:latin typeface="Calibri"/>
              </a:rPr>
              <a:t>:</a:t>
            </a:r>
            <a:r>
              <a:rPr b="0" lang="ca-ES" sz="1200" spc="-1" strike="noStrike">
                <a:solidFill>
                  <a:srgbClr val="000000"/>
                </a:solidFill>
                <a:latin typeface="Calibri"/>
              </a:rPr>
              <a:t>  S’aplica en el cas de manuscrits i grups de manuscrits perquè tenen dues facetes, una com a objecte o ens físic i l'altra com a contingut intel·lectual, l'obra. En aquest exemple no s'ha pogut determinar el nom del manuscrit com a ens físic, i s'assigna com a punt d'accés autoritzat el nom del dipòsit seguit del terme "Manuscrit" i de la designació del manuscrit o grup de manuscrits en el dipòsit. Aquest tipus de punt d'accés només es pot utilitzar en un camp 1XX quan el punt d'accés autoritzat de l'obra i el del manuscrit com a ens físic és el mateix.</a:t>
            </a:r>
            <a:br>
              <a:rPr sz="1200"/>
            </a:br>
            <a:endParaRPr b="0" lang="en-US" sz="1200" spc="-1" strike="noStrike">
              <a:solidFill>
                <a:srgbClr val="000000"/>
              </a:solidFill>
              <a:latin typeface="Calibri"/>
            </a:endParaRPr>
          </a:p>
        </p:txBody>
      </p:sp>
      <p:sp>
        <p:nvSpPr>
          <p:cNvPr id="4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2346-FE8E-4DD9-9815-201FC6F05B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990720" y="766800"/>
            <a:ext cx="5118120" cy="3838680"/>
          </a:xfrm>
          <a:prstGeom prst="rect">
            <a:avLst/>
          </a:prstGeom>
          <a:ln w="0">
            <a:noFill/>
          </a:ln>
        </p:spPr>
      </p:sp>
      <p:sp>
        <p:nvSpPr>
          <p:cNvPr id="5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s trobats en una escriptura no preferi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6.2.2.7 Alternativa, </a:t>
            </a:r>
            <a:r>
              <a:rPr b="0" lang="ca-ES" sz="1200" spc="-1" strike="noStrike">
                <a:solidFill>
                  <a:srgbClr val="000000"/>
                </a:solidFill>
                <a:latin typeface="Calibri"/>
              </a:rPr>
              <a:t>S’aplica a obres anònimes creades abans de 1501 que no hagin estat escrites ni en grec ni en llatí. Es tria com a títol preferit un títol ben establert  en català, si n’hi ha un.</a:t>
            </a:r>
            <a:endParaRPr b="0" lang="en-US" sz="1200" spc="-1" strike="noStrike">
              <a:solidFill>
                <a:srgbClr val="000000"/>
              </a:solidFill>
              <a:latin typeface="Calibri"/>
            </a:endParaRPr>
          </a:p>
        </p:txBody>
      </p:sp>
      <p:sp>
        <p:nvSpPr>
          <p:cNvPr id="5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C21F-11F6-42D1-889B-D9068E85BD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0720" y="766800"/>
            <a:ext cx="5118120" cy="3838680"/>
          </a:xfrm>
          <a:prstGeom prst="rect">
            <a:avLst/>
          </a:prstGeom>
          <a:ln w="0">
            <a:noFill/>
          </a:ln>
        </p:spPr>
      </p:sp>
      <p:sp>
        <p:nvSpPr>
          <p:cNvPr id="5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Enregistrament del títol preferit d’una obra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RDA 6.2.2.8 S’aplica a les </a:t>
            </a:r>
            <a:r>
              <a:rPr b="0" lang="ca-ES" sz="900" spc="-1" strike="noStrike" u="sng">
                <a:solidFill>
                  <a:srgbClr val="000000"/>
                </a:solidFill>
                <a:uFillTx/>
                <a:latin typeface="Calibri"/>
              </a:rPr>
              <a:t>obres individuals i a les compilacions d’obre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Un cop s'ha triat el títol preferit, s'ha d'enregistrar d'acord amb les instruccions bàsiques d'RDA 6.2.1. i les </a:t>
            </a:r>
            <a:r>
              <a:rPr b="0" i="1" lang="ca-ES" sz="900" spc="-1" strike="noStrike">
                <a:solidFill>
                  <a:srgbClr val="000000"/>
                </a:solidFill>
                <a:latin typeface="Calibri"/>
              </a:rPr>
              <a:t>Concrecions</a:t>
            </a:r>
            <a:r>
              <a:rPr b="0" lang="ca-ES" sz="900" spc="-1" strike="noStrike">
                <a:solidFill>
                  <a:srgbClr val="000000"/>
                </a:solidFill>
                <a:latin typeface="Calibri"/>
              </a:rPr>
              <a:t> que ja hem comentat (majúscules, diacrítics, article inicial, etc.). Especifica </a:t>
            </a:r>
            <a:r>
              <a:rPr b="0" lang="ca-ES" sz="900" spc="-1" strike="noStrike" u="sng">
                <a:solidFill>
                  <a:srgbClr val="000000"/>
                </a:solidFill>
                <a:uFillTx/>
                <a:latin typeface="Calibri"/>
              </a:rPr>
              <a:t>no enregistrar els títols alternatius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La Concreció 6.2.2.8 </a:t>
            </a:r>
            <a:r>
              <a:rPr b="0" lang="ca-ES" sz="900" spc="-1" strike="noStrike">
                <a:solidFill>
                  <a:srgbClr val="000000"/>
                </a:solidFill>
                <a:latin typeface="Calibri"/>
              </a:rPr>
              <a:t>indica que en el cas que el títol preferit sigui un títol propi que presenta </a:t>
            </a:r>
            <a:r>
              <a:rPr b="0" lang="ca-ES" sz="900" spc="-1" strike="noStrike" u="sng">
                <a:solidFill>
                  <a:srgbClr val="000000"/>
                </a:solidFill>
                <a:uFillTx/>
                <a:latin typeface="Calibri"/>
              </a:rPr>
              <a:t>incorreccions,</a:t>
            </a:r>
            <a:r>
              <a:rPr b="0" lang="ca-ES" sz="900" spc="-1" strike="noStrike">
                <a:solidFill>
                  <a:srgbClr val="000000"/>
                </a:solidFill>
                <a:latin typeface="Calibri"/>
              </a:rPr>
              <a:t> en el cas d'una monografia en diverses parts, una publicació en sèrie o un recurs integrant, es corregeixen les incorreccions.</a:t>
            </a:r>
            <a:br>
              <a:rPr sz="900"/>
            </a:br>
            <a:r>
              <a:rPr b="0" lang="ca-ES" sz="900" spc="-1" strike="noStrike">
                <a:solidFill>
                  <a:srgbClr val="000000"/>
                </a:solidFill>
                <a:latin typeface="Calibri"/>
              </a:rPr>
              <a:t>La concreció també contempla el tractament de l'ús de </a:t>
            </a:r>
            <a:r>
              <a:rPr b="0" lang="ca-ES" sz="900" spc="-1" strike="noStrike" u="sng">
                <a:solidFill>
                  <a:srgbClr val="000000"/>
                </a:solidFill>
                <a:uFillTx/>
                <a:latin typeface="Calibri"/>
              </a:rPr>
              <a:t>I/J, U/V</a:t>
            </a:r>
            <a:r>
              <a:rPr b="0" lang="ca-ES" sz="900" spc="-1" strike="noStrike">
                <a:solidFill>
                  <a:srgbClr val="000000"/>
                </a:solidFill>
                <a:latin typeface="Calibri"/>
              </a:rPr>
              <a:t>: Quan el títol triat com a títol preferit és afectat per un ús no regularitzat de "i/j" i "u/v", es regularitza l'ús d'aquestes lletres de la manera següent: "i" per a vocals; "j" per a consonants; "u" per a vocals; "v" per a consonants; i "w" per a "uu" o "vv". </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pliqueu les instruccions addicionals en el ca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una o més parts d’una obra (vegeu RDA 6.2.2.9)</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de compilacions de les obres d’una persona, una família o una entitat corporativa (vegeu RDA 6.2.2.10)</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de compilacions de les obres de diferents persones, famílies o entitats corporatives ( vegeu RDA 6.2.2.11).</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 </a:t>
            </a:r>
            <a:r>
              <a:rPr b="0" lang="ca-ES" sz="900" spc="-1" strike="noStrike">
                <a:solidFill>
                  <a:srgbClr val="000000"/>
                </a:solidFill>
                <a:latin typeface="Calibri"/>
              </a:rPr>
              <a:t>[Anem a veure cada una d'aquestes instruccions addicionals. No entrarem a tractar tipus especials d'obres; per a obres musicals consulteu RDA 6.14.2.4, obres jurídiques RDA 6.19.2.4, obres religioses RDA 6.23.2.4.]</a:t>
            </a:r>
            <a:endParaRPr b="0" lang="en-US" sz="900" spc="-1" strike="noStrike">
              <a:solidFill>
                <a:srgbClr val="000000"/>
              </a:solidFill>
              <a:latin typeface="Calibri"/>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622A-0096-4D82-974B-C4D040D0AB8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990720" y="766800"/>
            <a:ext cx="5118120" cy="3838680"/>
          </a:xfrm>
          <a:prstGeom prst="rect">
            <a:avLst/>
          </a:prstGeom>
          <a:ln w="0">
            <a:noFill/>
          </a:ln>
        </p:spPr>
      </p:sp>
      <p:sp>
        <p:nvSpPr>
          <p:cNvPr id="5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eferit - parts d'una obra </a:t>
            </a:r>
            <a:r>
              <a:rPr b="0" lang="es-ES" sz="1200" spc="-1" strike="noStrike">
                <a:solidFill>
                  <a:srgbClr val="000000"/>
                </a:solidFill>
                <a:latin typeface="Calibri"/>
              </a:rPr>
              <a:t>(</a:t>
            </a:r>
            <a:r>
              <a:rPr b="0" lang="ca-ES" sz="1200" spc="-1" strike="noStrike">
                <a:solidFill>
                  <a:srgbClr val="000000"/>
                </a:solidFill>
                <a:latin typeface="Calibri"/>
              </a:rPr>
              <a:t>Altres que no siguin obres musicals o religio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fan distinció entre una part d'una obra, i dues o més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Una part: </a:t>
            </a:r>
            <a:r>
              <a:rPr b="0" lang="ca-ES" sz="1200" spc="-1" strike="noStrike">
                <a:solidFill>
                  <a:srgbClr val="000000"/>
                </a:solidFill>
                <a:latin typeface="Calibri"/>
              </a:rPr>
              <a:t>Enregistreu el títol preferit de la part aplicant les instruccions bàsiques de </a:t>
            </a:r>
            <a:r>
              <a:rPr b="1" lang="ca-ES" sz="1200" spc="-1" strike="noStrike">
                <a:solidFill>
                  <a:srgbClr val="000000"/>
                </a:solidFill>
                <a:latin typeface="Calibri"/>
              </a:rPr>
              <a:t>6.2.1. </a:t>
            </a:r>
            <a:r>
              <a:rPr b="0" lang="ca-ES" sz="1200" spc="-1" strike="noStrike">
                <a:solidFill>
                  <a:srgbClr val="000000"/>
                </a:solidFill>
                <a:latin typeface="Calibri"/>
              </a:rPr>
              <a:t>Si la part només s’identifica amb un terme general amb o sense una designació numèrica o alfabètica (per exemple, Prefaci, Llibre 1, Band 3), enregistreu la designació de la part com a títol preferit de la part. Enregistreu la designació numèrica en xif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ues o més par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umerades consecutivamen</a:t>
            </a:r>
            <a:r>
              <a:rPr b="0" lang="ca-ES" sz="1200" spc="-1" strike="noStrike">
                <a:solidFill>
                  <a:srgbClr val="000000"/>
                </a:solidFill>
                <a:latin typeface="Calibri"/>
              </a:rPr>
              <a:t>t identificades només per un terme general i un número: "enregistreu la designació de les parts com a títol preferit. Enregistreu el terme general en singular, seguit dels números inclusius de les parts. Enregistreu les designacions numèriques com a xifres."</a:t>
            </a:r>
            <a:endParaRPr b="0" lang="en-US" sz="1200" spc="-1" strike="noStrike">
              <a:solidFill>
                <a:srgbClr val="000000"/>
              </a:solidFill>
              <a:latin typeface="Calibri"/>
            </a:endParaRPr>
          </a:p>
          <a:p>
            <a:pPr lvl="1">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a:t>
            </a:r>
            <a:r>
              <a:rPr b="0" lang="ca-ES" sz="1200" spc="-1" strike="noStrike" u="sng">
                <a:solidFill>
                  <a:srgbClr val="000000"/>
                </a:solidFill>
                <a:uFillTx/>
                <a:latin typeface="Calibri"/>
              </a:rPr>
              <a:t>no numerades </a:t>
            </a:r>
            <a:r>
              <a:rPr b="0" lang="ca-ES" sz="1200" spc="-1" strike="noStrike">
                <a:solidFill>
                  <a:srgbClr val="000000"/>
                </a:solidFill>
                <a:latin typeface="Calibri"/>
              </a:rPr>
              <a:t>o no numerades consecutivament: apliqueu l'alternativa </a:t>
            </a:r>
            <a:r>
              <a:rPr b="0" i="1" lang="ca-ES" sz="1200" spc="-1" strike="noStrike">
                <a:solidFill>
                  <a:srgbClr val="000000"/>
                </a:solidFill>
                <a:latin typeface="Calibri"/>
              </a:rPr>
              <a:t>(</a:t>
            </a:r>
            <a:r>
              <a:rPr b="1" i="1" lang="ca-ES" sz="1200" spc="-1" strike="noStrike">
                <a:solidFill>
                  <a:srgbClr val="000000"/>
                </a:solidFill>
                <a:latin typeface="Calibri"/>
              </a:rPr>
              <a:t>Concreció 6.2.2.92</a:t>
            </a:r>
            <a:r>
              <a:rPr b="0" i="1" lang="ca-ES" sz="1200" spc="-1" strike="noStrike">
                <a:solidFill>
                  <a:srgbClr val="000000"/>
                </a:solidFill>
                <a:latin typeface="Calibri"/>
              </a:rPr>
              <a: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és a dir … passem a la diapositiva segü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246B-ED1A-49E5-B795-757830B52B3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90720" y="766800"/>
            <a:ext cx="5118120" cy="3838680"/>
          </a:xfrm>
          <a:prstGeom prst="rect">
            <a:avLst/>
          </a:prstGeom>
          <a:ln w="0">
            <a:noFill/>
          </a:ln>
        </p:spPr>
      </p:sp>
      <p:sp>
        <p:nvSpPr>
          <p:cNvPr id="5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arts d'una obra - dues o més parts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6.2.2.9.2</a:t>
            </a:r>
            <a:r>
              <a:rPr b="1" lang="ca-ES" sz="1200" spc="-1" strike="noStrike">
                <a:solidFill>
                  <a:srgbClr val="000000"/>
                </a:solidFill>
                <a:latin typeface="Calibri"/>
              </a:rPr>
              <a:t>  </a:t>
            </a:r>
            <a:r>
              <a:rPr b="0" lang="ca-ES" sz="1200" spc="-1" strike="noStrike">
                <a:solidFill>
                  <a:srgbClr val="000000"/>
                </a:solidFill>
                <a:latin typeface="Calibri"/>
              </a:rPr>
              <a:t>estableix que s'enregistri, a més a més del títol col·lectiu convencional "</a:t>
            </a:r>
            <a:r>
              <a:rPr b="0" i="1" lang="ca-ES" sz="1200" spc="-1" strike="noStrike">
                <a:solidFill>
                  <a:srgbClr val="000000"/>
                </a:solidFill>
                <a:latin typeface="Calibri"/>
              </a:rPr>
              <a:t>Seleccions</a:t>
            </a:r>
            <a:r>
              <a:rPr b="0" lang="ca-ES" sz="1200" spc="-1" strike="noStrike">
                <a:solidFill>
                  <a:srgbClr val="000000"/>
                </a:solidFill>
                <a:latin typeface="Calibri"/>
              </a:rPr>
              <a:t>", el títol d’una o més parts si són essencialment importants.</a:t>
            </a:r>
            <a:endParaRPr b="0" lang="en-US" sz="1200" spc="-1" strike="noStrike">
              <a:solidFill>
                <a:srgbClr val="000000"/>
              </a:solidFill>
              <a:latin typeface="Calibri"/>
            </a:endParaRPr>
          </a:p>
        </p:txBody>
      </p:sp>
      <p:sp>
        <p:nvSpPr>
          <p:cNvPr id="5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0AEB4-F0BF-4090-8A6B-2F552EAF50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90720" y="766800"/>
            <a:ext cx="5118120" cy="3838680"/>
          </a:xfrm>
          <a:prstGeom prst="rect">
            <a:avLst/>
          </a:prstGeom>
          <a:ln w="0">
            <a:noFill/>
          </a:ln>
        </p:spPr>
      </p:sp>
      <p:sp>
        <p:nvSpPr>
          <p:cNvPr id="51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er a la construcció dels punts d'accés autoritzats per a la part o parts d'un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ulteu les instruccions a RDA </a:t>
            </a:r>
            <a:r>
              <a:rPr b="1" lang="ca-ES" sz="1200" spc="-1" strike="noStrike">
                <a:solidFill>
                  <a:srgbClr val="000000"/>
                </a:solidFill>
                <a:latin typeface="Calibri"/>
              </a:rPr>
              <a:t>6.27.2. </a:t>
            </a:r>
            <a:r>
              <a:rPr b="0" lang="ca-ES" sz="1200" spc="-1" strike="noStrike">
                <a:solidFill>
                  <a:srgbClr val="000000"/>
                </a:solidFill>
                <a:latin typeface="Calibri"/>
              </a:rPr>
              <a:t>La instrucció bàsica per al punt d'accés autoritzat d'una part d'una obra és utilitzar el títol de la part </a:t>
            </a:r>
            <a:r>
              <a:rPr b="1" lang="ca-ES" sz="1200" spc="-1" strike="noStrike">
                <a:solidFill>
                  <a:srgbClr val="000000"/>
                </a:solidFill>
                <a:latin typeface="Calibri"/>
              </a:rPr>
              <a:t>precedida pel punt d'accés autoritzat del creador</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algunes excepcions quan el títol preferit de la part està </a:t>
            </a:r>
            <a:r>
              <a:rPr b="1" lang="ca-ES" sz="1200" spc="-1" strike="noStrike">
                <a:solidFill>
                  <a:srgbClr val="000000"/>
                </a:solidFill>
                <a:latin typeface="Calibri"/>
              </a:rPr>
              <a:t>precedit pel punt d'accés autoritzat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s no distinti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arts numerades consecutiv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ons en sèrie i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rogrames de televisió / rà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91F3-3DE5-4A73-950C-05045281CA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90720" y="766800"/>
            <a:ext cx="5118120" cy="3838680"/>
          </a:xfrm>
          <a:prstGeom prst="rect">
            <a:avLst/>
          </a:prstGeom>
          <a:ln w="0">
            <a:noFill/>
          </a:ln>
        </p:spPr>
      </p:sp>
      <p:sp>
        <p:nvSpPr>
          <p:cNvPr id="5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vs. col·labor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important determinar si el recurs que s'està catalogant es tracta d'una col·laboració o d'una compil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determinar si el recurs que s'està catalogant es tracta d'una compilació d'obres d'un sol creador o de més d'un creado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Si és d'un sol creador: </a:t>
            </a:r>
            <a:r>
              <a:rPr b="0" lang="ca-ES" sz="1200" spc="-1" strike="noStrike">
                <a:solidFill>
                  <a:srgbClr val="000000"/>
                </a:solidFill>
                <a:latin typeface="Calibri"/>
              </a:rPr>
              <a:t>s'identifica pel seu </a:t>
            </a:r>
            <a:r>
              <a:rPr b="1" lang="ca-ES" sz="1200" spc="-1" strike="noStrike">
                <a:solidFill>
                  <a:srgbClr val="000000"/>
                </a:solidFill>
                <a:latin typeface="Calibri"/>
              </a:rPr>
              <a:t>creador + títol prefer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que ja no s'utilitza "Seleccions" sol. No s'ha de considerar si el títol és distintiu o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
            </a:r>
            <a:r>
              <a:rPr b="0" lang="ca-ES" sz="1200" spc="-1" strike="noStrike" u="sng">
                <a:solidFill>
                  <a:srgbClr val="000000"/>
                </a:solidFill>
                <a:uFillTx/>
                <a:latin typeface="Calibri"/>
              </a:rPr>
              <a:t>Si és de més d'un creador</a:t>
            </a:r>
            <a:r>
              <a:rPr b="0" lang="ca-ES" sz="1200" spc="-1" strike="noStrike">
                <a:solidFill>
                  <a:srgbClr val="000000"/>
                </a:solidFill>
                <a:latin typeface="Calibri"/>
              </a:rPr>
              <a:t>: S'ha de determinar si es tracta d'una col·laboració o d'una 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l·laboració,</a:t>
            </a:r>
            <a:r>
              <a:rPr b="0" lang="ca-ES" sz="1200" spc="-1" strike="noStrike">
                <a:solidFill>
                  <a:srgbClr val="000000"/>
                </a:solidFill>
                <a:latin typeface="Calibri"/>
              </a:rPr>
              <a:t> llavors l'obra s'identifica pel </a:t>
            </a:r>
            <a:r>
              <a:rPr b="1" lang="ca-ES" sz="1200" spc="-1" strike="noStrike">
                <a:solidFill>
                  <a:srgbClr val="000000"/>
                </a:solidFill>
                <a:latin typeface="Calibri"/>
              </a:rPr>
              <a:t>creador principal o el primer anomenat + títol preferit</a:t>
            </a:r>
            <a:r>
              <a:rPr b="0" lang="ca-ES" sz="1200" spc="-1" strike="noStrike">
                <a:solidFill>
                  <a:srgbClr val="000000"/>
                </a:solidFill>
                <a:latin typeface="Calibri"/>
              </a:rPr>
              <a:t> (generalment 100/245 en MARC).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etermina que és una </a:t>
            </a:r>
            <a:r>
              <a:rPr b="0" lang="ca-ES" sz="1200" spc="-1" strike="noStrike" u="sng">
                <a:solidFill>
                  <a:srgbClr val="000000"/>
                </a:solidFill>
                <a:uFillTx/>
                <a:latin typeface="Calibri"/>
              </a:rPr>
              <a:t>compilació</a:t>
            </a:r>
            <a:r>
              <a:rPr b="0" lang="ca-ES" sz="1200" spc="-1" strike="noStrike">
                <a:solidFill>
                  <a:srgbClr val="000000"/>
                </a:solidFill>
                <a:latin typeface="Calibri"/>
              </a:rPr>
              <a:t>, llavors s'identifica pel </a:t>
            </a:r>
            <a:r>
              <a:rPr b="1" lang="ca-ES" sz="1200" spc="-1" strike="noStrike">
                <a:solidFill>
                  <a:srgbClr val="000000"/>
                </a:solidFill>
                <a:latin typeface="Calibri"/>
              </a:rPr>
              <a:t>títol preferit </a:t>
            </a:r>
            <a:r>
              <a:rPr b="0" lang="ca-ES" sz="1200" spc="-1" strike="noStrike">
                <a:solidFill>
                  <a:srgbClr val="000000"/>
                </a:solidFill>
                <a:latin typeface="Calibri"/>
              </a:rPr>
              <a:t>(generalment 245 en MAR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nem a veure a poc a poc aquests conceptes …]</a:t>
            </a:r>
            <a:endParaRPr b="0" lang="en-US" sz="1200" spc="-1" strike="noStrike">
              <a:solidFill>
                <a:srgbClr val="000000"/>
              </a:solidFill>
              <a:latin typeface="Calibri"/>
            </a:endParaRPr>
          </a:p>
        </p:txBody>
      </p:sp>
      <p:sp>
        <p:nvSpPr>
          <p:cNvPr id="5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D1E30-AC14-47E7-AC48-02AF384D66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90720" y="766800"/>
            <a:ext cx="5118120" cy="3838680"/>
          </a:xfrm>
          <a:prstGeom prst="rect">
            <a:avLst/>
          </a:prstGeom>
          <a:ln w="0">
            <a:noFill/>
          </a:ln>
        </p:spPr>
      </p:sp>
      <p:sp>
        <p:nvSpPr>
          <p:cNvPr id="5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un sol creador</a:t>
            </a:r>
            <a:br>
              <a:rPr sz="1200"/>
            </a:br>
            <a:r>
              <a:rPr b="0" lang="ca-ES" sz="1200" spc="-1" strike="noStrike">
                <a:solidFill>
                  <a:srgbClr val="000000"/>
                </a:solidFill>
                <a:latin typeface="Calibri"/>
              </a:rPr>
              <a:t>Si el recurs conté diverses obres d'un sol creador, </a:t>
            </a:r>
            <a:r>
              <a:rPr b="0" lang="ca-ES" sz="1200" spc="-1" strike="noStrike" u="sng">
                <a:solidFill>
                  <a:srgbClr val="000000"/>
                </a:solidFill>
                <a:uFillTx/>
                <a:latin typeface="Calibri"/>
              </a:rPr>
              <a:t>és una compilació</a:t>
            </a:r>
            <a:r>
              <a:rPr b="0" lang="ca-ES" sz="1200" spc="-1" strike="noStrike">
                <a:solidFill>
                  <a:srgbClr val="000000"/>
                </a:solidFill>
                <a:latin typeface="Calibri"/>
              </a:rPr>
              <a:t>. Una compilació d'un sol creador s'identifica pel </a:t>
            </a:r>
            <a:r>
              <a:rPr b="1" lang="ca-ES" sz="1200" spc="-1" strike="noStrike">
                <a:solidFill>
                  <a:srgbClr val="000000"/>
                </a:solidFill>
                <a:latin typeface="Calibri"/>
              </a:rPr>
              <a:t>creador + el títol preferit</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com construir un </a:t>
            </a:r>
            <a:r>
              <a:rPr b="0" i="1" lang="ca-ES" sz="1200" spc="-1" strike="noStrike">
                <a:solidFill>
                  <a:srgbClr val="000000"/>
                </a:solidFill>
                <a:latin typeface="Calibri"/>
              </a:rPr>
              <a:t>títol preferit </a:t>
            </a:r>
            <a:r>
              <a:rPr b="0" lang="ca-ES" sz="1200" spc="-1" strike="noStrike">
                <a:solidFill>
                  <a:srgbClr val="000000"/>
                </a:solidFill>
                <a:latin typeface="Calibri"/>
              </a:rPr>
              <a:t>per a una compilació d'una obra d'un sol creador, es troben en </a:t>
            </a:r>
            <a:r>
              <a:rPr b="1" lang="ca-ES" sz="1200" spc="-1" strike="noStrike">
                <a:solidFill>
                  <a:srgbClr val="000000"/>
                </a:solidFill>
                <a:latin typeface="Calibri"/>
              </a:rPr>
              <a:t>6.2.2.10</a:t>
            </a:r>
            <a:r>
              <a:rPr b="0" lang="ca-ES" sz="1200" spc="-1" strike="noStrike">
                <a:solidFill>
                  <a:srgbClr val="000000"/>
                </a:solidFill>
                <a:latin typeface="Calibri"/>
              </a:rPr>
              <a:t>; les instruccions per construir el </a:t>
            </a:r>
            <a:r>
              <a:rPr b="0" i="1" lang="ca-ES" sz="1200" spc="-1" strike="noStrike">
                <a:solidFill>
                  <a:srgbClr val="000000"/>
                </a:solidFill>
                <a:latin typeface="Calibri"/>
              </a:rPr>
              <a:t>punt d'accés </a:t>
            </a:r>
            <a:r>
              <a:rPr b="0" lang="ca-ES" sz="1200" spc="-1" strike="noStrike">
                <a:solidFill>
                  <a:srgbClr val="000000"/>
                </a:solidFill>
                <a:latin typeface="Calibri"/>
              </a:rPr>
              <a:t>es troben en </a:t>
            </a:r>
            <a:r>
              <a:rPr b="1" lang="ca-ES" sz="1200" spc="-1" strike="noStrike">
                <a:solidFill>
                  <a:srgbClr val="000000"/>
                </a:solidFill>
                <a:latin typeface="Calibri"/>
              </a:rPr>
              <a:t>6.27.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3C26-D2C6-4222-BB7A-33236FF56DE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90720" y="766800"/>
            <a:ext cx="5118120" cy="3838680"/>
          </a:xfrm>
          <a:prstGeom prst="rect">
            <a:avLst/>
          </a:prstGeom>
          <a:ln w="0">
            <a:noFill/>
          </a:ln>
        </p:spPr>
      </p:sp>
      <p:sp>
        <p:nvSpPr>
          <p:cNvPr id="5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Títol preferit - Compilacions d'obres d'una persona, família, entitat corporativ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el recurs és una compilació d'un sol creador, cal determinar si aquesta </a:t>
            </a:r>
            <a:r>
              <a:rPr b="0" i="1" lang="ca-ES" sz="1100" spc="-1" strike="noStrike">
                <a:solidFill>
                  <a:srgbClr val="000000"/>
                </a:solidFill>
                <a:latin typeface="Calibri"/>
              </a:rPr>
              <a:t>compilació </a:t>
            </a:r>
            <a:r>
              <a:rPr b="0" lang="ca-ES" sz="1100" spc="-1" strike="noStrike">
                <a:solidFill>
                  <a:srgbClr val="000000"/>
                </a:solidFill>
                <a:latin typeface="Calibri"/>
              </a:rPr>
              <a:t>ha arribat a ser coneguda per un títol. Aquesta situació no passa sovi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Si aquest no és el cas, utilitzeu un </a:t>
            </a:r>
            <a:r>
              <a:rPr b="0" i="1" lang="ca-ES" sz="1100" spc="-1" strike="noStrike">
                <a:solidFill>
                  <a:srgbClr val="000000"/>
                </a:solidFill>
                <a:latin typeface="Calibri"/>
              </a:rPr>
              <a:t>títol col·lectiu convencional</a:t>
            </a:r>
            <a:r>
              <a:rPr b="0" lang="ca-ES" sz="1100" spc="-1" strike="noStrike">
                <a:solidFill>
                  <a:srgbClr val="000000"/>
                </a:solidFill>
                <a:latin typeface="Calibri"/>
              </a:rPr>
              <a:t>, ja sigui "Obres" si la compilació representa les obres completes del creador, o un terme de 6.2.2.10.2 si la compilació conté les obres completes en una sola forma: Novel·les, Poesia, Teatre, etc.</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100" spc="-1" strike="noStrike">
                <a:solidFill>
                  <a:srgbClr val="000000"/>
                </a:solidFill>
                <a:latin typeface="Calibri"/>
              </a:rPr>
              <a:t>Concreció 6.2.2.10.3 Alternativa. </a:t>
            </a:r>
            <a:r>
              <a:rPr b="0" i="1" lang="ca-ES" sz="1100" spc="-1" strike="noStrike">
                <a:solidFill>
                  <a:srgbClr val="000000"/>
                </a:solidFill>
                <a:latin typeface="Calibri"/>
              </a:rPr>
              <a:t>S'aplica</a:t>
            </a:r>
            <a:r>
              <a:rPr b="0" lang="ca-ES" sz="1100" spc="-1" strike="noStrike">
                <a:solidFill>
                  <a:srgbClr val="000000"/>
                </a:solidFill>
                <a:latin typeface="Calibri"/>
              </a:rPr>
              <a:t>. Afegiu "Seleccions" al títol col·lectiu convencional si la compilació conté algunes, però no totes les obres del creador. Enregistreu un punt d'accés autoritzat per a la primera obra o expressió, o la predominant.</a:t>
            </a:r>
            <a:endParaRPr b="0" lang="en-US" sz="1100" spc="-1" strike="noStrike">
              <a:solidFill>
                <a:srgbClr val="000000"/>
              </a:solidFill>
              <a:latin typeface="Calibri"/>
            </a:endParaRPr>
          </a:p>
          <a:p>
            <a:pPr lvl="1"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Com ho hem de fer, ens ho indica la </a:t>
            </a:r>
            <a:r>
              <a:rPr b="1" i="1" lang="ca-ES" sz="1100" spc="-1" strike="noStrike">
                <a:solidFill>
                  <a:srgbClr val="000000"/>
                </a:solidFill>
                <a:latin typeface="Calibri"/>
              </a:rPr>
              <a:t>Concreció 25.1: </a:t>
            </a:r>
            <a:r>
              <a:rPr b="0" lang="ca-ES" sz="1100" spc="-1" strike="noStrike">
                <a:solidFill>
                  <a:srgbClr val="000000"/>
                </a:solidFill>
                <a:latin typeface="Calibri"/>
              </a:rPr>
              <a:t>es dóna el contingut en un camp 505, si és factible, excepte si està indicat en una altra part de la descripció (p. ex. 245 obres sense títol col·lectiu). Es proporciona un punt d’accés autoritzat analític per a l'obra predominant o la primera si representa una part important del recurs (s’ignoren contribucions com el prefaci o la introducció). Opcionalment es poden donar altres punts d’accés analítics d’altres obres de la compilació. Aquesta concreció no s'aplica en el cas d'antologies de poesia, himnaris, actes de congressos, revistes, col·leccions d'entrevistes o cartes, capítols de monografies en diverses parts catalogades com un conjunt i recursos similar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100" spc="-1" strike="noStrike" u="sng">
                <a:solidFill>
                  <a:srgbClr val="000000"/>
                </a:solidFill>
                <a:uFillTx/>
                <a:latin typeface="Calibri"/>
              </a:rPr>
              <a:t>Principals canvis en relació a les AACR2:</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Amb RDA, els catalogadors ja no necessitaran:</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creador ha creat obres en una sola forma.</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a:solidFill>
                  <a:srgbClr val="000000"/>
                </a:solidFill>
                <a:latin typeface="Calibri"/>
              </a:rPr>
              <a:t>Determinar si el títol propi de la compilació és un "títol distintiu".</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5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A204-D24E-41B6-948F-FBC69F16C87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90720" y="766800"/>
            <a:ext cx="5118120" cy="3838680"/>
          </a:xfrm>
          <a:prstGeom prst="rect">
            <a:avLst/>
          </a:prstGeom>
          <a:ln w="0">
            <a:noFill/>
          </a:ln>
        </p:spPr>
      </p:sp>
      <p:sp>
        <p:nvSpPr>
          <p:cNvPr id="5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de teatre es faria l'entrada principal i títol uniforme per la primera obra, i una entrada analítica addicional per la segona obra. Això és identificar només </a:t>
            </a:r>
            <a:r>
              <a:rPr b="0" i="1" lang="ca-ES" sz="1200" spc="-1" strike="noStrike">
                <a:solidFill>
                  <a:srgbClr val="000000"/>
                </a:solidFill>
                <a:latin typeface="Calibri"/>
              </a:rPr>
              <a:t>parcialment </a:t>
            </a:r>
            <a:r>
              <a:rPr b="0" lang="ca-ES" sz="1200" spc="-1" strike="noStrike">
                <a:solidFill>
                  <a:srgbClr val="000000"/>
                </a:solidFill>
                <a:latin typeface="Calibri"/>
              </a:rPr>
              <a:t>la 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instrucció bàsica d'RDA indica enregistrar les obres de forma separada (com es mostra en els camps 700). La concreció a l'alternativa d'RDA 6.2.2.10.3</a:t>
            </a:r>
            <a:r>
              <a:rPr b="1" lang="ca-ES" sz="1200" spc="-1" strike="noStrike">
                <a:solidFill>
                  <a:srgbClr val="000000"/>
                </a:solidFill>
                <a:latin typeface="Calibri"/>
              </a:rPr>
              <a:t> </a:t>
            </a:r>
            <a:r>
              <a:rPr b="0" lang="ca-ES" sz="1200" spc="-1" strike="noStrike">
                <a:solidFill>
                  <a:srgbClr val="000000"/>
                </a:solidFill>
                <a:latin typeface="Calibri"/>
              </a:rPr>
              <a:t>indica  utilitzar un títol col·lectiu convencional, com es mostra en el camp 240, i a més a més proporcionar un punt d'accés analític per a la primera obra  o la predominant en un camp 700 1</a:t>
            </a:r>
            <a:r>
              <a:rPr b="1" lang="ca-ES" sz="1200" spc="-1" strike="noStrike" u="sng">
                <a:solidFill>
                  <a:srgbClr val="000000"/>
                </a:solidFill>
                <a:uFillTx/>
                <a:latin typeface="Calibri"/>
              </a:rPr>
              <a:t>2</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punts d'accés per a qualsevol obra de la compilació després de la primera no són un requeriment bàsic; enregistrar els punts d'accés per a les altres obres queda a criteri del catalog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BC53-0B53-4854-B10C-A6BB17B79D6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90720" y="766800"/>
            <a:ext cx="5118120" cy="3838680"/>
          </a:xfrm>
          <a:prstGeom prst="rect">
            <a:avLst/>
          </a:prstGeom>
          <a:ln w="0">
            <a:noFill/>
          </a:ln>
        </p:spPr>
      </p:sp>
      <p:sp>
        <p:nvSpPr>
          <p:cNvPr id="4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rganització del capítol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irectrius generals </a:t>
            </a:r>
            <a:r>
              <a:rPr b="0" lang="ca-ES" sz="1200" spc="-1" strike="noStrike">
                <a:solidFill>
                  <a:srgbClr val="000000"/>
                </a:solidFill>
                <a:latin typeface="Calibri"/>
              </a:rPr>
              <a:t>(RDA 6.0-6.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Títol de l'obra </a:t>
            </a:r>
            <a:r>
              <a:rPr b="0" lang="ca-ES" sz="1200" spc="-1" strike="noStrike">
                <a:solidFill>
                  <a:srgbClr val="000000"/>
                </a:solidFill>
                <a:latin typeface="Calibri"/>
              </a:rPr>
              <a:t>(RDA 6.2) </a:t>
            </a:r>
            <a:r>
              <a:rPr b="0" i="1" lang="ca-ES" sz="1200" spc="-1" strike="noStrike">
                <a:solidFill>
                  <a:srgbClr val="000000"/>
                </a:solidFill>
                <a:latin typeface="Calibri"/>
              </a:rPr>
              <a:t>(aquí trobareu les instruccions específiques sobre la tria i l'enregistrament del títol preferi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obra (=qualificadors) (RDA 6.3-6.9)</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tributs de l'expressió (=qualificadors) (RDA 6.10-6.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tegories específiqu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musicals (RDA 6.14.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jurídiques (RDA 6.19.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res religioses (RDA 6.23.2)</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unicacions oficials (RDA 6.26.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aboració dels punts d'accés </a:t>
            </a:r>
            <a:r>
              <a:rPr b="0" lang="ca-ES" sz="1200" spc="-1" strike="noStrike">
                <a:solidFill>
                  <a:srgbClr val="000000"/>
                </a:solidFill>
                <a:latin typeface="Calibri"/>
              </a:rPr>
              <a:t>(RDA 6.27-31)</a:t>
            </a:r>
            <a:endParaRPr b="0" lang="en-US" sz="1200" spc="-1" strike="noStrike">
              <a:solidFill>
                <a:srgbClr val="000000"/>
              </a:solidFill>
              <a:latin typeface="Calibri"/>
            </a:endParaRPr>
          </a:p>
        </p:txBody>
      </p:sp>
      <p:sp>
        <p:nvSpPr>
          <p:cNvPr id="4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397E-AB94-4710-B58F-6EE6197467A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90720" y="766800"/>
            <a:ext cx="5118120" cy="3838680"/>
          </a:xfrm>
          <a:prstGeom prst="rect">
            <a:avLst/>
          </a:prstGeom>
          <a:ln w="0">
            <a:noFill/>
          </a:ln>
        </p:spPr>
      </p:sp>
      <p:sp>
        <p:nvSpPr>
          <p:cNvPr id="5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ons d'obres de més d'un cre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u="sng">
                <a:solidFill>
                  <a:srgbClr val="000000"/>
                </a:solidFill>
                <a:uFillTx/>
                <a:latin typeface="Calibri"/>
              </a:rPr>
              <a:t>Primer s'ha de decidir si és una compilació o una col·laboració -- Com ho decidi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ot i que no existeixi la "regla de tres", no es pot afegir automàticament un camp 100 a un registre bibliogràfic quan hi hagi més d'un creador. Primer s'ha de determinar si és una compilació d'obres de diferents creadors o si és una col·laboració entre creadors que treballen conjunta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laus per saber si és una </a:t>
            </a:r>
            <a:r>
              <a:rPr b="0" i="1" lang="ca-ES" sz="1200" spc="-1" strike="noStrike">
                <a:solidFill>
                  <a:srgbClr val="000000"/>
                </a:solidFill>
                <a:latin typeface="Calibri"/>
              </a:rPr>
              <a:t>compil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la font preferida indica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 sumari, la taula de contingut, el prefaci, les notes del programa, la pàgina inicial, etc. atribueixen els diferents capítols/apartats del recurs a diferent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i els components del recurs indiquen qui ha creat què.</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resència d'un compilador o d'un editor literar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fet que els creadors no visquin en el mateix període de tem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indicació de qui ha creat què o en cas de dubte, cal considerar-ho una </a:t>
            </a:r>
            <a:r>
              <a:rPr b="0" i="1" lang="ca-ES" sz="1200" spc="-1" strike="noStrike">
                <a:solidFill>
                  <a:srgbClr val="000000"/>
                </a:solidFill>
                <a:latin typeface="Calibri"/>
              </a:rPr>
              <a:t>col·labor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nseu que RDA 19.2.1.1.1 pot modificar aquesta política; com és el cas d'una entitat corporativa que és considerada la creadora del recurs. Les actes d'un congrés són un exemple freqüent de la inclusió d'obres de diferents persones, però atès que el congrés és el creador, no es tracta com una compilació d'obres de diferents creadors.</a:t>
            </a:r>
            <a:endParaRPr b="0" lang="en-US" sz="1200" spc="-1" strike="noStrike">
              <a:solidFill>
                <a:srgbClr val="000000"/>
              </a:solidFill>
              <a:latin typeface="Calibri"/>
            </a:endParaRPr>
          </a:p>
        </p:txBody>
      </p:sp>
      <p:sp>
        <p:nvSpPr>
          <p:cNvPr id="5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D4D21-484F-45FD-A2FA-1360552521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90720" y="766800"/>
            <a:ext cx="5118120" cy="3838680"/>
          </a:xfrm>
          <a:prstGeom prst="rect">
            <a:avLst/>
          </a:prstGeom>
          <a:ln w="0">
            <a:noFill/>
          </a:ln>
        </p:spPr>
      </p:sp>
      <p:sp>
        <p:nvSpPr>
          <p:cNvPr id="5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ilació d'obres de més d'un crea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responsabilitat de més d'un creador, haurem de determinar si es tracta d'una compilació o d'una col·labor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mpilació ("agregat"), l'obra s'identificarà pel títol preferit de la compil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és una col·laboració, l'obra s'identificarà per la combinació del creador principal (o anomenat en primer lloc) i el títol preferit.</a:t>
            </a:r>
            <a:endParaRPr b="0" lang="en-US" sz="1200" spc="-1" strike="noStrike">
              <a:solidFill>
                <a:srgbClr val="000000"/>
              </a:solidFill>
              <a:latin typeface="Calibri"/>
            </a:endParaRPr>
          </a:p>
        </p:txBody>
      </p:sp>
      <p:sp>
        <p:nvSpPr>
          <p:cNvPr id="5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E7B6-1A42-4369-B6FB-283DA99D849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90720" y="766800"/>
            <a:ext cx="5118120" cy="3838680"/>
          </a:xfrm>
          <a:prstGeom prst="rect">
            <a:avLst/>
          </a:prstGeom>
          <a:ln w="0">
            <a:noFill/>
          </a:ln>
        </p:spPr>
      </p:sp>
      <p:sp>
        <p:nvSpPr>
          <p:cNvPr id="5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363C-B575-4AFD-AB79-462F7B8F169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90720" y="766800"/>
            <a:ext cx="5118120" cy="3838680"/>
          </a:xfrm>
          <a:prstGeom prst="rect">
            <a:avLst/>
          </a:prstGeom>
          <a:ln w="0">
            <a:noFill/>
          </a:ln>
        </p:spPr>
      </p:sp>
      <p:sp>
        <p:nvSpPr>
          <p:cNvPr id="5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c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talogació de la LC en MARC disponible a </a:t>
            </a:r>
            <a:r>
              <a:rPr b="0" lang="ca-ES" sz="1200" spc="-1" strike="noStrike" u="sng">
                <a:solidFill>
                  <a:srgbClr val="0000ff"/>
                </a:solidFill>
                <a:uFillTx/>
                <a:latin typeface="Calibri"/>
                <a:hlinkClick r:id="rId1"/>
              </a:rPr>
              <a:t>https://lccn.loc.gov/201068148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t>
            </a:r>
            <a:r>
              <a:rPr b="0" lang="ca-ES" sz="1200" spc="-1" strike="noStrike">
                <a:solidFill>
                  <a:srgbClr val="000000"/>
                </a:solidFill>
                <a:latin typeface="Calibri"/>
              </a:rPr>
              <a:t>Només es mostra part de la descripció]</a:t>
            </a:r>
            <a:endParaRPr b="0" lang="en-US" sz="1200" spc="-1" strike="noStrike">
              <a:solidFill>
                <a:srgbClr val="000000"/>
              </a:solidFill>
              <a:latin typeface="Calibri"/>
            </a:endParaRPr>
          </a:p>
        </p:txBody>
      </p:sp>
      <p:sp>
        <p:nvSpPr>
          <p:cNvPr id="5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EBF81-707D-4AEA-B988-47165FDDC5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90720" y="766800"/>
            <a:ext cx="5118120" cy="3838680"/>
          </a:xfrm>
          <a:prstGeom prst="rect">
            <a:avLst/>
          </a:prstGeom>
          <a:ln w="0">
            <a:noFill/>
          </a:ln>
        </p:spPr>
      </p:sp>
      <p:sp>
        <p:nvSpPr>
          <p:cNvPr id="5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 </a:t>
            </a:r>
            <a:r>
              <a:rPr b="0" lang="ca-ES" sz="1200" spc="-1" strike="noStrike">
                <a:solidFill>
                  <a:srgbClr val="000000"/>
                </a:solidFill>
                <a:latin typeface="Calibri"/>
              </a:rPr>
              <a:t>extret de la presentació:</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ristan, Ana Lupe. </a:t>
            </a:r>
            <a:r>
              <a:rPr b="1" i="1" lang="ca-ES" sz="1200" spc="-1" strike="noStrike">
                <a:solidFill>
                  <a:srgbClr val="000000"/>
                </a:solidFill>
                <a:latin typeface="Calibri"/>
              </a:rPr>
              <a:t>RDA Special Topics: Compilations &amp; Collaborations. </a:t>
            </a:r>
            <a:r>
              <a:rPr b="1" lang="en-US" sz="1200" spc="-1" strike="noStrike">
                <a:solidFill>
                  <a:srgbClr val="000000"/>
                </a:solidFill>
                <a:latin typeface="Calibri"/>
              </a:rPr>
              <a:t>December 2011, revised by Kate James, August 2013.</a:t>
            </a:r>
            <a:r>
              <a:rPr b="1" i="1" lang="ca-ES" sz="1200" spc="-1" strike="noStrike">
                <a:solidFill>
                  <a:srgbClr val="000000"/>
                </a:solidFill>
                <a:latin typeface="Calibri"/>
              </a:rPr>
              <a:t> </a:t>
            </a: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5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83DA-7022-419F-9565-FEF2B1EA11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90720" y="766800"/>
            <a:ext cx="5118120" cy="3838680"/>
          </a:xfrm>
          <a:prstGeom prst="rect">
            <a:avLst/>
          </a:prstGeom>
          <a:ln w="0">
            <a:noFill/>
          </a:ln>
        </p:spPr>
      </p:sp>
      <p:sp>
        <p:nvSpPr>
          <p:cNvPr id="5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DA3E-4D6C-4F37-9F7B-4919174CE61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90720" y="766800"/>
            <a:ext cx="5118120" cy="3838680"/>
          </a:xfrm>
          <a:prstGeom prst="rect">
            <a:avLst/>
          </a:prstGeom>
          <a:ln w="0">
            <a:noFill/>
          </a:ln>
        </p:spPr>
      </p:sp>
      <p:sp>
        <p:nvSpPr>
          <p:cNvPr id="5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E187-E83E-40A9-BFAD-281E9585B2A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90720" y="766800"/>
            <a:ext cx="5118120" cy="3838680"/>
          </a:xfrm>
          <a:prstGeom prst="rect">
            <a:avLst/>
          </a:prstGeom>
          <a:ln w="0">
            <a:noFill/>
          </a:ln>
        </p:spPr>
      </p:sp>
      <p:sp>
        <p:nvSpPr>
          <p:cNvPr id="5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en aquesta compilació de dues obres es fa l'entrada principal i títol uniforme per la primera obra, i una entrada analítica addicional per la segona obra. Això és equivalent a 'identificar' aquesta compilació només per la primera de les obres in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n aplicar les instruccions bàsiques, el resultat és un camp 700 per a cada obra. No hi ha un creador de l'obra com un tot per a registrar en el camp 1X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21A65-B4E7-4D20-B61D-6E139BCE9A3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90720" y="766800"/>
            <a:ext cx="5118120" cy="3838680"/>
          </a:xfrm>
          <a:prstGeom prst="rect">
            <a:avLst/>
          </a:prstGeom>
          <a:ln w="0">
            <a:noFill/>
          </a:ln>
        </p:spPr>
      </p:sp>
      <p:sp>
        <p:nvSpPr>
          <p:cNvPr id="5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res en col·laboració - una obra, diversos crea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triar el creador d'una obra en col·laboració, seleccioneu el principal responsable o el creador anomenat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7.1.3 enumera algunes excepcions per a les obres en col·laboració quan el creador anomenat en primer lloc no es fa servir per identificar l'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recursos amb entitats corporatives i persones com a entitats responsabl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es col·laboracions music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cta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joria de les publicacions en sèrie.</a:t>
            </a:r>
            <a:endParaRPr b="0" lang="en-US" sz="1200" spc="-1" strike="noStrike">
              <a:solidFill>
                <a:srgbClr val="000000"/>
              </a:solidFill>
              <a:latin typeface="Calibri"/>
            </a:endParaRPr>
          </a:p>
        </p:txBody>
      </p:sp>
      <p:sp>
        <p:nvSpPr>
          <p:cNvPr id="5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BD34-B415-4123-91ED-875554CF359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90720" y="766800"/>
            <a:ext cx="5118120" cy="3838680"/>
          </a:xfrm>
          <a:prstGeom prst="rect">
            <a:avLst/>
          </a:prstGeom>
          <a:ln w="0">
            <a:noFill/>
          </a:ln>
        </p:spPr>
      </p:sp>
      <p:sp>
        <p:nvSpPr>
          <p:cNvPr id="55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dues persones (Martha Sweet i Linda Bruce) tenen la responsabilitat principal. Es tria la persona anomenada en primer lloc, amb el títol preferit (en aquest cas 245), per a identificar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eda a criteri del catalogador decidir si es proporcionen punts d'accé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21FC-3ED1-421F-BDA1-BC6E5463CE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90720" y="766800"/>
            <a:ext cx="5118120" cy="3838680"/>
          </a:xfrm>
          <a:prstGeom prst="rect">
            <a:avLst/>
          </a:prstGeom>
          <a:ln w="0">
            <a:noFill/>
          </a:ln>
        </p:spPr>
      </p:sp>
      <p:sp>
        <p:nvSpPr>
          <p:cNvPr id="4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obra i express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erme "agregats" s'ha d'entendre com a una "obra d'obres" (una compilació d'obres). Quan parlem d'obra i/o expressions hem de tenir present que pot fer referència a una compilació, a un dels seus components, com també a obres i expressions individuals.</a:t>
            </a:r>
            <a:endParaRPr b="0" lang="en-US" sz="1200" spc="-1" strike="noStrike">
              <a:solidFill>
                <a:srgbClr val="000000"/>
              </a:solidFill>
              <a:latin typeface="Calibri"/>
            </a:endParaRPr>
          </a:p>
        </p:txBody>
      </p:sp>
      <p:sp>
        <p:nvSpPr>
          <p:cNvPr id="4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3E092-90AC-4AE5-A96F-B7DB49F23E1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90720" y="766800"/>
            <a:ext cx="5118120" cy="3838680"/>
          </a:xfrm>
          <a:prstGeom prst="rect">
            <a:avLst/>
          </a:prstGeom>
          <a:ln w="0">
            <a:noFill/>
          </a:ln>
        </p:spPr>
      </p:sp>
      <p:sp>
        <p:nvSpPr>
          <p:cNvPr id="5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cap menció figura com a principal responsable. D'acord amb les AACR2, ha de ser entrat sota títol, sense camp 1XX, i només s'enregistra la primera persona anomenada en el camp 24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el creador anomenat en primer lloc (Susan Brown) es tria com a creador de l'obra. La resta de creadors són enregistrats en la menció de responsabilitat. Queda a criteri del catalogador decidir si es proporciona un punt d'accés per a la resta de cread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46E2-2DF7-4A8A-AA29-FDF20CA277C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990720" y="766800"/>
            <a:ext cx="5118120" cy="3838680"/>
          </a:xfrm>
          <a:prstGeom prst="rect">
            <a:avLst/>
          </a:prstGeom>
          <a:ln w="0">
            <a:noFill/>
          </a:ln>
        </p:spPr>
      </p:sp>
      <p:sp>
        <p:nvSpPr>
          <p:cNvPr id="5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entari, anotacions, contingut il·lustratiu, etc. afegit a una obra que existia prèviamen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a:t>
            </a:r>
            <a:r>
              <a:rPr b="0" lang="ca-ES" sz="1200" spc="-1" strike="noStrike" u="sng">
                <a:solidFill>
                  <a:srgbClr val="000000"/>
                </a:solidFill>
                <a:uFillTx/>
                <a:latin typeface="Calibri"/>
              </a:rPr>
              <a:t>es presenta com l'obra </a:t>
            </a:r>
            <a:r>
              <a:rPr b="0" lang="ca-ES" sz="1200" spc="-1" strike="noStrike">
                <a:solidFill>
                  <a:srgbClr val="000000"/>
                </a:solidFill>
                <a:latin typeface="Calibri"/>
              </a:rPr>
              <a:t>del responsable del comentari, etc., apliqueu: </a:t>
            </a:r>
            <a:r>
              <a:rPr b="1" i="1" lang="ca-ES" sz="1200" spc="-1" strike="noStrike">
                <a:solidFill>
                  <a:srgbClr val="000000"/>
                </a:solidFill>
                <a:latin typeface="Calibri"/>
              </a:rPr>
              <a:t>Concreció 6.27.1.6.</a:t>
            </a:r>
            <a:r>
              <a:rPr b="0" lang="ca-ES" sz="1200" spc="-1" strike="noStrike">
                <a:solidFill>
                  <a:srgbClr val="000000"/>
                </a:solidFill>
                <a:latin typeface="Calibri"/>
              </a:rPr>
              <a:t> Si el recurs conté l'obra original i un comentari separat (o comentaris) i el comentari té el seu propi títol, s'aplica </a:t>
            </a:r>
            <a:r>
              <a:rPr b="1" lang="ca-ES" sz="1200" spc="-1" strike="noStrike">
                <a:solidFill>
                  <a:srgbClr val="000000"/>
                </a:solidFill>
                <a:latin typeface="Calibri"/>
              </a:rPr>
              <a:t>RDA 6.27.1.2 </a:t>
            </a:r>
            <a:r>
              <a:rPr b="0" lang="ca-ES" sz="1200" spc="-1" strike="noStrike">
                <a:solidFill>
                  <a:srgbClr val="000000"/>
                </a:solidFill>
                <a:latin typeface="Calibri"/>
              </a:rPr>
              <a:t>(un sol creador) o </a:t>
            </a:r>
            <a:r>
              <a:rPr b="1" lang="ca-ES" sz="1200" spc="-1" strike="noStrike">
                <a:solidFill>
                  <a:srgbClr val="000000"/>
                </a:solidFill>
                <a:latin typeface="Calibri"/>
              </a:rPr>
              <a:t>RDA 6.27.1.4 </a:t>
            </a:r>
            <a:r>
              <a:rPr b="0" lang="ca-ES" sz="1200" spc="-1" strike="noStrike">
                <a:solidFill>
                  <a:srgbClr val="000000"/>
                </a:solidFill>
                <a:latin typeface="Calibri"/>
              </a:rPr>
              <a:t>(més d'un creador) a la </a:t>
            </a:r>
            <a:r>
              <a:rPr b="1" lang="ca-ES" sz="1200" spc="-1" strike="noStrike" u="sng">
                <a:solidFill>
                  <a:srgbClr val="000000"/>
                </a:solidFill>
                <a:uFillTx/>
                <a:latin typeface="Calibri"/>
              </a:rPr>
              <a:t>compil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La Concreció 25.1.</a:t>
            </a:r>
            <a:r>
              <a:rPr b="0" lang="ca-ES" sz="1200" spc="-1" strike="noStrike">
                <a:solidFill>
                  <a:srgbClr val="000000"/>
                </a:solidFill>
                <a:latin typeface="Calibri"/>
              </a:rPr>
              <a:t> indica que per compilacions que consisteixen de l’obra original i d’un comentari separat amb el seu propi títol, es proporcionen  </a:t>
            </a:r>
            <a:r>
              <a:rPr b="0" lang="ca-ES" sz="1200" spc="-1" strike="noStrike" u="sng">
                <a:solidFill>
                  <a:srgbClr val="000000"/>
                </a:solidFill>
                <a:uFillTx/>
                <a:latin typeface="Calibri"/>
              </a:rPr>
              <a:t>punts d’accés autoritzats per a tots d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124A-484E-499C-BB8A-84E54AF7E6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990720" y="766800"/>
            <a:ext cx="5118120" cy="3838680"/>
          </a:xfrm>
          <a:prstGeom prst="rect">
            <a:avLst/>
          </a:prstGeom>
          <a:ln w="0">
            <a:noFill/>
          </a:ln>
        </p:spPr>
      </p:sp>
      <p:sp>
        <p:nvSpPr>
          <p:cNvPr id="5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5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ABC4D-9B6A-4197-9DDC-B29C63A9DE3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990720" y="766800"/>
            <a:ext cx="5118120" cy="3838680"/>
          </a:xfrm>
          <a:prstGeom prst="rect">
            <a:avLst/>
          </a:prstGeom>
          <a:ln w="0">
            <a:noFill/>
          </a:ln>
        </p:spPr>
      </p:sp>
      <p:sp>
        <p:nvSpPr>
          <p:cNvPr id="5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
        <p:nvSpPr>
          <p:cNvPr id="5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3A2B-5FF7-4136-B9F0-660B14C6B93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90720" y="766800"/>
            <a:ext cx="5118120" cy="3838680"/>
          </a:xfrm>
          <a:prstGeom prst="rect">
            <a:avLst/>
          </a:prstGeom>
          <a:ln w="0">
            <a:noFill/>
          </a:ln>
        </p:spPr>
      </p:sp>
      <p:sp>
        <p:nvSpPr>
          <p:cNvPr id="56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d'altres obres anomenades pel mateix títol.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el terme "obra" inclou les compilacions (agregats) i els components (parts) així com obres individuals. RDA 6.27.1.9 s'aplica a qualsevol dels cas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6633D-9339-4DF5-ABA8-F0A15CC746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90720" y="766800"/>
            <a:ext cx="5118120" cy="3838680"/>
          </a:xfrm>
          <a:prstGeom prst="rect">
            <a:avLst/>
          </a:prstGeom>
          <a:ln w="0">
            <a:noFill/>
          </a:ln>
        </p:spPr>
      </p:sp>
      <p:sp>
        <p:nvSpPr>
          <p:cNvPr id="5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igual o similar però que representa una obra diferent (co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les obres que són anomenades amb un títol sol caldrà distingir-les si coincideixen amb el punt d'accés d'una persona, família, entitat corporativa o lloc. Això és un canvi significatiu respecte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En general no s'ha de preveure un conflicte i, quan es doni, l'addició es farà al recurs que s'està catalogant).</a:t>
            </a:r>
            <a:endParaRPr b="0" lang="en-US" sz="1200" spc="-1" strike="noStrike">
              <a:solidFill>
                <a:srgbClr val="000000"/>
              </a:solidFill>
              <a:latin typeface="Calibri"/>
            </a:endParaRPr>
          </a:p>
        </p:txBody>
      </p:sp>
      <p:sp>
        <p:nvSpPr>
          <p:cNvPr id="5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C504-BB14-49C1-9545-FB169261467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90720" y="766800"/>
            <a:ext cx="5118120" cy="3838680"/>
          </a:xfrm>
          <a:prstGeom prst="rect">
            <a:avLst/>
          </a:prstGeom>
          <a:ln w="0">
            <a:noFill/>
          </a:ln>
        </p:spPr>
      </p:sp>
      <p:sp>
        <p:nvSpPr>
          <p:cNvPr id="5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8EA34-8D69-407E-8CAF-E291BA34F43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990720" y="766800"/>
            <a:ext cx="5118120" cy="3838680"/>
          </a:xfrm>
          <a:prstGeom prst="rect">
            <a:avLst/>
          </a:prstGeom>
          <a:ln w="0">
            <a:noFill/>
          </a:ln>
        </p:spPr>
      </p:sp>
      <p:sp>
        <p:nvSpPr>
          <p:cNvPr id="5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7316-9DD5-4E71-8ED3-60B1E6A677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90720" y="766800"/>
            <a:ext cx="5118120" cy="3838680"/>
          </a:xfrm>
          <a:prstGeom prst="rect">
            <a:avLst/>
          </a:prstGeom>
          <a:ln w="0">
            <a:noFill/>
          </a:ln>
        </p:spPr>
      </p:sp>
      <p:sp>
        <p:nvSpPr>
          <p:cNvPr id="5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4 la </a:t>
            </a:r>
            <a:r>
              <a:rPr b="1" i="1" lang="ca-ES" sz="1200" spc="-1" strike="noStrike">
                <a:solidFill>
                  <a:srgbClr val="000000"/>
                </a:solidFill>
                <a:latin typeface="Calibri"/>
              </a:rPr>
              <a:t>Data de l'obra </a:t>
            </a:r>
            <a:r>
              <a:rPr b="1" lang="ca-ES" sz="1200" spc="-1" strike="noStrike">
                <a:solidFill>
                  <a:srgbClr val="000000"/>
                </a:solidFill>
                <a:latin typeface="Calibri"/>
              </a:rPr>
              <a:t>és un ELEMENT BÀSIC quan és necessària per diferenciar </a:t>
            </a:r>
            <a:r>
              <a:rPr b="0" lang="ca-ES" sz="1200" spc="-1" strike="noStrike">
                <a:solidFill>
                  <a:srgbClr val="000000"/>
                </a:solidFill>
                <a:latin typeface="Calibri"/>
              </a:rPr>
              <a:t>una obra d'una altra amb el mateix títol o per diferenciar-la del nom d'una persona, família o entitat corporati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l'obra es defineix com "la data més antiga associada amb una obra." Si la data de quan va ser creada l'obra no està disponible (es refereix com a creada a la ment del creador), es pot donar la data en què l'obra va ser publicada per primera vegada o va ser edit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750A-508C-4A1A-A564-F99EA2B0D32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90720" y="766800"/>
            <a:ext cx="5118120" cy="3838680"/>
          </a:xfrm>
          <a:prstGeom prst="rect">
            <a:avLst/>
          </a:prstGeom>
          <a:ln w="0">
            <a:noFill/>
          </a:ln>
        </p:spPr>
      </p:sp>
      <p:sp>
        <p:nvSpPr>
          <p:cNvPr id="5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origen de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lloc d'origen de l'obra en la forma prescrita en el capítol 16 d'RDA. Tanmateix, en afegir el nom del lloc més gran com a qualificador no s’aplica l’apèndix B. </a:t>
            </a:r>
            <a:r>
              <a:rPr b="1" lang="ca-ES" sz="1200" spc="-1" strike="noStrike" u="sng">
                <a:solidFill>
                  <a:srgbClr val="000000"/>
                </a:solidFill>
                <a:uFillTx/>
                <a:latin typeface="Calibri"/>
              </a:rPr>
              <a:t>No s’abreugen els noms dels països, els estats, les províncies, els territoris, etc</a:t>
            </a:r>
            <a:r>
              <a:rPr b="1" lang="ca-ES" sz="1200" spc="-1" strike="noStrike">
                <a:solidFill>
                  <a:srgbClr val="000000"/>
                </a:solidFill>
                <a:latin typeface="Calibri"/>
              </a:rPr>
              <a:t>., </a:t>
            </a:r>
            <a:r>
              <a:rPr b="0" lang="ca-ES" sz="1200" spc="-1" strike="noStrike">
                <a:solidFill>
                  <a:srgbClr val="000000"/>
                </a:solidFill>
                <a:latin typeface="Calibri"/>
              </a:rPr>
              <a:t>excepte: RSFSR i UR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1B9FD-70AF-4F7E-ABA2-53A0767D0E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90720" y="766800"/>
            <a:ext cx="5118120" cy="3838680"/>
          </a:xfrm>
          <a:prstGeom prst="rect">
            <a:avLst/>
          </a:prstGeom>
          <a:ln w="0">
            <a:noFill/>
          </a:ln>
        </p:spPr>
      </p:sp>
      <p:sp>
        <p:nvSpPr>
          <p:cNvPr id="4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Títol de l’ob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ítol de l'obra pot fer referència a qualsevol títol conegut. D'aquests títols coneguts, RDA distingeix dues categories: a) el títol preferit, el que ha d'identificar l'obra mitjançant un punt d'accés,i b)  la resta de títols,  els quals s'han de considerar variants de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1A163-7538-4CFD-8A81-09A4AB270E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90720" y="766800"/>
            <a:ext cx="5118120" cy="3838680"/>
          </a:xfrm>
          <a:prstGeom prst="rect">
            <a:avLst/>
          </a:prstGeom>
          <a:ln w="0">
            <a:noFill/>
          </a:ln>
        </p:spPr>
      </p:sp>
      <p:sp>
        <p:nvSpPr>
          <p:cNvPr id="5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A3913-A22B-48E9-88F7-03BCB75D77F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90720" y="766800"/>
            <a:ext cx="5118120" cy="3838680"/>
          </a:xfrm>
          <a:prstGeom prst="rect">
            <a:avLst/>
          </a:prstGeom>
          <a:ln w="0">
            <a:noFill/>
          </a:ln>
        </p:spPr>
      </p:sp>
      <p:sp>
        <p:nvSpPr>
          <p:cNvPr id="5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Lleis que regeixen en una jurisdicció</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a el títol col·lectiu convencional "</a:t>
            </a:r>
            <a:r>
              <a:rPr b="1" i="1" lang="ca-ES" sz="1200" spc="-1" strike="noStrike">
                <a:solidFill>
                  <a:srgbClr val="000000"/>
                </a:solidFill>
                <a:latin typeface="Calibri"/>
              </a:rPr>
              <a:t>Lleis, etc</a:t>
            </a:r>
            <a:r>
              <a:rPr b="1" lang="ca-ES" sz="1200" spc="-1" strike="noStrike">
                <a:solidFill>
                  <a:srgbClr val="000000"/>
                </a:solidFill>
                <a:latin typeface="Calibri"/>
              </a:rPr>
              <a:t>." </a:t>
            </a:r>
            <a:r>
              <a:rPr b="0" lang="ca-ES" sz="1200" spc="-1" strike="noStrike">
                <a:solidFill>
                  <a:srgbClr val="000000"/>
                </a:solidFill>
                <a:latin typeface="Calibri"/>
              </a:rPr>
              <a:t>per a reculls gene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Aquest canvi és d'aquest any 2016, i no es troba recollit a la traducció catalana en PDF de 2015) </a:t>
            </a:r>
            <a:endParaRPr b="0" lang="en-US" sz="1200" spc="-1" strike="noStrike">
              <a:solidFill>
                <a:srgbClr val="000000"/>
              </a:solidFill>
              <a:latin typeface="Calibri"/>
            </a:endParaRPr>
          </a:p>
        </p:txBody>
      </p:sp>
      <p:sp>
        <p:nvSpPr>
          <p:cNvPr id="5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F416E-3F02-408D-BF3A-86EEFA8F5A8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90720" y="766800"/>
            <a:ext cx="5118120" cy="3838680"/>
          </a:xfrm>
          <a:prstGeom prst="rect">
            <a:avLst/>
          </a:prstGeom>
          <a:ln w="0">
            <a:noFill/>
          </a:ln>
        </p:spPr>
      </p:sp>
      <p:sp>
        <p:nvSpPr>
          <p:cNvPr id="5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Tract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a:t>
            </a:r>
            <a:r>
              <a:rPr b="1" lang="ca-ES" sz="1200" spc="-1" strike="noStrike">
                <a:solidFill>
                  <a:srgbClr val="000000"/>
                </a:solidFill>
                <a:latin typeface="Calibri"/>
              </a:rPr>
              <a:t>d’un tractat</a:t>
            </a:r>
            <a:r>
              <a:rPr b="0" lang="ca-ES" sz="1200" spc="-1" strike="noStrike">
                <a:solidFill>
                  <a:srgbClr val="000000"/>
                </a:solidFill>
                <a:latin typeface="Calibri"/>
              </a:rPr>
              <a:t>, elaboreu el punt d’accés autoritzat que representa l’obra usant el títol preferit del tractat. S’hi afegeix la data del tractat entre parèntesis, els mesos no s’abreugen. Els signataris no formen part del punt d'accés autoritzat.</a:t>
            </a:r>
            <a:r>
              <a:rPr b="0" i="1" lang="ca-ES" sz="1200" spc="-1" strike="noStrike">
                <a:solidFill>
                  <a:srgbClr val="000000"/>
                </a:solidFill>
                <a:latin typeface="Calibri"/>
              </a:rPr>
              <a:t> </a:t>
            </a:r>
            <a:r>
              <a:rPr b="0" lang="ca-ES" sz="1200" spc="-1" strike="noStrike">
                <a:solidFill>
                  <a:srgbClr val="000000"/>
                </a:solidFill>
                <a:latin typeface="Calibri"/>
              </a:rPr>
              <a:t>Els  signataris, ratificadors, etc. s'enregistren en camps 7XX, vegeu RDA 19.3.2.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a:t>
            </a:r>
            <a:r>
              <a:rPr b="1" lang="ca-ES" sz="1200" spc="-1" strike="noStrike">
                <a:solidFill>
                  <a:srgbClr val="000000"/>
                </a:solidFill>
                <a:latin typeface="Calibri"/>
              </a:rPr>
              <a:t>compilació de tractats,</a:t>
            </a:r>
            <a:r>
              <a:rPr b="0" lang="ca-ES" sz="1200" spc="-1" strike="noStrike">
                <a:solidFill>
                  <a:srgbClr val="000000"/>
                </a:solidFill>
                <a:latin typeface="Calibri"/>
              </a:rPr>
              <a:t> s'afegeix la data o les dates inclus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5D7C-C939-4427-8AEE-229A065DA1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90720" y="766800"/>
            <a:ext cx="5118120" cy="3838680"/>
          </a:xfrm>
          <a:prstGeom prst="rect">
            <a:avLst/>
          </a:prstGeom>
          <a:ln w="0">
            <a:noFill/>
          </a:ln>
        </p:spPr>
      </p:sp>
      <p:sp>
        <p:nvSpPr>
          <p:cNvPr id="5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Parts de la Bíbl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s'utilitzen les abreviatures "A.T." i "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s dels llibres i els grups de llibres s'enregistren com una subdivisió del títol preferit de la Bíblia.</a:t>
            </a:r>
            <a:endParaRPr b="0" lang="en-US" sz="1200" spc="-1" strike="noStrike">
              <a:solidFill>
                <a:srgbClr val="000000"/>
              </a:solidFill>
              <a:latin typeface="Calibri"/>
            </a:endParaRPr>
          </a:p>
        </p:txBody>
      </p:sp>
      <p:sp>
        <p:nvSpPr>
          <p:cNvPr id="5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1DF8-D369-4010-9D86-3D524FAE5BF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90720" y="766800"/>
            <a:ext cx="5118120" cy="3838680"/>
          </a:xfrm>
          <a:prstGeom prst="rect">
            <a:avLst/>
          </a:prstGeom>
          <a:ln w="0">
            <a:noFill/>
          </a:ln>
        </p:spPr>
      </p:sp>
      <p:sp>
        <p:nvSpPr>
          <p:cNvPr id="5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exemples mostren els principals canvis respecte a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eu que per als protestants són "apòcrifs" una sèrie de llibres que en el cànon catòlic conformen el grup de "libres deuterocanònics". Amb RDA e</a:t>
            </a:r>
            <a:r>
              <a:rPr b="0" lang="ca-ES" sz="1200" spc="-1" strike="noStrike" u="sng">
                <a:solidFill>
                  <a:srgbClr val="000000"/>
                </a:solidFill>
                <a:uFillTx/>
                <a:latin typeface="Calibri"/>
              </a:rPr>
              <a:t>nregistreu-los com una subdivisió del títol preferit de la Bíblia.</a:t>
            </a:r>
            <a:r>
              <a:rPr b="0" lang="ca-ES" sz="1200" spc="-1" strike="noStrike">
                <a:solidFill>
                  <a:srgbClr val="000000"/>
                </a:solidFill>
                <a:latin typeface="Calibri"/>
              </a:rPr>
              <a:t> No confongueu "apòcrifs" i "llibres apòcrifs"; els apòcrifs són parts de la Bíblia, p. ex., la </a:t>
            </a:r>
            <a:r>
              <a:rPr b="0" i="1" lang="ca-ES" sz="1200" spc="-1" strike="noStrike">
                <a:solidFill>
                  <a:srgbClr val="000000"/>
                </a:solidFill>
                <a:latin typeface="Calibri"/>
              </a:rPr>
              <a:t>Pregària de Manassés</a:t>
            </a:r>
            <a:r>
              <a:rPr b="0" lang="ca-ES" sz="1200" spc="-1" strike="noStrike">
                <a:solidFill>
                  <a:srgbClr val="000000"/>
                </a:solidFill>
                <a:latin typeface="Calibri"/>
              </a:rPr>
              <a:t>, mentre que els "llibres apòcrifs", no. (RDA 6.23.2.6. i concreció)</a:t>
            </a:r>
            <a:endParaRPr b="0" lang="en-US" sz="1200" spc="-1" strike="noStrike">
              <a:solidFill>
                <a:srgbClr val="000000"/>
              </a:solidFill>
              <a:latin typeface="Calibri"/>
            </a:endParaRPr>
          </a:p>
        </p:txBody>
      </p:sp>
      <p:sp>
        <p:nvSpPr>
          <p:cNvPr id="60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28195-26CD-45E5-94C9-B11560E2F04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01" name="Footer Placeholder 4"/>
          <p:cNvSpPr/>
          <p:nvPr/>
        </p:nvSpPr>
        <p:spPr>
          <a:xfrm>
            <a:off x="0" y="9720360"/>
            <a:ext cx="3076560" cy="512640"/>
          </a:xfrm>
          <a:prstGeom prst="rect">
            <a:avLst/>
          </a:prstGeom>
          <a:noFill/>
          <a:ln w="0">
            <a:noFill/>
          </a:ln>
        </p:spPr>
        <p:style>
          <a:lnRef idx="0"/>
          <a:fillRef idx="0"/>
          <a:effectRef idx="0"/>
          <a:fontRef idx="minor"/>
        </p:style>
        <p:txBody>
          <a:bodyPr lIns="95400" rIns="95400" tIns="47880" bIns="478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990720" y="766800"/>
            <a:ext cx="5118120" cy="383868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seleccions de la Bíbl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6.23.2.9.7 Apliqueu aquesta instrucció 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conjuntes de l’Antic Testament i del Nou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testa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ragments d’una selecció sola d’un llibre individu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leccions d’un grup de lli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títol més específic que sigui apropiat a les seleccions, seguit del títol col·lectiu convencional </a:t>
            </a:r>
            <a:r>
              <a:rPr b="1" i="1" lang="ca-ES" sz="1200" spc="-1" strike="noStrike">
                <a:solidFill>
                  <a:srgbClr val="000000"/>
                </a:solidFill>
                <a:latin typeface="Calibri"/>
              </a:rPr>
              <a:t>Selec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AACR2 (25.18A9) s'especifica afegir </a:t>
            </a:r>
            <a:r>
              <a:rPr b="0" i="1" lang="ca-ES" sz="1200" spc="-1" strike="noStrike">
                <a:solidFill>
                  <a:srgbClr val="000000"/>
                </a:solidFill>
                <a:latin typeface="Calibri"/>
              </a:rPr>
              <a:t>Seleccions </a:t>
            </a:r>
            <a:r>
              <a:rPr b="0" lang="ca-ES" sz="1200" spc="-1" strike="noStrike">
                <a:solidFill>
                  <a:srgbClr val="000000"/>
                </a:solidFill>
                <a:latin typeface="Calibri"/>
              </a:rPr>
              <a:t>a continuació de la llengua, però amb RDA la llengua és un atribut d'una expressió i no es pot interposar entre els atributs de l'obra i el títol preferit; </a:t>
            </a:r>
            <a:r>
              <a:rPr b="1" lang="ca-ES" sz="1200" spc="-1" strike="noStrike">
                <a:solidFill>
                  <a:srgbClr val="000000"/>
                </a:solidFill>
                <a:latin typeface="Calibri"/>
              </a:rPr>
              <a:t>l'ordre correcte dels subcamps és $a $k $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5C739-57E2-45C7-97F4-667D440D378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990720" y="766800"/>
            <a:ext cx="5118120" cy="383868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licacions a la LEMAC </a:t>
            </a:r>
            <a:r>
              <a:rPr b="0" lang="ca-ES" sz="1200" spc="-1" strike="noStrike">
                <a:solidFill>
                  <a:srgbClr val="000000"/>
                </a:solidFill>
                <a:latin typeface="Calibri"/>
              </a:rPr>
              <a:t>(Act. abril 20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canvis també tenen implicacions en els encapçalaments de matèria. Els usuaris de la LEMAC han de tenir en compte la correcta aplicació en els encapçalaments i subdivisions. Després de l’estiu de 2017 s'iniciarà el procés per adequar els registres d'autoritat de la LEMAC i els bibliogràfics associats.</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a:t>
            </a:r>
            <a:r>
              <a:rPr b="0" lang="ca-ES" sz="1200" spc="-1" strike="noStrike">
                <a:solidFill>
                  <a:srgbClr val="000000"/>
                </a:solidFill>
                <a:latin typeface="Calibri"/>
              </a:rPr>
              <a:t>: accepteu un punt d'accés autoritzat LEMAC encara que no estigui d'acord amb RDA. </a:t>
            </a:r>
            <a:r>
              <a:rPr b="0" i="1" lang="ca-ES" sz="1100" spc="-1" strike="noStrike" u="sng">
                <a:solidFill>
                  <a:srgbClr val="000000"/>
                </a:solidFill>
                <a:uFillTx/>
                <a:latin typeface="Calibri"/>
              </a:rPr>
              <a:t>No creeu punts d'accés duplicats per adequar-los a RDA.</a:t>
            </a:r>
            <a:endParaRPr b="0" lang="en-US" sz="1100" spc="-1" strike="noStrike">
              <a:solidFill>
                <a:srgbClr val="000000"/>
              </a:solidFill>
              <a:latin typeface="Calibri"/>
            </a:endParaRPr>
          </a:p>
        </p:txBody>
      </p:sp>
      <p:sp>
        <p:nvSpPr>
          <p:cNvPr id="6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D09A2-FEE9-4365-A68C-3DD69CC8BB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90720" y="766800"/>
            <a:ext cx="5118120" cy="383868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anvis respecte AACR2: Obra mus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tots els canvis en aquesta sessió. Només dir que la desaparició de la "regla de tres" afecta especialment els títols de les obres musicals. Pel que fa a les abreviatures, continuen presents a l'apèndix B.7 algunes de les emprades fins ara, per ex., "op.", "Núm." però no "acomp.", "arr." (s'ha d'utilitzar "acompanyament" i "arranjament").</a:t>
            </a:r>
            <a:endParaRPr b="0" lang="en-US" sz="1200" spc="-1" strike="noStrike">
              <a:solidFill>
                <a:srgbClr val="000000"/>
              </a:solidFill>
              <a:latin typeface="Calibri"/>
            </a:endParaRPr>
          </a:p>
        </p:txBody>
      </p:sp>
      <p:sp>
        <p:nvSpPr>
          <p:cNvPr id="6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B850-CA10-4EF6-936A-97C7666E2FB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90720" y="766800"/>
            <a:ext cx="5118120" cy="383868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5ECDE-07B9-4A8D-B981-0736BF25E0A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90720" y="766800"/>
            <a:ext cx="5118120" cy="383868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pressió - Entitat FRB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xpressió" és potser l'entitat més fàcil de comprendre, si es considera literalment la paraula: és la forma en la qual una </a:t>
            </a:r>
            <a:r>
              <a:rPr b="0" i="1" lang="ca-ES" sz="1200" spc="-1" strike="noStrike">
                <a:solidFill>
                  <a:srgbClr val="000000"/>
                </a:solidFill>
                <a:latin typeface="Calibri"/>
              </a:rPr>
              <a:t>obra</a:t>
            </a:r>
            <a:r>
              <a:rPr b="0" lang="ca-ES" sz="1200" spc="-1" strike="noStrike">
                <a:solidFill>
                  <a:srgbClr val="000000"/>
                </a:solidFill>
                <a:latin typeface="Calibri"/>
              </a:rPr>
              <a:t> (la idea en la ment del creador) és </a:t>
            </a:r>
            <a:r>
              <a:rPr b="0" i="1" lang="ca-ES" sz="1200" spc="-1" strike="noStrike">
                <a:solidFill>
                  <a:srgbClr val="000000"/>
                </a:solidFill>
                <a:latin typeface="Calibri"/>
              </a:rPr>
              <a:t>expressada, </a:t>
            </a:r>
            <a:r>
              <a:rPr b="0" lang="ca-ES" sz="1200" spc="-1" strike="noStrike">
                <a:solidFill>
                  <a:srgbClr val="000000"/>
                </a:solidFill>
                <a:latin typeface="Calibri"/>
              </a:rPr>
              <a:t>mitjançant la llengua (=caràcters alfanumèrics), so, etc.</a:t>
            </a:r>
            <a:endParaRPr b="0" lang="en-US" sz="1200" spc="-1" strike="noStrike">
              <a:solidFill>
                <a:srgbClr val="000000"/>
              </a:solidFill>
              <a:latin typeface="Calibri"/>
            </a:endParaRPr>
          </a:p>
        </p:txBody>
      </p:sp>
      <p:sp>
        <p:nvSpPr>
          <p:cNvPr id="61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ABBC3-1578-4FA8-BBDB-5AD811C225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990720" y="766800"/>
            <a:ext cx="5118120" cy="3838680"/>
          </a:xfrm>
          <a:prstGeom prst="rect">
            <a:avLst/>
          </a:prstGeom>
          <a:ln w="0">
            <a:noFill/>
          </a:ln>
        </p:spPr>
      </p:sp>
      <p:sp>
        <p:nvSpPr>
          <p:cNvPr id="4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s punts d’accés inclouen</a:t>
            </a:r>
            <a:r>
              <a:rPr b="0" i="1" lang="ca-ES"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punts d’accés autoritzats (=encapçalament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variants de punt d’accés (=referències de vege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 final del capítol 6</a:t>
            </a:r>
            <a:r>
              <a:rPr b="1" lang="ca-ES" sz="1200" spc="-1" strike="noStrike">
                <a:solidFill>
                  <a:srgbClr val="000000"/>
                </a:solidFill>
                <a:latin typeface="Calibri"/>
              </a:rPr>
              <a:t>, </a:t>
            </a:r>
            <a:r>
              <a:rPr b="0" lang="ca-ES" sz="1200" spc="-1" strike="noStrike">
                <a:solidFill>
                  <a:srgbClr val="000000"/>
                </a:solidFill>
                <a:latin typeface="Calibri"/>
              </a:rPr>
              <a:t>a</a:t>
            </a:r>
            <a:r>
              <a:rPr b="1" lang="ca-ES" sz="1200" spc="-1" strike="noStrike">
                <a:solidFill>
                  <a:srgbClr val="000000"/>
                </a:solidFill>
                <a:latin typeface="Calibri"/>
              </a:rPr>
              <a:t> RDA 6.27-31 </a:t>
            </a:r>
            <a:r>
              <a:rPr b="0" lang="ca-ES" sz="1200" spc="-1" strike="noStrike">
                <a:solidFill>
                  <a:srgbClr val="000000"/>
                </a:solidFill>
                <a:latin typeface="Calibri"/>
              </a:rPr>
              <a:t>ens indica com combinar els diferents elements contemplats del capítol per crear els punts d'accés autoritzats per a les obres i express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ines parts s'han de combin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enceu amb títol prefer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hi el punt d'accés autoritzat per al creador, sempre que sigui aplic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cal, afegiu-hi altres elements al títol prefer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4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95A9-F12F-46E4-A7CC-94582C7CFA0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990720" y="766800"/>
            <a:ext cx="5118120" cy="383868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558E4-8A43-43F0-AC52-3802A1217FB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90720" y="766800"/>
            <a:ext cx="5118120" cy="383868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53E9-E93F-40AD-87D1-D232F4DD3C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990720" y="766800"/>
            <a:ext cx="5118120" cy="383868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D6774-A4D2-4FD8-B060-74D373F13AD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90720" y="766800"/>
            <a:ext cx="5118120" cy="383868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ntribuïd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0.2 El contribuïdor és un ELEMENT BÀSIC PER A LA BC I EL CCUC </a:t>
            </a:r>
            <a:r>
              <a:rPr b="0" lang="ca-ES" sz="1200" spc="-1" strike="noStrike">
                <a:solidFill>
                  <a:srgbClr val="000000"/>
                </a:solidFill>
                <a:latin typeface="Calibri"/>
              </a:rPr>
              <a:t>en el cas que es consideri important per a la identif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tenir present que els "contribuïdors" no són creadors; inclou els editors literaris, traductors, arranjadors de música, intèrprets, il·lustradors, comentaristes, i alt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tribuïdor" és una </a:t>
            </a:r>
            <a:r>
              <a:rPr b="0" i="1" lang="ca-ES" sz="1200" spc="-1" strike="noStrike">
                <a:solidFill>
                  <a:srgbClr val="000000"/>
                </a:solidFill>
                <a:latin typeface="Calibri"/>
              </a:rPr>
              <a:t>relació</a:t>
            </a:r>
            <a:r>
              <a:rPr b="0" lang="ca-ES" sz="1200" spc="-1" strike="noStrike">
                <a:solidFill>
                  <a:srgbClr val="000000"/>
                </a:solidFill>
                <a:latin typeface="Calibri"/>
              </a:rPr>
              <a:t> d'una </a:t>
            </a:r>
            <a:r>
              <a:rPr b="0" i="1" lang="ca-ES" sz="1200" spc="-1" strike="noStrike">
                <a:solidFill>
                  <a:srgbClr val="000000"/>
                </a:solidFill>
                <a:latin typeface="Calibri"/>
              </a:rPr>
              <a:t>entitat</a:t>
            </a:r>
            <a:r>
              <a:rPr b="0" lang="ca-ES" sz="1200" spc="-1" strike="noStrike">
                <a:solidFill>
                  <a:srgbClr val="000000"/>
                </a:solidFill>
                <a:latin typeface="Calibri"/>
              </a:rPr>
              <a:t> del grup 2 dels FRBR (persona, família o entitat corporativa) amb una entitat del grup 1 dels FRBR (específicament, d'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èndix I.3.1 de les RDA conté els designadors de relacions usats per als contribuïdors (en parlarem més endav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5D019-598B-4A75-A124-6E0161D91D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990720" y="766800"/>
            <a:ext cx="5118120" cy="383868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 d'accés autoritzat que representa 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s addicions s'afegeixen</a:t>
            </a:r>
            <a:r>
              <a:rPr b="0" i="1" lang="ca-ES" sz="1200" spc="-1" strike="noStrike">
                <a:solidFill>
                  <a:srgbClr val="000000"/>
                </a:solidFill>
                <a:latin typeface="Calibri"/>
              </a:rPr>
              <a:t> </a:t>
            </a:r>
            <a:r>
              <a:rPr b="0" lang="ca-ES" sz="1200" spc="-1" strike="noStrike">
                <a:solidFill>
                  <a:srgbClr val="000000"/>
                </a:solidFill>
                <a:latin typeface="Calibri"/>
              </a:rPr>
              <a:t>si són necessaris per a diferenciar. No estan e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FDD7-EC5B-4EFD-9790-A600B885A5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990720" y="766800"/>
            <a:ext cx="5118120" cy="383868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ct. Abril 2017) El subcamp $h està actualment restringit per la LC (vegeu: DCM Z1); els punts d’accés que contenen el tipus de contingut que trobareu a les autoritats de la LC estan codificats amb el subcamp $s, quan s'aixequi la restricció, es codificaran amb el $h.</a:t>
            </a:r>
            <a:endParaRPr b="0" lang="en-US" sz="1200" spc="-1" strike="noStrike">
              <a:solidFill>
                <a:srgbClr val="000000"/>
              </a:solidFill>
              <a:latin typeface="Calibri"/>
            </a:endParaRPr>
          </a:p>
        </p:txBody>
      </p:sp>
      <p:sp>
        <p:nvSpPr>
          <p:cNvPr id="6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057D-0451-4D96-B5B7-055EECD575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990720" y="766800"/>
            <a:ext cx="5118120" cy="383868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08799-8171-4F9A-B4C4-7FAE35E93ED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0720" y="766800"/>
            <a:ext cx="5118120" cy="383868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ddicions als punts d'accés per a les expressions - Llengua de l'express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determinar si cal afegir un atribut de llengua, cal comprovar primer s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expressió en més d'una llengua (per exemple, </a:t>
            </a:r>
            <a:r>
              <a:rPr b="0" i="1" lang="ca-ES" sz="1200" spc="-1" strike="noStrike">
                <a:solidFill>
                  <a:srgbClr val="000000"/>
                </a:solidFill>
                <a:latin typeface="Calibri"/>
              </a:rPr>
              <a:t>Guerra i pau de</a:t>
            </a:r>
            <a:r>
              <a:rPr b="0" lang="ca-ES" sz="1200" spc="-1" strike="noStrike">
                <a:solidFill>
                  <a:srgbClr val="000000"/>
                </a:solidFill>
                <a:latin typeface="Calibri"/>
              </a:rPr>
              <a:t> Tolstoi)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e dues o més expression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dóna el cas, </a:t>
            </a:r>
            <a:r>
              <a:rPr b="1" lang="ca-ES" sz="1200" spc="-1" strike="noStrike">
                <a:solidFill>
                  <a:srgbClr val="000000"/>
                </a:solidFill>
                <a:latin typeface="Calibri"/>
              </a:rPr>
              <a:t>l'ordre correcte dels subcamps és $a $k $l; </a:t>
            </a:r>
            <a:r>
              <a:rPr b="0" lang="ca-ES" sz="1200" spc="-1" strike="noStrike">
                <a:solidFill>
                  <a:srgbClr val="000000"/>
                </a:solidFill>
                <a:latin typeface="Calibri"/>
              </a:rPr>
              <a:t>la llengua és un atribut d'una expressió i no es pot interposar entre els atributs de l'obra i el títol preferit; p. ex.: 240 10 $aObres.$kSeleccions.$lCatalà  </a:t>
            </a:r>
            <a:r>
              <a:rPr b="1" i="1" lang="ca-ES" sz="1200" spc="-1" strike="noStrike">
                <a:solidFill>
                  <a:srgbClr val="000000"/>
                </a:solidFill>
                <a:latin typeface="Calibri"/>
              </a:rPr>
              <a:t>no </a:t>
            </a:r>
            <a:r>
              <a:rPr b="0" lang="ca-ES" sz="1200" spc="-1" strike="noStrike">
                <a:solidFill>
                  <a:srgbClr val="000000"/>
                </a:solidFill>
                <a:latin typeface="Calibri"/>
              </a:rPr>
              <a:t>240 10 $aObres.$lCatalà .$kSeleccions]</a:t>
            </a:r>
            <a:endParaRPr b="0" lang="en-US" sz="1200" spc="-1" strike="noStrike">
              <a:solidFill>
                <a:srgbClr val="000000"/>
              </a:solidFill>
              <a:latin typeface="Calibri"/>
            </a:endParaRPr>
          </a:p>
        </p:txBody>
      </p:sp>
      <p:sp>
        <p:nvSpPr>
          <p:cNvPr id="6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9F34-5F8B-4FA3-9BE2-4032AEEB86D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990720" y="766800"/>
            <a:ext cx="5118120" cy="383868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a 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només una expressió en una llengua diferent a l'original, enregistreu el subcamp $l només si l'expressió és 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la manifestació té només una expressió en una llengua. Com és una traducció, la llengua es dóna en el $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eu de tenir present que hi ha obres que originalment estan escrites en diverses llengües, com és el cas de </a:t>
            </a:r>
            <a:r>
              <a:rPr b="0" i="1" lang="ca-ES" sz="1200" spc="-1" strike="noStrike">
                <a:solidFill>
                  <a:srgbClr val="000000"/>
                </a:solidFill>
                <a:latin typeface="Calibri"/>
              </a:rPr>
              <a:t>Guerra i pau de</a:t>
            </a:r>
            <a:r>
              <a:rPr b="0" lang="ca-ES" sz="1200" spc="-1" strike="noStrike">
                <a:solidFill>
                  <a:srgbClr val="000000"/>
                </a:solidFill>
                <a:latin typeface="Calibri"/>
              </a:rPr>
              <a:t> Tolstoi, escrita en rus amb fragments en francès. En aquests casos no s'ha d'enregistrar cap $l per indicar-ho. Només s'afegeix la llengua si es tracta d'una tra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7FAB-456A-4356-870A-5D0479A126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990720" y="766800"/>
            <a:ext cx="5118120" cy="383868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AD871-5634-4DE5-9309-B182665A23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90720" y="766800"/>
            <a:ext cx="5118120" cy="3838680"/>
          </a:xfrm>
          <a:prstGeom prst="rect">
            <a:avLst/>
          </a:prstGeom>
          <a:ln w="0">
            <a:noFill/>
          </a:ln>
        </p:spPr>
      </p:sp>
      <p:sp>
        <p:nvSpPr>
          <p:cNvPr id="4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u="sng">
              <a:solidFill>
                <a:srgbClr val="000000"/>
              </a:solidFill>
              <a:uFillTx/>
              <a:latin typeface="Calibri"/>
            </a:endParaRPr>
          </a:p>
        </p:txBody>
      </p:sp>
      <p:sp>
        <p:nvSpPr>
          <p:cNvPr id="4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4D36C-CCA9-48C6-8087-C6A478F42F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990720" y="766800"/>
            <a:ext cx="5118120" cy="383868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 les AACR2, l'entrada principal per a una compilació amb diferents expressions de la mateixa obra era l'entrada principal per l'obra amb les llengües de les diferents expressions enregistrades juntes en el subcamp $l, tot i que es tractés de dues expressions diferents de la mateixa l'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nregistrar cada expressió (com es mostra en aquest exemple) en camps 7XX. No hi ha d'haver un camp 240 al registre. El subcamp $l indica la llengua de l'expressió. La política de la Library of Congress i de la majoria de biblioteques que han començat a aplicar RDA és de </a:t>
            </a:r>
            <a:r>
              <a:rPr b="1" lang="ca-ES" sz="1200" spc="-1" strike="noStrike">
                <a:solidFill>
                  <a:srgbClr val="000000"/>
                </a:solidFill>
                <a:latin typeface="Calibri"/>
              </a:rPr>
              <a:t>no enregistrar la llengua de l'expressió original en el subcamp $l </a:t>
            </a:r>
            <a:r>
              <a:rPr b="0" lang="ca-ES" sz="1200" spc="-1" strike="noStrike">
                <a:solidFill>
                  <a:srgbClr val="000000"/>
                </a:solidFill>
                <a:latin typeface="Calibri"/>
              </a:rPr>
              <a:t>del seu punt d'accés autoritzat (primer camp 700). Aquesta política és la que es recomana seguir per a les biblioteques catalanes que implementin 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AA2FC-9FEB-474E-B072-4CA4AF655E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990720" y="766800"/>
            <a:ext cx="5118120" cy="383868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compilació conté l'expressió original i </a:t>
            </a:r>
            <a:r>
              <a:rPr b="0" i="1" lang="ca-ES" sz="1200" spc="-1" strike="noStrike">
                <a:solidFill>
                  <a:srgbClr val="000000"/>
                </a:solidFill>
                <a:latin typeface="Calibri"/>
              </a:rPr>
              <a:t>més d'una</a:t>
            </a:r>
            <a:r>
              <a:rPr b="0" lang="ca-ES" sz="1200" spc="-1" strike="noStrike">
                <a:solidFill>
                  <a:srgbClr val="000000"/>
                </a:solidFill>
                <a:latin typeface="Calibri"/>
              </a:rPr>
              <a:t> traducció, enregistreu un punt d'accés autoritzat analític per a l'expressió </a:t>
            </a:r>
            <a:r>
              <a:rPr b="0" i="1" lang="ca-ES" sz="1200" spc="-1" strike="noStrike">
                <a:solidFill>
                  <a:srgbClr val="000000"/>
                </a:solidFill>
                <a:latin typeface="Calibri"/>
              </a:rPr>
              <a:t>original</a:t>
            </a:r>
            <a:r>
              <a:rPr b="0" lang="ca-ES" sz="1200" spc="-1" strike="noStrike">
                <a:solidFill>
                  <a:srgbClr val="000000"/>
                </a:solidFill>
                <a:latin typeface="Calibri"/>
              </a:rPr>
              <a:t> </a:t>
            </a:r>
            <a:r>
              <a:rPr b="0" i="1" lang="ca-ES" sz="1200" spc="-1" strike="noStrike">
                <a:solidFill>
                  <a:srgbClr val="000000"/>
                </a:solidFill>
                <a:latin typeface="Calibri"/>
              </a:rPr>
              <a:t>(sense $l)</a:t>
            </a:r>
            <a:r>
              <a:rPr b="0" lang="ca-ES" sz="1200" spc="-1" strike="noStrike">
                <a:solidFill>
                  <a:srgbClr val="000000"/>
                </a:solidFill>
                <a:latin typeface="Calibri"/>
              </a:rPr>
              <a:t> i un punt d'accés autoritzat analític almenys per a una de les traduccions </a:t>
            </a:r>
            <a:r>
              <a:rPr b="0" i="1" lang="ca-ES" sz="1200" spc="-1" strike="noStrike">
                <a:solidFill>
                  <a:srgbClr val="000000"/>
                </a:solidFill>
                <a:latin typeface="Calibri"/>
              </a:rPr>
              <a:t>(amb $l);</a:t>
            </a:r>
            <a:r>
              <a:rPr b="0" lang="ca-ES" sz="1200" spc="-1" strike="noStrike">
                <a:solidFill>
                  <a:srgbClr val="000000"/>
                </a:solidFill>
                <a:latin typeface="Calibri"/>
              </a:rPr>
              <a:t> queda a criteri del catalogador enregistrar punts d'accés analítics addi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0840F-DD12-4078-9DD1-E949523CE79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990720" y="766800"/>
            <a:ext cx="5118120" cy="383868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B25F8-DD92-44B5-B542-A596F151DD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990720" y="766800"/>
            <a:ext cx="5118120" cy="383868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cions en diferents idiomes (publicacions simultànies o en conj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és una compilació de </a:t>
            </a:r>
            <a:r>
              <a:rPr b="0" i="1" lang="ca-ES" sz="1200" spc="-1" strike="noStrike">
                <a:solidFill>
                  <a:srgbClr val="000000"/>
                </a:solidFill>
                <a:latin typeface="Calibri"/>
              </a:rPr>
              <a:t>dues o més expressions</a:t>
            </a:r>
            <a:r>
              <a:rPr b="0" lang="ca-ES" sz="1200" spc="-1" strike="noStrike">
                <a:solidFill>
                  <a:srgbClr val="000000"/>
                </a:solidFill>
                <a:latin typeface="Calibri"/>
              </a:rPr>
              <a:t> de la mateixa obra en diferents llengües, </a:t>
            </a:r>
            <a:r>
              <a:rPr b="0" i="1" lang="ca-ES" sz="1200" spc="-1" strike="noStrike">
                <a:solidFill>
                  <a:srgbClr val="000000"/>
                </a:solidFill>
                <a:latin typeface="Calibri"/>
              </a:rPr>
              <a:t>i no hi ha l'expressió </a:t>
            </a:r>
            <a:r>
              <a:rPr b="0" lang="ca-ES" sz="1200" spc="-1" strike="noStrike">
                <a:solidFill>
                  <a:srgbClr val="000000"/>
                </a:solidFill>
                <a:latin typeface="Calibri"/>
              </a:rPr>
              <a:t>original, enregistreu </a:t>
            </a:r>
            <a:r>
              <a:rPr b="0" i="1" lang="ca-ES" sz="1200" spc="-1" strike="noStrike">
                <a:solidFill>
                  <a:srgbClr val="000000"/>
                </a:solidFill>
                <a:latin typeface="Calibri"/>
              </a:rPr>
              <a:t>almenys una</a:t>
            </a:r>
            <a:r>
              <a:rPr b="0" lang="ca-ES" sz="1200" spc="-1" strike="noStrike">
                <a:solidFill>
                  <a:srgbClr val="000000"/>
                </a:solidFill>
                <a:latin typeface="Calibri"/>
              </a:rPr>
              <a:t> de les expressions en un punt d'accés autoritzat analí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anifestació té dues o més expressions de la mateixa obra en diferents llengües, </a:t>
            </a:r>
            <a:r>
              <a:rPr b="0" i="1" lang="ca-ES" sz="1200" spc="-1" strike="noStrike">
                <a:solidFill>
                  <a:srgbClr val="000000"/>
                </a:solidFill>
                <a:latin typeface="Calibri"/>
              </a:rPr>
              <a:t>i no és possible determinar quina és l'original,</a:t>
            </a:r>
            <a:r>
              <a:rPr b="0" lang="ca-ES" sz="1200" spc="-1" strike="noStrike">
                <a:solidFill>
                  <a:srgbClr val="000000"/>
                </a:solidFill>
                <a:latin typeface="Calibri"/>
              </a:rPr>
              <a:t> feu el segü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dues llengües, enregistreu un punt d'accés autoritzat per a cada expressió i afegiu la llengua corresponent en el subcamp $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compilació inclou edicions en més de dues llengües, enregistreu un punt d'accés autoritzat per a l'edició de la primera llengua </a:t>
            </a:r>
            <a:r>
              <a:rPr b="0" i="1" lang="ca-ES" sz="1200" spc="-1" strike="noStrike">
                <a:solidFill>
                  <a:srgbClr val="000000"/>
                </a:solidFill>
                <a:latin typeface="Calibri"/>
              </a:rPr>
              <a:t>i almenys per a una</a:t>
            </a:r>
            <a:r>
              <a:rPr b="0" lang="ca-ES" sz="1200" spc="-1" strike="noStrike">
                <a:solidFill>
                  <a:srgbClr val="000000"/>
                </a:solidFill>
                <a:latin typeface="Calibri"/>
              </a:rPr>
              <a:t> edició en una altra llengu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p:txBody>
      </p:sp>
      <p:sp>
        <p:nvSpPr>
          <p:cNvPr id="6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FD8E-3667-45FE-A95C-D147AC113BF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990720" y="766800"/>
            <a:ext cx="5118120" cy="383868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EBE7-AD33-47C1-9C61-DCD2279E896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990720" y="766800"/>
            <a:ext cx="5118120" cy="383868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B4D6-4FF7-4961-96BF-B6EFC044313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990720" y="766800"/>
            <a:ext cx="5118120" cy="383868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7F27-9267-40D5-AE93-09E7B59300C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90720" y="766800"/>
            <a:ext cx="5118120" cy="383868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305B-85EF-4721-AFA5-77F3DD96DC2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990720" y="766800"/>
            <a:ext cx="5118120" cy="383868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a característica distintiva de l’express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6.12 Altra característica distintiva de l’expressió és un ELEMENT BÀSIC </a:t>
            </a:r>
            <a:r>
              <a:rPr b="0" lang="ca-ES" sz="1200" spc="-1" strike="noStrike">
                <a:solidFill>
                  <a:srgbClr val="000000"/>
                </a:solidFill>
                <a:latin typeface="Calibri"/>
              </a:rPr>
              <a:t>quan és necessari per diferenciar una expressió. És "una característica diferent del tipus de contingut, la llengua de l’expressió o la data de l’expressió. Serveix per diferenciar una expressió d’una altra expressió de la mateixa ob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pot obtenir la informació de qualsevol fo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res característiques distintives s'enregistren en general al final de l'últim subcamp. Tanmateix, algunes tenen els seus propis subcamps en els punts d'accés, com ara el subcamp $o per a les expressions musicals o el subcamp $s  per a les versions de la Bíblia, etc.</a:t>
            </a:r>
            <a:endParaRPr b="0" lang="en-US" sz="1200" spc="-1" strike="noStrike">
              <a:solidFill>
                <a:srgbClr val="000000"/>
              </a:solidFill>
              <a:latin typeface="Calibri"/>
            </a:endParaRPr>
          </a:p>
        </p:txBody>
      </p:sp>
      <p:sp>
        <p:nvSpPr>
          <p:cNvPr id="6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B69A-0ED6-451E-B832-D5EB088EB6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F83E1-92E3-4F8C-AC96-DC3F31C93B3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5" name="PlaceHolder 1"/>
          <p:cNvSpPr>
            <a:spLocks noGrp="1"/>
          </p:cNvSpPr>
          <p:nvPr>
            <p:ph type="sldImg"/>
          </p:nvPr>
        </p:nvSpPr>
        <p:spPr>
          <a:xfrm>
            <a:off x="990720" y="766800"/>
            <a:ext cx="5118120" cy="3838680"/>
          </a:xfrm>
          <a:prstGeom prst="rect">
            <a:avLst/>
          </a:prstGeom>
          <a:ln w="0">
            <a:noFill/>
          </a:ln>
        </p:spPr>
      </p:sp>
      <p:sp>
        <p:nvSpPr>
          <p:cNvPr id="6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va obra? Nova expressió? Nova manifest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mb RDA s'ha de determinar quan una edició revisada requereix un punt d'accés autoritzat que connecti amb l'edició anterior. Cal tenir en ment els conceptes d'</a:t>
            </a:r>
            <a:r>
              <a:rPr b="0" i="1" lang="ca-ES" sz="1200" spc="-1" strike="noStrike">
                <a:solidFill>
                  <a:srgbClr val="000000"/>
                </a:solidFill>
                <a:latin typeface="Calibri"/>
              </a:rPr>
              <a:t>obra</a:t>
            </a:r>
            <a:r>
              <a:rPr b="0" lang="ca-ES" sz="1200" spc="-1" strike="noStrike">
                <a:solidFill>
                  <a:srgbClr val="000000"/>
                </a:solidFill>
                <a:latin typeface="Calibri"/>
              </a:rPr>
              <a:t> i d'</a:t>
            </a:r>
            <a:r>
              <a:rPr b="0" i="1" lang="ca-ES" sz="1200" spc="-1" strike="noStrike">
                <a:solidFill>
                  <a:srgbClr val="000000"/>
                </a:solidFill>
                <a:latin typeface="Calibri"/>
              </a:rPr>
              <a:t>express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següents mostren alguns casos que es donen en la catalogació de monograf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Objecti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dels objectius d'un punt d'accés autoritzat per l'obra és relacionar totes les expressions de la mateixa obra. Si el títol propi ha canviat 1) d'una expressió a una altra, o 2) d'una manifestació a una altra, cal connectar-les amb el que el format MARC en diu "Títol uniforme" (mitjançant un camp 240, si té creador, o mitjançant un camp 130, si no té cre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a seguir és connectar les expressions amb l'obra, no fer un punt d'accés per distingir-les. Els exemples següents mostren alguns casos que es donen en la catalogació de monograf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90720" y="766800"/>
            <a:ext cx="5118120" cy="3838680"/>
          </a:xfrm>
          <a:prstGeom prst="rect">
            <a:avLst/>
          </a:prstGeom>
          <a:ln w="0">
            <a:noFill/>
          </a:ln>
        </p:spPr>
      </p:sp>
      <p:sp>
        <p:nvSpPr>
          <p:cNvPr id="4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unts d'accés i catàlegs de referènc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a:t>
            </a:r>
            <a:r>
              <a:rPr b="1" lang="ca-ES" sz="1200" spc="-1" strike="noStrike">
                <a:solidFill>
                  <a:srgbClr val="000000"/>
                </a:solidFill>
                <a:latin typeface="Calibri"/>
              </a:rPr>
              <a:t>CANTIC</a:t>
            </a:r>
            <a:r>
              <a:rPr b="0" lang="ca-ES" sz="1200" spc="-1" strike="noStrike">
                <a:solidFill>
                  <a:srgbClr val="000000"/>
                </a:solidFill>
                <a:latin typeface="Calibri"/>
              </a:rPr>
              <a:t> és el catàleg de referència per a les biblioteques catal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punt d'accés requerit no es troba en el CANTIC, consulteu i adeqüeu el punt d'accés d'acor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estatal i internacional: Autoritats de la </a:t>
            </a:r>
            <a:r>
              <a:rPr b="1" lang="ca-ES" sz="1200" spc="-1" strike="noStrike">
                <a:solidFill>
                  <a:srgbClr val="000000"/>
                </a:solidFill>
                <a:latin typeface="Calibri"/>
              </a:rPr>
              <a:t>Library of Congress </a:t>
            </a:r>
            <a:r>
              <a:rPr b="1" lang="ca-ES" sz="1200" spc="-1" strike="noStrike" u="sng">
                <a:solidFill>
                  <a:srgbClr val="0000ff"/>
                </a:solidFill>
                <a:uFillTx/>
                <a:latin typeface="Calibri"/>
                <a:hlinkClick r:id="rId1"/>
              </a:rPr>
              <a:t>http://authorities.loc.gov</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títols d’àmbit català: Autoritats de la </a:t>
            </a:r>
            <a:r>
              <a:rPr b="1" lang="ca-ES" sz="1200" spc="-1" strike="noStrike">
                <a:solidFill>
                  <a:srgbClr val="000000"/>
                </a:solidFill>
                <a:latin typeface="Calibri"/>
              </a:rPr>
              <a:t>Biblioteca de Catalunya </a:t>
            </a:r>
            <a:r>
              <a:rPr b="1" lang="ca-ES" sz="1200" spc="-1" strike="noStrike" u="sng">
                <a:solidFill>
                  <a:srgbClr val="0000ff"/>
                </a:solidFill>
                <a:uFillTx/>
                <a:latin typeface="Calibri"/>
                <a:hlinkClick r:id="rId2"/>
              </a:rPr>
              <a:t>http://www.bnc.cat/lenoti/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olítica a seguir: </a:t>
            </a:r>
            <a:r>
              <a:rPr b="0" lang="ca-ES" sz="1200" spc="-1" strike="noStrike">
                <a:solidFill>
                  <a:srgbClr val="000000"/>
                </a:solidFill>
                <a:latin typeface="Calibri"/>
              </a:rPr>
              <a:t>accepteu un punt d'accés autoritzat CANTIC encara que no estigui d'acord amb RDA. Després de l’estiu de 2017 s'iniciarà el procés de canvi i revisió tant del registre d'autoritat com dels bibliogràfics associat, d'acord amb la proposta de la Subcomissió Tècnica d'RDA; per a més informació:  </a:t>
            </a:r>
            <a:r>
              <a:rPr b="0" lang="ca-ES" sz="1200" spc="-1" strike="noStrike" u="sng">
                <a:solidFill>
                  <a:srgbClr val="0000ff"/>
                </a:solidFill>
                <a:uFillTx/>
                <a:latin typeface="Calibri"/>
                <a:hlinkClick r:id="rId3"/>
              </a:rPr>
              <a:t>http://www.bnc.cat/content/download/101724/1562761/version/2/file/rb_canvis1605.pdf</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100" spc="-1" strike="noStrike" u="sng">
                <a:solidFill>
                  <a:srgbClr val="000000"/>
                </a:solidFill>
                <a:uFillTx/>
                <a:latin typeface="Calibri"/>
              </a:rPr>
              <a:t>No creeu punts d'accés duplicats per adequar-los a RDA, penseu que obligueu a l'usuari a cercar la mateixa obra sota dos punts d'accés autoritzats diferents.</a:t>
            </a:r>
            <a:endParaRPr b="0" lang="en-US" sz="1100" spc="-1" strike="noStrike">
              <a:solidFill>
                <a:srgbClr val="000000"/>
              </a:solidFill>
              <a:latin typeface="Calibri"/>
            </a:endParaRPr>
          </a:p>
        </p:txBody>
      </p:sp>
      <p:sp>
        <p:nvSpPr>
          <p:cNvPr id="4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47C0-168A-4A26-B30D-297328DB74F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636DB-D030-4074-A65E-BF805DDC5E5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Què constitueix una nov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reador diferent (</a:t>
            </a:r>
            <a:r>
              <a:rPr b="0" i="1" lang="ca-ES" sz="1200" spc="-1" strike="noStrike">
                <a:solidFill>
                  <a:srgbClr val="000000"/>
                </a:solidFill>
                <a:latin typeface="Calibri"/>
              </a:rPr>
              <a:t>No un creador addicional</a:t>
            </a:r>
            <a:r>
              <a:rPr b="0" lang="ca-ES" sz="1200" spc="-1" strike="noStrike">
                <a:solidFill>
                  <a:srgbClr val="000000"/>
                </a:solidFill>
                <a:latin typeface="Calibri"/>
              </a:rPr>
              <a:t>) RDA 6.27.1.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bast del contingut és molt diferent (fins i tot quan el títol propi o preferit és el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n aquest cas el títol uniforme no és necessari perquè no són la mateixa o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opcionalment es poden relaciona </a:t>
            </a:r>
            <a:r>
              <a:rPr b="0" lang="ca-ES" sz="1200" spc="-1" strike="noStrike">
                <a:solidFill>
                  <a:srgbClr val="000000"/>
                </a:solidFill>
                <a:latin typeface="Calibri"/>
              </a:rPr>
              <a:t>(RDA 25) mitjançant una nota (500), o un punt d'accés autoritzat (7XX nom/títol). En el punt d'accés autoritzat es pot utilitzar un designador de relació aplicable a obres (Apèndix J.2); sobretot, no utilitzeu el designador "revisió de", perquè és per a una relació d'expressió, i estem parlant d'ob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086E1-86AE-4D4F-9A59-1E62F1D9D6C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manifestació, el creador i el contingut és el mateix. Per connectar-les s'ha d'utilitzar un camp 240 amb el títol preferit per connectar-les (o ajuntar-les sota el mateix punt d'accés autoritz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el mateix tractament que amb les AACR2.</a:t>
            </a: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DB0C-506D-4F66-B63A-FDD95B8E2D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presenta canvis significatius (no és una obra nova). No necessita un camp 240 per connectar-les perquè tenen el mateix títol propi que fa aquesta funció.</a:t>
            </a:r>
            <a:br>
              <a:rPr sz="1200"/>
            </a:br>
            <a:r>
              <a:rPr b="0" i="1" lang="ca-ES" sz="1200" spc="-1" strike="noStrike">
                <a:solidFill>
                  <a:srgbClr val="000000"/>
                </a:solidFill>
                <a:latin typeface="Calibri"/>
              </a:rPr>
              <a:t>[És segueix el mateix tractament que amb les AACR2. </a:t>
            </a:r>
            <a:r>
              <a:rPr b="0" i="1" lang="ca-ES" sz="1200" spc="-1" strike="noStrike" u="sng">
                <a:solidFill>
                  <a:srgbClr val="000000"/>
                </a:solidFill>
                <a:uFillTx/>
                <a:latin typeface="Calibri"/>
              </a:rPr>
              <a:t>No es diferenciaran aquest tipus d'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58F80-FB0E-46B1-9571-961AC14631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240 amb el títol preferit (el títol de l'edició original 6.2.2.4)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013F0-3F4D-48C2-8A68-967C8917D4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90" name="PlaceHolder 1"/>
          <p:cNvSpPr>
            <a:spLocks noGrp="1"/>
          </p:cNvSpPr>
          <p:nvPr>
            <p:ph type="sldImg"/>
          </p:nvPr>
        </p:nvSpPr>
        <p:spPr>
          <a:xfrm>
            <a:off x="990720" y="766800"/>
            <a:ext cx="5118120" cy="3838680"/>
          </a:xfrm>
          <a:prstGeom prst="rect">
            <a:avLst/>
          </a:prstGeom>
          <a:ln w="0">
            <a:noFill/>
          </a:ln>
        </p:spPr>
      </p:sp>
      <p:sp>
        <p:nvSpPr>
          <p:cNvPr id="6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a:t>
            </a:r>
            <a:r>
              <a:rPr b="0" i="1" lang="es-ES"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tracta d'una nova expressió, el contingut ha estat revisat (però no és una obra nova). En aquest cas es necessita un camp 130 amb el títol preferit (el títol de l'edició original) per connectar-les, perquè </a:t>
            </a:r>
            <a:r>
              <a:rPr b="1" lang="ca-ES" sz="1200" spc="-1" strike="noStrike" u="sng">
                <a:solidFill>
                  <a:srgbClr val="000000"/>
                </a:solidFill>
                <a:uFillTx/>
                <a:latin typeface="Calibri"/>
              </a:rPr>
              <a:t>no</a:t>
            </a:r>
            <a:r>
              <a:rPr b="0" lang="ca-ES" sz="1200" spc="-1" strike="noStrike">
                <a:solidFill>
                  <a:srgbClr val="000000"/>
                </a:solidFill>
                <a:latin typeface="Calibri"/>
              </a:rPr>
              <a:t> tenen el mateix títol propi que faci aquesta fun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Aquest tractament és diferent al de les AACR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990720" y="766800"/>
            <a:ext cx="5118120" cy="3838680"/>
          </a:xfrm>
          <a:prstGeom prst="rect">
            <a:avLst/>
          </a:prstGeom>
          <a:ln w="0">
            <a:noFill/>
          </a:ln>
        </p:spPr>
      </p:sp>
      <p:sp>
        <p:nvSpPr>
          <p:cNvPr id="69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3</a:t>
            </a:r>
            <a:endParaRPr b="0" lang="en-US" sz="1200" spc="-1" strike="noStrike">
              <a:solidFill>
                <a:srgbClr val="000000"/>
              </a:solidFill>
              <a:latin typeface="Calibri"/>
            </a:endParaRPr>
          </a:p>
        </p:txBody>
      </p:sp>
      <p:sp>
        <p:nvSpPr>
          <p:cNvPr id="6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63E8-D407-4D87-9700-87A3DD9490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C562D-A578-482F-B5C0-DEC0E38D5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DE7DD-F258-4D30-B0D7-E9EB688A7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5A289-472E-493D-A95D-7C65E8AC6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2915CB-3381-467E-9D1B-C064C155BB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5164A-00A6-4141-B91E-E4AC84D0C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5F8A-4E13-4952-9866-76B85F278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3A69-AC36-435E-9A29-1C80BF538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E28E61-9C1F-4D91-95D4-78077F3E3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18C63-F09B-46E4-8251-4339CAE1C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5E981-559C-4E07-870E-033D18F4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A0FD-DE6A-42F8-A6AE-38E70345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6B4C3-218A-4817-BF74-3041EF020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730C4-A8D2-492E-8500-2D1F541B5BB9}"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204A6-DE37-41AD-8E84-43645BF3D0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s://lccn.loc.gov/2010681487"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hyperlink" Target="http://authorities.loc.gov/" TargetMode="External"/><Relationship Id="rId2" Type="http://schemas.openxmlformats.org/officeDocument/2006/relationships/hyperlink" Target="http://www.bnc.cat/lenoti/"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611280" y="33336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49" name="Rectangle 4"/>
          <p:cNvSpPr/>
          <p:nvPr/>
        </p:nvSpPr>
        <p:spPr>
          <a:xfrm>
            <a:off x="1332000" y="263700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3:</a:t>
            </a:r>
            <a:r>
              <a:rPr b="1" lang="ca-ES" sz="2400" spc="-1" strike="noStrike">
                <a:solidFill>
                  <a:srgbClr val="898989"/>
                </a:solidFill>
                <a:latin typeface="Calibri"/>
              </a:rPr>
              <a:t> </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Identificació de les obres i de les expressions</a:t>
            </a:r>
            <a:endParaRPr b="0" lang="en-US" sz="2400" spc="-1" strike="noStrike">
              <a:solidFill>
                <a:srgbClr val="000000"/>
              </a:solidFill>
              <a:latin typeface="Arial"/>
            </a:endParaRPr>
          </a:p>
        </p:txBody>
      </p:sp>
      <p:sp>
        <p:nvSpPr>
          <p:cNvPr id="50" name="PlaceHolder 1"/>
          <p:cNvSpPr>
            <a:spLocks noGrp="1"/>
          </p:cNvSpPr>
          <p:nvPr>
            <p:ph type="subTitle"/>
          </p:nvPr>
        </p:nvSpPr>
        <p:spPr>
          <a:xfrm>
            <a:off x="1763640" y="4436640"/>
            <a:ext cx="6400800" cy="175284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51"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E0BE-0C65-4D68-851A-2684A6F718E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Dades bibliogràfiques o d'autoritat?</a:t>
            </a:r>
            <a:endParaRPr b="0" lang="en-US" sz="32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no prescriu si els atributs d'una obra i els punts d'accés han de ser dades bibliogràfiques o dades d'autor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Política a seguir</a:t>
            </a:r>
            <a:r>
              <a:rPr b="0" lang="ca-E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 d'identificar l'obra enregistrant el punt d'accés autoritzat en el registre bibliogràf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catalogadors formats crearan també els registres d'autoritat, amb el punt d'accés autoritzat i les variants.</a:t>
            </a:r>
            <a:endParaRPr b="0" lang="en-US" sz="2800" spc="-1" strike="noStrike">
              <a:solidFill>
                <a:srgbClr val="000000"/>
              </a:solidFill>
              <a:latin typeface="Calibri"/>
            </a:endParaRPr>
          </a:p>
        </p:txBody>
      </p:sp>
      <p:sp>
        <p:nvSpPr>
          <p:cNvPr id="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8CC3-415B-41AA-A026-C372B8A3111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Elements identificadors addicionals</a:t>
            </a:r>
            <a:endParaRPr b="0" lang="en-US" sz="3200" spc="-1" strike="noStrike">
              <a:solidFill>
                <a:srgbClr val="000000"/>
              </a:solidFill>
              <a:latin typeface="Calibri"/>
            </a:endParaRPr>
          </a:p>
        </p:txBody>
      </p:sp>
      <p:sp>
        <p:nvSpPr>
          <p:cNvPr id="95" name=""/>
          <p:cNvSpPr txBox="1"/>
          <p:nvPr/>
        </p:nvSpPr>
        <p:spPr>
          <a:xfrm>
            <a:off x="468360" y="1413000"/>
            <a:ext cx="82296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ÓN ELEMENTS BÀSICS </a:t>
            </a:r>
            <a:r>
              <a:rPr b="0" lang="ca-ES" sz="2800" spc="-1" strike="noStrike">
                <a:solidFill>
                  <a:srgbClr val="000000"/>
                </a:solidFill>
                <a:latin typeface="Calibri"/>
              </a:rPr>
              <a:t>quan s'han d'enregistrar per distingir una obra d'una altra o del nom d'una persona, família o entit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a:solidFill>
                  <a:srgbClr val="000000"/>
                </a:solidFill>
                <a:latin typeface="Calibri"/>
              </a:rPr>
              <a:t>RDA dóna opcions per a enregistrar-los: com a elements separats, com a parts del punt d’accés, o de totes dues maneres. (RDA 0.6.6).</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Política a segu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empre s'han d'enregistrar com a addicions als punts d'accés (</a:t>
            </a:r>
            <a:r>
              <a:rPr b="0" i="1" lang="ca-ES" sz="2800" spc="-1" strike="noStrike">
                <a:solidFill>
                  <a:srgbClr val="000000"/>
                </a:solidFill>
                <a:latin typeface="Calibri"/>
              </a:rPr>
              <a:t>si cal diferenciar-los</a:t>
            </a:r>
            <a:r>
              <a:rPr b="0" lang="ca-E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És opcional enregistrar-los com a elements separats en els registres d'autorit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5830B-848E-4170-A055-E362338C6D1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Llengua i escriptura (RDA 5.4)</a:t>
            </a:r>
            <a:endParaRPr b="0" lang="en-US" sz="32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els títols de les obres en la llengua i l’escriptura en les quals figuren en les fonts d'on s'han obtingu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5.4 Alternativa: </a:t>
            </a:r>
            <a:r>
              <a:rPr b="0" i="1" lang="ca-ES" sz="2800" spc="-1" strike="noStrike">
                <a:solidFill>
                  <a:srgbClr val="000000"/>
                </a:solidFill>
                <a:latin typeface="Calibri"/>
              </a:rPr>
              <a:t>s'aplica. </a:t>
            </a:r>
            <a:r>
              <a:rPr b="0" lang="ca-ES" sz="2800" spc="-1" strike="noStrike">
                <a:solidFill>
                  <a:srgbClr val="000000"/>
                </a:solidFill>
                <a:latin typeface="Calibri"/>
              </a:rPr>
              <a:t>Es dóna la forma transcrita/transliterada:</a:t>
            </a:r>
            <a:endParaRPr b="0" lang="en-US" sz="28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Àrab, rus i hebreu: transcripció simplificada de l'IEC.</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Grec: ISO R843.</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Japonès: sistema Hepburn.</a:t>
            </a:r>
            <a:endParaRPr b="0" lang="en-US" sz="2400" spc="-1" strike="noStrike">
              <a:solidFill>
                <a:srgbClr val="000000"/>
              </a:solidFill>
              <a:latin typeface="Calibri"/>
            </a:endParaRPr>
          </a:p>
          <a:p>
            <a:pPr lvl="2" marL="71424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Xinès: sistema Pinyin.</a:t>
            </a:r>
            <a:endParaRPr b="0" lang="en-US" sz="2400" spc="-1" strike="noStrike">
              <a:solidFill>
                <a:srgbClr val="000000"/>
              </a:solidFill>
              <a:latin typeface="Calibri"/>
            </a:endParaRPr>
          </a:p>
        </p:txBody>
      </p:sp>
      <p:sp>
        <p:nvSpPr>
          <p:cNvPr id="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2B839-08F8-4CFC-9F04-C1F1A1D6F9F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0.6.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En elaborar aquest punt d’accés, el títol preferit va precedit, si és apropiat, pel punt d’accés autoritzat que representa la persona, la família o l’entitat corporativa responsable de l’obra".</a:t>
            </a:r>
            <a:endParaRPr b="0" lang="en-US" sz="3200" spc="-1" strike="noStrike">
              <a:solidFill>
                <a:srgbClr val="000000"/>
              </a:solidFill>
              <a:latin typeface="Calibri"/>
            </a:endParaRPr>
          </a:p>
        </p:txBody>
      </p:sp>
      <p:sp>
        <p:nvSpPr>
          <p:cNvPr id="1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8E91F-D198-4D54-8CD5-A1FCAB8EBB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sponsables d'una obra </a:t>
            </a:r>
            <a:br>
              <a:rPr sz="3200"/>
            </a:br>
            <a:r>
              <a:rPr b="1" lang="ca-ES" sz="3200" spc="-1" strike="noStrike">
                <a:solidFill>
                  <a:srgbClr val="000000"/>
                </a:solidFill>
                <a:latin typeface="Calibri"/>
              </a:rPr>
              <a:t> On són les instruccions?</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a:t>
            </a:r>
            <a:r>
              <a:rPr b="1" lang="ca-ES" sz="3200" spc="-1" strike="noStrike">
                <a:solidFill>
                  <a:srgbClr val="376092"/>
                </a:solidFill>
                <a:latin typeface="Calibri"/>
              </a:rPr>
              <a:t>creador</a:t>
            </a:r>
            <a:r>
              <a:rPr b="0" lang="ca-ES" sz="3200" spc="-1" strike="noStrike">
                <a:solidFill>
                  <a:srgbClr val="000000"/>
                </a:solidFill>
                <a:latin typeface="Calibri"/>
              </a:rPr>
              <a:t>" és una </a:t>
            </a:r>
            <a:r>
              <a:rPr b="1" i="1" lang="ca-ES" sz="3200" spc="-1" strike="noStrike">
                <a:solidFill>
                  <a:srgbClr val="000000"/>
                </a:solidFill>
                <a:latin typeface="Calibri"/>
              </a:rPr>
              <a:t>relació </a:t>
            </a:r>
            <a:r>
              <a:rPr b="0" lang="ca-ES" sz="3200" spc="-1" strike="noStrike">
                <a:solidFill>
                  <a:srgbClr val="000000"/>
                </a:solidFill>
                <a:latin typeface="Calibri"/>
              </a:rPr>
              <a:t>amb l'obra; no és un </a:t>
            </a:r>
            <a:r>
              <a:rPr b="1" i="1" lang="ca-ES" sz="3200" spc="-1" strike="noStrike">
                <a:solidFill>
                  <a:srgbClr val="000000"/>
                </a:solidFill>
                <a:latin typeface="Calibri"/>
              </a:rPr>
              <a:t>atribut </a:t>
            </a:r>
            <a:r>
              <a:rPr b="0" lang="ca-ES" sz="3200" spc="-1" strike="noStrike">
                <a:solidFill>
                  <a:srgbClr val="000000"/>
                </a:solidFill>
                <a:latin typeface="Calibri"/>
              </a:rPr>
              <a:t>de l'obr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readors al </a:t>
            </a:r>
            <a:r>
              <a:rPr b="0" lang="ca-ES" sz="2800" spc="-1" strike="noStrike" u="sng">
                <a:solidFill>
                  <a:srgbClr val="000000"/>
                </a:solidFill>
                <a:uFillTx/>
                <a:latin typeface="Calibri"/>
              </a:rPr>
              <a:t>capítol 19</a:t>
            </a:r>
            <a:r>
              <a:rPr b="1" lang="ca-ES" sz="2800" spc="-1" strike="noStrike">
                <a:solidFill>
                  <a:srgbClr val="000000"/>
                </a:solidFill>
                <a:latin typeface="Calibri"/>
              </a:rPr>
              <a:t>,</a:t>
            </a:r>
            <a:r>
              <a:rPr b="0" lang="ca-ES" sz="2800" spc="-1" strike="noStrike">
                <a:solidFill>
                  <a:srgbClr val="000000"/>
                </a:solidFill>
                <a:latin typeface="Calibri"/>
              </a:rPr>
              <a:t> i no al capítol 6.</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a:t>
            </a:r>
            <a:r>
              <a:rPr b="1" lang="ca-ES" sz="3200" spc="-1" strike="noStrike">
                <a:solidFill>
                  <a:srgbClr val="376092"/>
                </a:solidFill>
                <a:latin typeface="Calibri"/>
              </a:rPr>
              <a:t>contribuïdors</a:t>
            </a:r>
            <a:r>
              <a:rPr b="0" lang="ca-ES" sz="3200" spc="-1" strike="noStrike">
                <a:solidFill>
                  <a:srgbClr val="000000"/>
                </a:solidFill>
                <a:latin typeface="Calibri"/>
              </a:rPr>
              <a:t>" són responsables d'una </a:t>
            </a:r>
            <a:r>
              <a:rPr b="1" i="1" lang="ca-ES" sz="3200" spc="-1" strike="noStrike">
                <a:solidFill>
                  <a:srgbClr val="000000"/>
                </a:solidFill>
                <a:latin typeface="Calibri"/>
              </a:rPr>
              <a:t>expressió </a:t>
            </a:r>
            <a:r>
              <a:rPr b="0" i="1" lang="ca-ES" sz="3200" spc="-1" strike="noStrike">
                <a:solidFill>
                  <a:srgbClr val="000000"/>
                </a:solidFill>
                <a:latin typeface="Calibri"/>
              </a:rPr>
              <a:t>(no són "creado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tant, trobarem les instruccions sobre contribuïdors al </a:t>
            </a:r>
            <a:r>
              <a:rPr b="0" lang="ca-ES" sz="2800" spc="-1" strike="noStrike" u="sng">
                <a:solidFill>
                  <a:srgbClr val="000000"/>
                </a:solidFill>
                <a:uFillTx/>
                <a:latin typeface="Calibri"/>
              </a:rPr>
              <a:t>capítol 20.</a:t>
            </a:r>
            <a:endParaRPr b="0" lang="en-US" sz="2800" spc="-1" strike="noStrike">
              <a:solidFill>
                <a:srgbClr val="000000"/>
              </a:solidFill>
              <a:latin typeface="Calibri"/>
            </a:endParaRPr>
          </a:p>
        </p:txBody>
      </p:sp>
      <p:sp>
        <p:nvSpPr>
          <p:cNvPr id="10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78AB9-378C-4D20-950A-4CE3DDEA78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Responsables d'una obra </a:t>
            </a:r>
            <a:br>
              <a:rPr sz="2900"/>
            </a:br>
            <a:r>
              <a:rPr b="1" lang="ca-ES" sz="2900" spc="-1" strike="noStrike">
                <a:solidFill>
                  <a:srgbClr val="000000"/>
                </a:solidFill>
                <a:latin typeface="Calibri"/>
              </a:rPr>
              <a:t> Fonts (RDA </a:t>
            </a:r>
            <a:r>
              <a:rPr b="1" lang="ca-ES" sz="2500" spc="-1" strike="noStrike">
                <a:solidFill>
                  <a:srgbClr val="000000"/>
                </a:solidFill>
                <a:latin typeface="Calibri"/>
              </a:rPr>
              <a:t>19.1.1 )</a:t>
            </a:r>
            <a:br>
              <a:rPr sz="2900"/>
            </a:br>
            <a:endParaRPr b="0" lang="en-US" sz="2500" spc="-1" strike="noStrike">
              <a:solidFill>
                <a:srgbClr val="000000"/>
              </a:solidFill>
              <a:latin typeface="Calibri"/>
            </a:endParaRPr>
          </a:p>
        </p:txBody>
      </p:sp>
      <p:sp>
        <p:nvSpPr>
          <p:cNvPr id="107" name=""/>
          <p:cNvSpPr txBox="1"/>
          <p:nvPr/>
        </p:nvSpPr>
        <p:spPr>
          <a:xfrm>
            <a:off x="457200" y="1484280"/>
            <a:ext cx="8291520" cy="464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mencions que figuren a les fonts preferides d’informació dels recursos que materialitzen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aquestes mencions són ambigües o insuficients: (ordre de preferènci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de manera prominent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que figuren només en el contingut del recur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ltres fonts.</a:t>
            </a:r>
            <a:endParaRPr b="0" lang="en-US" sz="3200" spc="-1" strike="noStrike">
              <a:solidFill>
                <a:srgbClr val="000000"/>
              </a:solidFill>
              <a:latin typeface="Calibri"/>
            </a:endParaRPr>
          </a:p>
        </p:txBody>
      </p:sp>
      <p:sp>
        <p:nvSpPr>
          <p:cNvPr id="1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56FA-81A7-4148-8AEB-1860C993E9E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RDA 19.2)</a:t>
            </a:r>
            <a:endParaRPr b="0" lang="en-US" sz="3200" spc="-1" strike="noStrike">
              <a:solidFill>
                <a:srgbClr val="000000"/>
              </a:solidFill>
              <a:latin typeface="Calibri"/>
            </a:endParaRPr>
          </a:p>
        </p:txBody>
      </p:sp>
      <p:sp>
        <p:nvSpPr>
          <p:cNvPr id="110" name=""/>
          <p:cNvSpPr txBox="1"/>
          <p:nvPr/>
        </p:nvSpPr>
        <p:spPr>
          <a:xfrm>
            <a:off x="456840" y="1413000"/>
            <a:ext cx="8218440" cy="51847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persona, una família o una entitat corporativa responsable de la creació d’una obr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hi ha més d'un responsable de l'obra:</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fan la mateixa funció, només es requereix el creador </a:t>
            </a:r>
            <a:r>
              <a:rPr b="0" lang="ca-ES" sz="2400" spc="-1" strike="noStrike" u="sng">
                <a:solidFill>
                  <a:srgbClr val="000000"/>
                </a:solidFill>
                <a:uFillTx/>
                <a:latin typeface="Calibri"/>
              </a:rPr>
              <a:t>amb una responsabilitat principal</a:t>
            </a:r>
            <a:r>
              <a:rPr b="0" lang="ca-ES" sz="2400" spc="-1" strike="noStrike">
                <a:solidFill>
                  <a:srgbClr val="000000"/>
                </a:solidFill>
                <a:latin typeface="Calibri"/>
              </a:rPr>
              <a:t> que és mencionada en primer lloc en el recurs o en les fonts de referència.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s’indica la responsabilitat principal, només es requereix el creador mencionat en primer lloc. </a:t>
            </a:r>
            <a:endParaRPr b="0" lang="en-US" sz="24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19.2</a:t>
            </a:r>
            <a:r>
              <a:rPr b="0" lang="ca-ES" sz="2700" spc="-1" strike="noStrike">
                <a:solidFill>
                  <a:srgbClr val="000000"/>
                </a:solidFill>
                <a:latin typeface="Calibri"/>
              </a:rPr>
              <a:t> indica que queda a judici del catalogador la decisió d'elaborar punts d'accés d'autoritats per als creadors addicionals, a més a més del bàsic.</a:t>
            </a:r>
            <a:endParaRPr b="0" lang="en-US" sz="2700" spc="-1" strike="noStrike">
              <a:solidFill>
                <a:srgbClr val="000000"/>
              </a:solidFill>
              <a:latin typeface="Calibri"/>
            </a:endParaRPr>
          </a:p>
        </p:txBody>
      </p:sp>
      <p:sp>
        <p:nvSpPr>
          <p:cNvPr id="11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0CF87-B664-4EC1-94C0-8BFF597BFC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 i els contribuïdors?</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Un </a:t>
            </a:r>
            <a:r>
              <a:rPr b="1" lang="it-IT" sz="3200" spc="-1" strike="noStrike">
                <a:solidFill>
                  <a:srgbClr val="000000"/>
                </a:solidFill>
                <a:latin typeface="Calibri"/>
              </a:rPr>
              <a:t>contribuïdor </a:t>
            </a:r>
            <a:r>
              <a:rPr b="0" lang="it-IT" sz="3200" spc="-1" strike="noStrike">
                <a:solidFill>
                  <a:srgbClr val="000000"/>
                </a:solidFill>
                <a:latin typeface="Calibri"/>
              </a:rPr>
              <a:t>és una persona, una família o una entitat corporativa que fa una </a:t>
            </a:r>
            <a:r>
              <a:rPr b="0" lang="ca-ES" sz="3200" spc="-1" strike="noStrike">
                <a:solidFill>
                  <a:srgbClr val="000000"/>
                </a:solidFill>
                <a:latin typeface="Calibri"/>
              </a:rPr>
              <a:t>contribució </a:t>
            </a:r>
            <a:r>
              <a:rPr b="1" lang="ca-ES" sz="3200" spc="-1" strike="noStrike" u="sng">
                <a:solidFill>
                  <a:srgbClr val="000000"/>
                </a:solidFill>
                <a:uFillTx/>
                <a:latin typeface="Calibri"/>
              </a:rPr>
              <a:t>a una expressió</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contribuïdors inclouen els editors literaris, els traductors, els arranjadors de música, els intèrprets, etc.</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Els tractarem més endavant)</a:t>
            </a:r>
            <a:endParaRPr b="0" lang="en-US" sz="2800" spc="-1" strike="noStrike">
              <a:solidFill>
                <a:srgbClr val="000000"/>
              </a:solidFill>
              <a:latin typeface="Calibri"/>
            </a:endParaRPr>
          </a:p>
        </p:txBody>
      </p:sp>
      <p:sp>
        <p:nvSpPr>
          <p:cNvPr id="1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9EF7F-CFAA-4243-ADF7-48E7DEE48B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reador - Canvis respecte a les AACR2</a:t>
            </a:r>
            <a:endParaRPr b="0" lang="en-US" sz="32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95400" indent="-95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i ha dos canvis significatius respecte a les AACR2:</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mb RDA </a:t>
            </a:r>
            <a:r>
              <a:rPr b="1" lang="ca-ES" sz="3200" spc="-1" strike="noStrike" u="sng">
                <a:solidFill>
                  <a:srgbClr val="000000"/>
                </a:solidFill>
                <a:uFillTx/>
                <a:latin typeface="Calibri"/>
              </a:rPr>
              <a:t>no existeix la "regla de tres"</a:t>
            </a:r>
            <a:r>
              <a:rPr b="1" lang="ca-ES" sz="3200" spc="-1" strike="noStrike">
                <a:solidFill>
                  <a:srgbClr val="000000"/>
                </a:solidFill>
                <a:latin typeface="Calibri"/>
              </a:rPr>
              <a:t>. </a:t>
            </a:r>
            <a:r>
              <a:rPr b="0" lang="ca-ES" sz="3200" spc="-1" strike="noStrike">
                <a:solidFill>
                  <a:srgbClr val="000000"/>
                </a:solidFill>
                <a:latin typeface="Calibri"/>
              </a:rPr>
              <a:t>Amb les AACR2, si l'obra era de més de tres autors, aquesta s'identificava pel seu títol.</a:t>
            </a:r>
            <a:endParaRPr b="0" lang="en-US" sz="3200" spc="-1" strike="noStrike">
              <a:solidFill>
                <a:srgbClr val="000000"/>
              </a:solidFill>
              <a:latin typeface="Calibri"/>
            </a:endParaRPr>
          </a:p>
          <a:p>
            <a:pPr marL="95400" indent="-95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t>
            </a:r>
            <a:r>
              <a:rPr b="1" lang="ca-ES" sz="3200" spc="-1" strike="noStrike" u="sng">
                <a:solidFill>
                  <a:srgbClr val="000000"/>
                </a:solidFill>
                <a:uFillTx/>
                <a:latin typeface="Calibri"/>
              </a:rPr>
              <a:t>intèrpret</a:t>
            </a:r>
            <a:r>
              <a:rPr b="0" lang="ca-ES" sz="3200" spc="-1" strike="noStrike">
                <a:solidFill>
                  <a:srgbClr val="000000"/>
                </a:solidFill>
                <a:latin typeface="Calibri"/>
              </a:rPr>
              <a:t> d'obres de diferents compositors presentades en un enregistrament sonor, no és considerat automàticament un creador.</a:t>
            </a:r>
            <a:endParaRPr b="0" lang="en-US" sz="3200" spc="-1" strike="noStrike">
              <a:solidFill>
                <a:srgbClr val="000000"/>
              </a:solidFill>
              <a:latin typeface="Calibri"/>
            </a:endParaRPr>
          </a:p>
        </p:txBody>
      </p:sp>
      <p:sp>
        <p:nvSpPr>
          <p:cNvPr id="1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3CE5-08D3-4B87-9FA7-A713E44579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dors i modificadors com a creadors (19.2.1.1)</a:t>
            </a:r>
            <a:endParaRPr b="0" lang="en-US" sz="32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a:t>
            </a:r>
            <a:r>
              <a:rPr b="1" lang="ca-ES" sz="2700" spc="-1" strike="noStrike" u="sng">
                <a:solidFill>
                  <a:srgbClr val="000000"/>
                </a:solidFill>
                <a:uFillTx/>
                <a:latin typeface="Calibri"/>
              </a:rPr>
              <a:t>la selecció, l’arranjament, l’edició</a:t>
            </a:r>
            <a:r>
              <a:rPr b="1" lang="ca-ES" sz="2700" spc="-1" strike="noStrike">
                <a:solidFill>
                  <a:srgbClr val="000000"/>
                </a:solidFill>
                <a:latin typeface="Calibri"/>
              </a:rPr>
              <a:t>, etc., </a:t>
            </a:r>
            <a:r>
              <a:rPr b="0" lang="ca-ES" sz="2700" spc="-1" strike="noStrike">
                <a:solidFill>
                  <a:srgbClr val="000000"/>
                </a:solidFill>
                <a:latin typeface="Calibri"/>
              </a:rPr>
              <a:t>del contingut d’una compilació dóna, de fet, com a resultat la </a:t>
            </a:r>
            <a:r>
              <a:rPr b="0" lang="ca-ES" sz="2700" spc="-1" strike="noStrike" u="sng">
                <a:solidFill>
                  <a:srgbClr val="000000"/>
                </a:solidFill>
                <a:uFillTx/>
                <a:latin typeface="Calibri"/>
              </a:rPr>
              <a:t>creació d’una obra nova</a:t>
            </a:r>
            <a:r>
              <a:rPr b="0" lang="ca-ES" sz="2700" spc="-1" strike="noStrike">
                <a:solidFill>
                  <a:srgbClr val="000000"/>
                </a:solidFill>
                <a:latin typeface="Calibri"/>
              </a:rPr>
              <a:t>. Quan es presenta aquest cas, la persona, la família o l’entitat corporativa responsable de compilar l’obra agregada es pot considerar la creadora de la compilació.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alguns casos, la </a:t>
            </a:r>
            <a:r>
              <a:rPr b="1" lang="ca-ES" sz="2700" spc="-1" strike="noStrike" u="sng">
                <a:solidFill>
                  <a:srgbClr val="000000"/>
                </a:solidFill>
                <a:uFillTx/>
                <a:latin typeface="Calibri"/>
              </a:rPr>
              <a:t>modificació d’una obra que existia </a:t>
            </a:r>
            <a:r>
              <a:rPr b="0" lang="ca-ES" sz="2700" spc="-1" strike="noStrike">
                <a:solidFill>
                  <a:srgbClr val="000000"/>
                </a:solidFill>
                <a:latin typeface="Calibri"/>
              </a:rPr>
              <a:t>prèviament canvia substancialment la natura o el contingut de l’original i dóna com a resultat </a:t>
            </a:r>
            <a:r>
              <a:rPr b="0" lang="ca-ES" sz="2700" spc="-1" strike="noStrike" u="sng">
                <a:solidFill>
                  <a:srgbClr val="000000"/>
                </a:solidFill>
                <a:uFillTx/>
                <a:latin typeface="Calibri"/>
              </a:rPr>
              <a:t>una obra nova.</a:t>
            </a:r>
            <a:r>
              <a:rPr b="0" lang="ca-ES" sz="2700" spc="-1" strike="noStrike">
                <a:solidFill>
                  <a:srgbClr val="000000"/>
                </a:solidFill>
                <a:latin typeface="Calibri"/>
              </a:rPr>
              <a:t> Quan es presenta aquest cas, la persona, la família o l’entitat corporativa responsable de modificar l’obra que existia prèviament es considera que és la creadora de l’obra nova.</a:t>
            </a:r>
            <a:endParaRPr b="0" lang="en-US" sz="2700" spc="-1" strike="noStrike">
              <a:solidFill>
                <a:srgbClr val="000000"/>
              </a:solidFill>
              <a:latin typeface="Calibri"/>
            </a:endParaRPr>
          </a:p>
        </p:txBody>
      </p:sp>
      <p:sp>
        <p:nvSpPr>
          <p:cNvPr id="1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3423-A968-42B3-8ABD-A421F7A477F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5047-A90D-472F-B6C6-715085CB16A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ntroducció</a:t>
            </a:r>
            <a:endParaRPr b="0" lang="en-US" sz="3200" spc="-1" strike="noStrike">
              <a:solidFill>
                <a:srgbClr val="000000"/>
              </a:solidFill>
              <a:latin typeface="Calibri"/>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itats corporatives com a creadores</a:t>
            </a:r>
            <a:endParaRPr b="0" lang="en-US" sz="3200" spc="-1" strike="noStrike">
              <a:solidFill>
                <a:srgbClr val="000000"/>
              </a:solidFill>
              <a:latin typeface="Calibri"/>
            </a:endParaRPr>
          </a:p>
        </p:txBody>
      </p:sp>
      <p:sp>
        <p:nvSpPr>
          <p:cNvPr id="122" name=""/>
          <p:cNvSpPr txBox="1"/>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tegories d'obres (RDA 19.2.1.1.1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milar a AACR2 21.1B2): les obres de naturalesa administrativa, les que enregistren el pensament col·lectiu de l’entitat, et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aquestes categories d'obres, les entitats corporatives tenen prioritat sobre una persona o família anomenada com a creadora en primer l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19.2.1.1.1 </a:t>
            </a:r>
            <a:r>
              <a:rPr b="0" lang="ca-ES" sz="2800" spc="-1" strike="noStrike">
                <a:solidFill>
                  <a:srgbClr val="000000"/>
                </a:solidFill>
                <a:latin typeface="Calibri"/>
              </a:rPr>
              <a:t>dóna més instruccions sobre les entitats corporatives com a creadores (similar a la </a:t>
            </a:r>
            <a:r>
              <a:rPr b="0" i="1" lang="ca-ES" sz="2800" spc="-1" strike="noStrike">
                <a:solidFill>
                  <a:srgbClr val="000000"/>
                </a:solidFill>
                <a:latin typeface="Calibri"/>
              </a:rPr>
              <a:t>Concreció d'AACR2 </a:t>
            </a:r>
            <a:r>
              <a:rPr b="0" lang="ca-ES" sz="2800" spc="-1" strike="noStrike">
                <a:solidFill>
                  <a:srgbClr val="000000"/>
                </a:solidFill>
                <a:latin typeface="Calibri"/>
              </a:rPr>
              <a:t>a 21.1.B2).</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19.2.1.1.2 dóna instruccions per a càrrecs del govern i religiosos considerats creadors.</a:t>
            </a:r>
            <a:endParaRPr b="0" lang="en-US" sz="2800" spc="-1" strike="noStrike">
              <a:solidFill>
                <a:srgbClr val="000000"/>
              </a:solidFill>
              <a:latin typeface="Calibri"/>
            </a:endParaRPr>
          </a:p>
        </p:txBody>
      </p:sp>
      <p:sp>
        <p:nvSpPr>
          <p:cNvPr id="1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70338-6F03-4906-9468-E9B4B7F58B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dificació MARC</a:t>
            </a:r>
            <a:endParaRPr b="0" lang="en-US" sz="3200" spc="-1" strike="noStrike">
              <a:solidFill>
                <a:srgbClr val="000000"/>
              </a:solidFill>
              <a:latin typeface="Calibri"/>
            </a:endParaRPr>
          </a:p>
        </p:txBody>
      </p:sp>
      <p:sp>
        <p:nvSpPr>
          <p:cNvPr id="125" name="PlaceHolder 2"/>
          <p:cNvSpPr>
            <a:spLocks noGrp="1"/>
          </p:cNvSpPr>
          <p:nvPr>
            <p:ph/>
          </p:nvPr>
        </p:nvSpPr>
        <p:spPr>
          <a:xfrm>
            <a:off x="539280" y="4221000"/>
            <a:ext cx="4040280" cy="640080"/>
          </a:xfrm>
          <a:prstGeom prst="rect">
            <a:avLst/>
          </a:prstGeom>
          <a:noFill/>
          <a:ln w="3816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Calibri"/>
            </a:endParaRPr>
          </a:p>
        </p:txBody>
      </p:sp>
      <p:sp>
        <p:nvSpPr>
          <p:cNvPr id="126" name=""/>
          <p:cNvSpPr txBox="1"/>
          <p:nvPr/>
        </p:nvSpPr>
        <p:spPr>
          <a:xfrm>
            <a:off x="539280" y="1844640"/>
            <a:ext cx="4040280" cy="1944720"/>
          </a:xfrm>
          <a:prstGeom prst="rect">
            <a:avLst/>
          </a:prstGeom>
          <a:noFill/>
          <a:ln w="9360">
            <a:solidFill>
              <a:srgbClr val="4f81bd"/>
            </a:solidFill>
            <a:miter/>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0</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100, 110, 111 + </a:t>
            </a:r>
            <a:r>
              <a:rPr b="1" lang="ca-ES" sz="2000" spc="-1" strike="noStrike">
                <a:solidFill>
                  <a:srgbClr val="376092"/>
                </a:solidFill>
                <a:latin typeface="Courier New"/>
                <a:ea typeface="Courier New"/>
              </a:rPr>
              <a:t>245</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600, 610, 6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700, 710, 7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Courier New"/>
              </a:rPr>
              <a:t>800, 810, 811</a:t>
            </a:r>
            <a:r>
              <a:rPr b="1" lang="es-ES" sz="2000" spc="-1" strike="noStrike">
                <a:solidFill>
                  <a:srgbClr val="000000"/>
                </a:solidFill>
                <a:latin typeface="Courier New"/>
                <a:ea typeface="Courier New"/>
              </a:rPr>
              <a:t> + </a:t>
            </a:r>
            <a:r>
              <a:rPr b="1" lang="es-ES" sz="2000" spc="-1" strike="noStrike">
                <a:solidFill>
                  <a:srgbClr val="376092"/>
                </a:solidFill>
                <a:latin typeface="Courier New"/>
                <a:ea typeface="Courier New"/>
              </a:rPr>
              <a:t>$t</a:t>
            </a:r>
            <a:endParaRPr b="0" lang="en-US" sz="2000" spc="-1" strike="noStrike">
              <a:solidFill>
                <a:srgbClr val="000000"/>
              </a:solidFill>
              <a:latin typeface="Calibri"/>
            </a:endParaRPr>
          </a:p>
        </p:txBody>
      </p:sp>
      <p:sp>
        <p:nvSpPr>
          <p:cNvPr id="127" name="PlaceHolder 3"/>
          <p:cNvSpPr>
            <a:spLocks noGrp="1"/>
          </p:cNvSpPr>
          <p:nvPr>
            <p:ph/>
          </p:nvPr>
        </p:nvSpPr>
        <p:spPr>
          <a:xfrm>
            <a:off x="5076360" y="4508280"/>
            <a:ext cx="3598920" cy="639720"/>
          </a:xfrm>
          <a:prstGeom prst="rect">
            <a:avLst/>
          </a:prstGeom>
          <a:noFill/>
          <a:ln w="28440">
            <a:solidFill>
              <a:srgbClr val="4f81bd"/>
            </a:solidFill>
            <a:miter/>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Calibri"/>
            </a:endParaRPr>
          </a:p>
        </p:txBody>
      </p:sp>
      <p:sp>
        <p:nvSpPr>
          <p:cNvPr id="128" name=""/>
          <p:cNvSpPr txBox="1"/>
          <p:nvPr/>
        </p:nvSpPr>
        <p:spPr>
          <a:xfrm>
            <a:off x="5076360" y="2205000"/>
            <a:ext cx="3527640" cy="936720"/>
          </a:xfrm>
          <a:prstGeom prst="rect">
            <a:avLst/>
          </a:prstGeom>
          <a:noFill/>
          <a:ln w="9360">
            <a:solidFill>
              <a:srgbClr val="4f81bd"/>
            </a:solidFill>
            <a:miter/>
          </a:ln>
        </p:spPr>
        <p:txBody>
          <a:bodyPr anchor="t">
            <a:norm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000000"/>
                </a:solidFill>
                <a:latin typeface="Courier New"/>
                <a:ea typeface="Courier New"/>
              </a:rPr>
              <a:t>100, 110, 111 + </a:t>
            </a:r>
            <a:r>
              <a:rPr b="1" lang="ca-ES" sz="1900" spc="-1" strike="noStrike">
                <a:solidFill>
                  <a:srgbClr val="376092"/>
                </a:solidFill>
                <a:latin typeface="Courier New"/>
                <a:ea typeface="Courier New"/>
              </a:rPr>
              <a:t>$t</a:t>
            </a: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9"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2DA7-99E0-4C78-8CCB-963A0C2DF6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0" name="11 CuadroTexto"/>
          <p:cNvSpPr/>
          <p:nvPr/>
        </p:nvSpPr>
        <p:spPr>
          <a:xfrm>
            <a:off x="539640" y="4869000"/>
            <a:ext cx="4032360" cy="16185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30</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830</a:t>
            </a:r>
            <a:endParaRPr b="0" lang="en-US" sz="2000" spc="-1" strike="noStrike">
              <a:solidFill>
                <a:srgbClr val="000000"/>
              </a:solidFill>
              <a:latin typeface="Arial"/>
            </a:endParaRPr>
          </a:p>
        </p:txBody>
      </p:sp>
      <p:sp>
        <p:nvSpPr>
          <p:cNvPr id="131" name="4 Marcador de texto"/>
          <p:cNvSpPr/>
          <p:nvPr/>
        </p:nvSpPr>
        <p:spPr>
          <a:xfrm>
            <a:off x="5076720" y="1557360"/>
            <a:ext cx="3527640" cy="639720"/>
          </a:xfrm>
          <a:prstGeom prst="rect">
            <a:avLst/>
          </a:prstGeom>
          <a:noFill/>
          <a:ln w="2844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d'autoritat</a:t>
            </a:r>
            <a:endParaRPr b="0" lang="en-US" sz="2400" spc="-1" strike="noStrike">
              <a:solidFill>
                <a:srgbClr val="000000"/>
              </a:solidFill>
              <a:latin typeface="Arial"/>
            </a:endParaRPr>
          </a:p>
        </p:txBody>
      </p:sp>
      <p:sp>
        <p:nvSpPr>
          <p:cNvPr id="132" name="5 Marcador de contenido"/>
          <p:cNvSpPr/>
          <p:nvPr/>
        </p:nvSpPr>
        <p:spPr>
          <a:xfrm>
            <a:off x="5076720" y="5157720"/>
            <a:ext cx="3598920" cy="935280"/>
          </a:xfrm>
          <a:prstGeom prst="rect">
            <a:avLst/>
          </a:prstGeom>
          <a:noFill/>
          <a:ln w="9360">
            <a:solidFill>
              <a:srgbClr val="4f81bd"/>
            </a:solidFill>
            <a:miter/>
          </a:ln>
        </p:spPr>
        <p:style>
          <a:lnRef idx="0"/>
          <a:fillRef idx="0"/>
          <a:effectRef idx="0"/>
          <a:fontRef idx="minor"/>
        </p:style>
        <p:txBody>
          <a:bodyPr lIns="90000" rIns="90000" tIns="46800" bIns="46800" anchor="t">
            <a:noAutofit/>
          </a:bodyPr>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a:t>
            </a: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533520" indent="-9072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3" name="3 Marcador de texto"/>
          <p:cNvSpPr/>
          <p:nvPr/>
        </p:nvSpPr>
        <p:spPr>
          <a:xfrm>
            <a:off x="539640" y="1197000"/>
            <a:ext cx="4040280" cy="639720"/>
          </a:xfrm>
          <a:prstGeom prst="rect">
            <a:avLst/>
          </a:prstGeom>
          <a:noFill/>
          <a:ln w="38160">
            <a:solidFill>
              <a:srgbClr val="4f81bd"/>
            </a:solidFill>
            <a:miter/>
          </a:ln>
        </p:spPr>
        <p:style>
          <a:lnRef idx="0"/>
          <a:fillRef idx="0"/>
          <a:effectRef idx="0"/>
          <a:fontRef idx="minor"/>
        </p:style>
        <p: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Registre bibliogràfic</a:t>
            </a:r>
            <a:endParaRPr b="0" lang="en-US" sz="2400" spc="-1" strike="noStrike">
              <a:solidFill>
                <a:srgbClr val="000000"/>
              </a:solidFill>
              <a:latin typeface="Arial"/>
            </a:endParaRPr>
          </a:p>
        </p:txBody>
      </p:sp>
      <p:cxnSp>
        <p:nvCxnSpPr>
          <p:cNvPr id="134" name="16 Conector recto de flecha"/>
          <p:cNvCxnSpPr/>
          <p:nvPr/>
        </p:nvCxnSpPr>
        <p:spPr>
          <a:xfrm>
            <a:off x="4572000" y="2491920"/>
            <a:ext cx="505440" cy="1080"/>
          </a:xfrm>
          <a:prstGeom prst="straightConnector1">
            <a:avLst/>
          </a:prstGeom>
          <a:ln w="38160">
            <a:solidFill>
              <a:srgbClr val="4a7ebb"/>
            </a:solidFill>
            <a:miter/>
            <a:tailEnd len="med" type="triangle" w="med"/>
          </a:ln>
        </p:spPr>
      </p:cxnSp>
      <p:cxnSp>
        <p:nvCxnSpPr>
          <p:cNvPr id="135" name="18 Conector recto de flecha"/>
          <p:cNvCxnSpPr/>
          <p:nvPr/>
        </p:nvCxnSpPr>
        <p:spPr>
          <a:xfrm>
            <a:off x="4572000" y="5373360"/>
            <a:ext cx="505440" cy="1080"/>
          </a:xfrm>
          <a:prstGeom prst="straightConnector1">
            <a:avLst/>
          </a:prstGeom>
          <a:ln w="381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
          <p:cNvSpPr txBox="1"/>
          <p:nvPr/>
        </p:nvSpPr>
        <p:spPr>
          <a:xfrm>
            <a:off x="395280" y="2852280"/>
            <a:ext cx="8229600" cy="1368360"/>
          </a:xfrm>
          <a:prstGeom prst="rect">
            <a:avLst/>
          </a:prstGeom>
          <a:noFill/>
          <a:ln w="9360">
            <a:solidFill>
              <a:srgbClr val="4f81bd"/>
            </a:solidFill>
            <a:miter/>
          </a:ln>
        </p:spPr>
        <p:txBody>
          <a:bodyPr anchor="t">
            <a:normAutofit/>
          </a:bodyPr>
          <a:p>
            <a:pPr marL="343080" indent="-343080">
              <a:spcBef>
                <a:spcPts val="7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 les obres</a:t>
            </a:r>
            <a:endParaRPr b="0" lang="en-US" sz="3200" spc="-1" strike="noStrike">
              <a:solidFill>
                <a:srgbClr val="000000"/>
              </a:solidFill>
              <a:latin typeface="Calibri"/>
            </a:endParaRPr>
          </a:p>
        </p:txBody>
      </p:sp>
      <p:sp>
        <p:nvSpPr>
          <p:cNvPr id="1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031DB-1E35-4216-B2A1-301019A809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de l'obra (6.2.2)</a:t>
            </a:r>
            <a:endParaRPr b="0" lang="en-US" sz="3200" spc="-1" strike="noStrike">
              <a:solidFill>
                <a:srgbClr val="000000"/>
              </a:solidFill>
              <a:latin typeface="Calibri"/>
            </a:endParaRPr>
          </a:p>
        </p:txBody>
      </p:sp>
      <p:sp>
        <p:nvSpPr>
          <p:cNvPr id="140" name=""/>
          <p:cNvSpPr txBox="1"/>
          <p:nvPr/>
        </p:nvSpPr>
        <p:spPr>
          <a:xfrm>
            <a:off x="468360" y="1699920"/>
            <a:ext cx="8229600" cy="42051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el títol, o la forma del títol, triat per a identificar l'obr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ítol preferit és la base del punt d'accés autoritzat que representa l'obra.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60033-B7FA-4DB1-8354-443F098496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bàsiques (RDA 6.2.1)</a:t>
            </a:r>
            <a:endParaRPr b="0" lang="en-US" sz="3200" spc="-1" strike="noStrike">
              <a:solidFill>
                <a:srgbClr val="000000"/>
              </a:solidFill>
              <a:latin typeface="Calibri"/>
            </a:endParaRPr>
          </a:p>
        </p:txBody>
      </p:sp>
      <p:sp>
        <p:nvSpPr>
          <p:cNvPr id="143" name=""/>
          <p:cNvSpPr txBox="1"/>
          <p:nvPr/>
        </p:nvSpPr>
        <p:spPr>
          <a:xfrm>
            <a:off x="457200" y="1341000"/>
            <a:ext cx="8229600" cy="5256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irectrius generals per enregistrar els títol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ajúscules</a:t>
            </a:r>
            <a:r>
              <a:rPr b="0" lang="ca-ES" sz="2400" spc="-1" strike="noStrike">
                <a:solidFill>
                  <a:srgbClr val="000000"/>
                </a:solidFill>
                <a:latin typeface="Calibri"/>
              </a:rPr>
              <a:t>: Apliqueu les instruccions de l’apèndix A (per al català l'</a:t>
            </a:r>
            <a:r>
              <a:rPr b="1" i="1" lang="ca-ES" sz="2400" spc="-1" strike="noStrike">
                <a:solidFill>
                  <a:srgbClr val="000000"/>
                </a:solidFill>
                <a:latin typeface="Calibri"/>
              </a:rPr>
              <a:t>apèndix A de les Concrecions</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Números</a:t>
            </a:r>
            <a:r>
              <a:rPr b="0" lang="ca-ES" sz="2400" spc="-1" strike="noStrike">
                <a:solidFill>
                  <a:srgbClr val="000000"/>
                </a:solidFill>
                <a:latin typeface="Calibri"/>
              </a:rPr>
              <a:t>: Enregistreu els números expressats com a xifres o com a paraules en la forma en què figuren a la font d’informació.</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Diacrítics</a:t>
            </a:r>
            <a:r>
              <a:rPr b="0" lang="ca-ES" sz="2400" spc="-1" strike="noStrike">
                <a:solidFill>
                  <a:srgbClr val="000000"/>
                </a:solidFill>
                <a:latin typeface="Calibri"/>
              </a:rPr>
              <a:t>. Afegiu els signes diacrítics (</a:t>
            </a:r>
            <a:r>
              <a:rPr b="1" i="1" lang="ca-ES" sz="2400" spc="-1" strike="noStrike">
                <a:solidFill>
                  <a:srgbClr val="000000"/>
                </a:solidFill>
                <a:latin typeface="Calibri"/>
              </a:rPr>
              <a:t>Concreció 6.2.1.6</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ddició opc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rticles</a:t>
            </a:r>
            <a:r>
              <a:rPr b="0" lang="ca-ES" sz="2400" spc="-1" strike="noStrike">
                <a:solidFill>
                  <a:srgbClr val="000000"/>
                </a:solidFill>
                <a:latin typeface="Calibri"/>
              </a:rPr>
              <a:t>: Ometeu un article inicial, excepte si l’accés al títol de l’obra s’ha de fer sota aquest article (</a:t>
            </a:r>
            <a:r>
              <a:rPr b="1" i="1" lang="ca-ES" sz="2400" spc="-1" strike="noStrike">
                <a:solidFill>
                  <a:srgbClr val="000000"/>
                </a:solidFill>
                <a:latin typeface="Calibri"/>
              </a:rPr>
              <a:t>Concreció 6.2.1.7</a:t>
            </a:r>
            <a:r>
              <a:rPr b="0" lang="ca-ES" sz="2400" spc="-1" strike="noStrike">
                <a:solidFill>
                  <a:srgbClr val="000000"/>
                </a:solidFill>
                <a:latin typeface="Calibri"/>
              </a:rPr>
              <a:t>. </a:t>
            </a:r>
            <a:r>
              <a:rPr b="0" i="1" lang="ca-ES" sz="2400" spc="-1" strike="noStrike">
                <a:solidFill>
                  <a:srgbClr val="000000"/>
                </a:solidFill>
                <a:latin typeface="Calibri"/>
              </a:rPr>
              <a:t>S'aplica</a:t>
            </a:r>
            <a:r>
              <a:rPr b="0" lang="ca-ES" sz="2400" spc="-1" strike="noStrike">
                <a:solidFill>
                  <a:srgbClr val="000000"/>
                </a:solidFill>
                <a:latin typeface="Calibri"/>
              </a:rPr>
              <a:t> l'alternati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s de les inicials i els acrònims</a:t>
            </a:r>
            <a:r>
              <a:rPr b="0" lang="ca-ES" sz="2400" spc="-1" strike="noStrike">
                <a:solidFill>
                  <a:srgbClr val="000000"/>
                </a:solidFill>
                <a:latin typeface="Calibri"/>
              </a:rPr>
              <a:t>: No deixeu espai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tures:</a:t>
            </a:r>
            <a:r>
              <a:rPr b="0" lang="ca-ES" sz="2400" spc="-1" strike="noStrike">
                <a:solidFill>
                  <a:srgbClr val="000000"/>
                </a:solidFill>
                <a:latin typeface="Calibri"/>
              </a:rPr>
              <a:t> Aquelles que són part integrant del títol, o en el cas d'una obra musical les contemplades en l'Apèndix B (p. ex., "Núm.", "op.", etc.)</a:t>
            </a:r>
            <a:endParaRPr b="0" lang="en-US" sz="2400" spc="-1" strike="noStrike">
              <a:solidFill>
                <a:srgbClr val="000000"/>
              </a:solidFill>
              <a:latin typeface="Calibri"/>
            </a:endParaRPr>
          </a:p>
        </p:txBody>
      </p:sp>
      <p:sp>
        <p:nvSpPr>
          <p:cNvPr id="1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4A73-7632-47E3-891A-BE5A406BE6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nstruccions específiques</a:t>
            </a: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Abast i fo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1 - 6.2.2.2</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Tria</a:t>
            </a:r>
            <a:r>
              <a:rPr b="0" i="1" lang="ca-ES" sz="3200" spc="-1" strike="noStrike">
                <a:solidFill>
                  <a:srgbClr val="000000"/>
                </a:solidFill>
                <a:latin typeface="Calibri"/>
              </a:rPr>
              <a:t> </a:t>
            </a:r>
            <a:r>
              <a:rPr b="0" lang="ca-ES" sz="3200" spc="-1" strike="noStrike">
                <a:solidFill>
                  <a:srgbClr val="000000"/>
                </a:solidFill>
                <a:latin typeface="Calibri"/>
              </a:rPr>
              <a:t>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3 - 6.2.2.7</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u="sng">
                <a:solidFill>
                  <a:srgbClr val="000000"/>
                </a:solidFill>
                <a:uFillTx/>
                <a:latin typeface="Calibri"/>
              </a:rPr>
              <a:t>Enregistrament</a:t>
            </a:r>
            <a:r>
              <a:rPr b="0" lang="ca-ES" sz="3200" spc="-1" strike="noStrike">
                <a:solidFill>
                  <a:srgbClr val="000000"/>
                </a:solidFill>
                <a:latin typeface="Calibri"/>
              </a:rPr>
              <a:t> del títol preferit.</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6.2.2.8 - 6.2.2.10</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musicals (consultar RDA 6.14.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jurídiques (consultar RDA 6.19.2.4)</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obres religioses (consultar RDA 6.23.2.4)</a:t>
            </a:r>
            <a:endParaRPr b="0" lang="en-US" sz="2800" spc="-1" strike="noStrike">
              <a:solidFill>
                <a:srgbClr val="000000"/>
              </a:solidFill>
              <a:latin typeface="Calibri"/>
            </a:endParaRPr>
          </a:p>
        </p:txBody>
      </p:sp>
      <p:sp>
        <p:nvSpPr>
          <p:cNvPr id="1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3264-1983-4BEA-A6D9-B210D2E7EF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ast i fonts (RDA 6.2.2.1 - RDA 6.2.2.2)</a:t>
            </a:r>
            <a:endParaRPr b="0" lang="en-US" sz="32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El títol preferit de l’obra és el títol o la forma de títol triat per identificar l’obra.</a:t>
            </a:r>
            <a:r>
              <a:rPr b="1"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d’informació</a:t>
            </a:r>
            <a:r>
              <a:rPr b="1" lang="ca-ES" sz="3200" spc="-1" strike="noStrike">
                <a:solidFill>
                  <a:srgbClr val="000000"/>
                </a:solidFill>
                <a:latin typeface="Calibri"/>
              </a:rPr>
              <a:t>: </a:t>
            </a:r>
            <a:r>
              <a:rPr b="0" lang="ca-ES" sz="3200" spc="-1" strike="noStrike">
                <a:solidFill>
                  <a:srgbClr val="000000"/>
                </a:solidFill>
                <a:latin typeface="Calibri"/>
              </a:rPr>
              <a:t>Determineu el títol preferit d’una obra a partir dels recursos que materialitzen l’obra o de les fonts de referència.</a:t>
            </a:r>
            <a:endParaRPr b="0" lang="en-US" sz="3200" spc="-1" strike="noStrike">
              <a:solidFill>
                <a:srgbClr val="000000"/>
              </a:solidFill>
              <a:latin typeface="Calibri"/>
            </a:endParaRPr>
          </a:p>
        </p:txBody>
      </p:sp>
      <p:sp>
        <p:nvSpPr>
          <p:cNvPr id="1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A6255-C3B1-43F3-8FF9-A036A561F28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2" name=""/>
          <p:cNvSpPr txBox="1"/>
          <p:nvPr/>
        </p:nvSpPr>
        <p:spPr>
          <a:xfrm>
            <a:off x="457200" y="1052280"/>
            <a:ext cx="8229600" cy="5616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el títol preferit d’una obra en funció de si é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a:t>
            </a:r>
            <a:r>
              <a:rPr b="1" lang="ca-ES" sz="2800" spc="-1" strike="noStrike" u="sng">
                <a:solidFill>
                  <a:srgbClr val="376092"/>
                </a:solidFill>
                <a:uFillTx/>
                <a:latin typeface="Calibri"/>
              </a:rPr>
              <a:t>obra creada després de 1500</a:t>
            </a:r>
            <a:r>
              <a:rPr b="0" lang="ca-ES" sz="2800" spc="-1" strike="noStrike">
                <a:solidFill>
                  <a:srgbClr val="000000"/>
                </a:solidFill>
                <a:latin typeface="Calibri"/>
              </a:rPr>
              <a:t>: trieu un títol en la </a:t>
            </a:r>
            <a:r>
              <a:rPr b="1" lang="ca-ES" sz="2800" spc="-1" strike="noStrike">
                <a:solidFill>
                  <a:srgbClr val="000000"/>
                </a:solidFill>
                <a:latin typeface="Calibri"/>
              </a:rPr>
              <a:t>llengua original</a:t>
            </a:r>
            <a:r>
              <a:rPr b="0" lang="ca-ES" sz="2800" spc="-1" strike="noStrike">
                <a:solidFill>
                  <a:srgbClr val="000000"/>
                </a:solidFill>
                <a:latin typeface="Calibri"/>
              </a:rPr>
              <a:t>, a partir de recursos que materialitzen l’obra o de fonts de referència (RDA 6.2.2.4).</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a:t>
            </a:r>
            <a:r>
              <a:rPr b="0" i="1" lang="ca-ES" sz="2600" spc="-1" strike="noStrike">
                <a:solidFill>
                  <a:srgbClr val="000000"/>
                </a:solidFill>
                <a:latin typeface="Calibri"/>
              </a:rPr>
              <a:t> </a:t>
            </a:r>
            <a:r>
              <a:rPr b="0" lang="ca-ES" sz="2600" spc="-1" strike="noStrike">
                <a:solidFill>
                  <a:srgbClr val="000000"/>
                </a:solidFill>
                <a:latin typeface="Calibri"/>
              </a:rPr>
              <a:t>no hi ha cap títol en la llengua original establert com a títol pel qual l’obra s’identifica </a:t>
            </a:r>
            <a:r>
              <a:rPr b="0" i="1" lang="ca-ES" sz="2600" spc="-1" strike="noStrike">
                <a:solidFill>
                  <a:srgbClr val="000000"/>
                </a:solidFill>
                <a:latin typeface="Calibri"/>
              </a:rPr>
              <a:t>o </a:t>
            </a:r>
            <a:r>
              <a:rPr b="0" lang="ca-ES" sz="2600" spc="-1" strike="noStrike">
                <a:solidFill>
                  <a:srgbClr val="000000"/>
                </a:solidFill>
                <a:latin typeface="Calibri"/>
              </a:rPr>
              <a:t>en cas de dubte, trieu el </a:t>
            </a:r>
            <a:r>
              <a:rPr b="1" lang="ca-ES" sz="2600" spc="-1" strike="noStrike">
                <a:solidFill>
                  <a:srgbClr val="000000"/>
                </a:solidFill>
                <a:latin typeface="Calibri"/>
              </a:rPr>
              <a:t>títol propi de l’edició original </a:t>
            </a:r>
            <a:r>
              <a:rPr b="0" lang="ca-ES" sz="2600" spc="-1" strike="noStrike">
                <a:solidFill>
                  <a:srgbClr val="000000"/>
                </a:solidFill>
                <a:latin typeface="Calibri"/>
              </a:rPr>
              <a:t>com a títol preferi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l’obra es publica simultàniament en diferents llengües i la llengua original no es pot determinar, trieu el </a:t>
            </a:r>
            <a:r>
              <a:rPr b="1" lang="ca-ES" sz="2600" spc="-1" strike="noStrike">
                <a:solidFill>
                  <a:srgbClr val="000000"/>
                </a:solidFill>
                <a:latin typeface="Calibri"/>
              </a:rPr>
              <a:t>títol propi del recurs rebut en primer </a:t>
            </a:r>
            <a:r>
              <a:rPr b="0" lang="ca-ES" sz="2600" spc="-1" strike="noStrike">
                <a:solidFill>
                  <a:srgbClr val="000000"/>
                </a:solidFill>
                <a:latin typeface="Calibri"/>
              </a:rPr>
              <a:t>lloc com a títol preferi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9371-1268-486B-B8B5-A7403D67A3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ia del títol preferit (RDA 6.2.2.3-6.2.2.6)</a:t>
            </a:r>
            <a:endParaRPr b="0" lang="en-US" sz="3200" spc="-1" strike="noStrike">
              <a:solidFill>
                <a:srgbClr val="000000"/>
              </a:solidFill>
              <a:latin typeface="Calibri"/>
            </a:endParaRPr>
          </a:p>
        </p:txBody>
      </p:sp>
      <p:sp>
        <p:nvSpPr>
          <p:cNvPr id="15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t>
            </a:r>
            <a:r>
              <a:rPr b="1" lang="ca-ES" sz="3000" spc="-1" strike="noStrike" u="sng">
                <a:solidFill>
                  <a:srgbClr val="376092"/>
                </a:solidFill>
                <a:uFillTx/>
                <a:latin typeface="Calibri"/>
              </a:rPr>
              <a:t>obra creada abans de 1501 </a:t>
            </a:r>
            <a:r>
              <a:rPr b="0" lang="ca-ES" sz="3000" spc="-1" strike="noStrike">
                <a:solidFill>
                  <a:srgbClr val="000000"/>
                </a:solidFill>
                <a:latin typeface="Calibri"/>
              </a:rPr>
              <a:t>(RDA 6.2.2.5)</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títol en la </a:t>
            </a:r>
            <a:r>
              <a:rPr b="1" lang="ca-ES" sz="2600" spc="-1" strike="noStrike" u="sng">
                <a:solidFill>
                  <a:srgbClr val="000000"/>
                </a:solidFill>
                <a:uFillTx/>
                <a:latin typeface="Calibri"/>
              </a:rPr>
              <a:t>llengua original</a:t>
            </a:r>
            <a:r>
              <a:rPr b="0" lang="ca-ES" sz="2600" spc="-1" strike="noStrike">
                <a:solidFill>
                  <a:srgbClr val="000000"/>
                </a:solidFill>
                <a:latin typeface="Calibri"/>
              </a:rPr>
              <a:t>, a partir de fonts de referència modern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aquesta evidència no és suficient, utilitzeu (en aquest ordre) el títol trobat més sovint e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edicions modern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b) edicions antigue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c) còpies manuscrites</a:t>
            </a:r>
            <a:endParaRPr b="0" lang="en-US" sz="22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Excepció, obres gregues clàssiques i bizantines</a:t>
            </a:r>
            <a:r>
              <a:rPr b="0" lang="ca-ES" sz="2600" spc="-1" strike="noStrike">
                <a:solidFill>
                  <a:srgbClr val="000000"/>
                </a:solidFill>
                <a:latin typeface="Calibri"/>
              </a:rPr>
              <a:t>: trieu per ordre un títol en </a:t>
            </a:r>
            <a:r>
              <a:rPr b="1" lang="ca-ES" sz="2600" spc="-1" strike="noStrike" u="sng">
                <a:solidFill>
                  <a:srgbClr val="000000"/>
                </a:solidFill>
                <a:uFillTx/>
                <a:latin typeface="Calibri"/>
              </a:rPr>
              <a:t>català,</a:t>
            </a:r>
            <a:r>
              <a:rPr b="0" lang="ca-ES" sz="2600" spc="-1" strike="noStrike">
                <a:solidFill>
                  <a:srgbClr val="000000"/>
                </a:solidFill>
                <a:latin typeface="Calibri"/>
              </a:rPr>
              <a:t> en llatí, o en gre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tots els altres atributs que identifiquen les obres i les expressions: obtingueu la informació de qualsevol font (RDA 6.1.1).</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D439-1342-4385-95A2-F800445431B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18864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158" name=""/>
          <p:cNvSpPr txBox="1"/>
          <p:nvPr/>
        </p:nvSpPr>
        <p:spPr>
          <a:xfrm>
            <a:off x="468360" y="764640"/>
            <a:ext cx="8229600" cy="3095640"/>
          </a:xfrm>
          <a:prstGeom prst="rect">
            <a:avLst/>
          </a:prstGeom>
          <a:noFill/>
          <a:ln w="9360">
            <a:solidFill>
              <a:srgbClr val="000000"/>
            </a:solidFill>
            <a:miter/>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a creada després de 15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Hamle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4 $aThe Tragedy of Hamlet Prince of Denmar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100 1# $aShakespeare, William,$d1564-1616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5 10 $aHamle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Com a obra relacionad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X00 1# $aShakespeare, William,$d1564-1616</a:t>
            </a:r>
            <a:r>
              <a:rPr b="1" lang="ca-ES" sz="1600" spc="-1" strike="noStrike">
                <a:solidFill>
                  <a:srgbClr val="953735"/>
                </a:solidFill>
                <a:latin typeface="Courier New"/>
                <a:ea typeface="Courier New"/>
              </a:rPr>
              <a:t>.$tHamlet </a:t>
            </a:r>
            <a:endParaRPr b="0" lang="en-US" sz="1600" spc="-1" strike="noStrike">
              <a:solidFill>
                <a:srgbClr val="000000"/>
              </a:solidFill>
              <a:latin typeface="Calibri"/>
            </a:endParaRPr>
          </a:p>
        </p:txBody>
      </p:sp>
      <p:sp>
        <p:nvSpPr>
          <p:cNvPr id="159" name="3 Rectángulo"/>
          <p:cNvSpPr/>
          <p:nvPr/>
        </p:nvSpPr>
        <p:spPr>
          <a:xfrm>
            <a:off x="468360" y="4005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Una obra creada abans de 150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953735"/>
                </a:solidFill>
                <a:latin typeface="Courier New"/>
                <a:ea typeface="Courier New"/>
              </a:rPr>
              <a:t>240 10 $aAenei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ourier New"/>
                <a:ea typeface="Courier New"/>
              </a:rPr>
              <a:t>245 10 $aLiber qu[a]e contineant duodecim [A]eneidos libri</a:t>
            </a:r>
            <a:endParaRPr b="0" lang="en-US" sz="1600" spc="-1" strike="noStrike">
              <a:solidFill>
                <a:srgbClr val="000000"/>
              </a:solidFill>
              <a:latin typeface="Arial"/>
            </a:endParaRPr>
          </a:p>
        </p:txBody>
      </p:sp>
      <p:sp>
        <p:nvSpPr>
          <p:cNvPr id="160" name="4 Rectángulo"/>
          <p:cNvSpPr/>
          <p:nvPr/>
        </p:nvSpPr>
        <p:spPr>
          <a:xfrm>
            <a:off x="468360" y="5229360"/>
            <a:ext cx="828036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Courier New"/>
              </a:rPr>
              <a:t>Obres gregues clàssiques i bizanti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376092"/>
                </a:solidFill>
                <a:latin typeface="Courier New"/>
                <a:ea typeface="Courier New"/>
              </a:rPr>
              <a:t>100 0# $aHom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600" spc="-1" strike="noStrike">
                <a:solidFill>
                  <a:srgbClr val="953735"/>
                </a:solidFill>
                <a:latin typeface="Courier New"/>
                <a:ea typeface="Courier New"/>
              </a:rPr>
              <a:t>240 10 $aOdisse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Courier New"/>
                <a:ea typeface="Courier New"/>
              </a:rPr>
              <a:t>245 10 $aOmeroy Odysseia</a:t>
            </a:r>
            <a:endParaRPr b="0" lang="en-US" sz="1600" spc="-1" strike="noStrike">
              <a:solidFill>
                <a:srgbClr val="000000"/>
              </a:solidFill>
              <a:latin typeface="Arial"/>
            </a:endParaRPr>
          </a:p>
        </p:txBody>
      </p:sp>
      <p:sp>
        <p:nvSpPr>
          <p:cNvPr id="161"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4B07A-892C-4779-BC0E-2AECA3C198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On són les instruccions?</a:t>
            </a:r>
            <a:endParaRPr b="0" lang="en-US" sz="32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es instruccions per a la identificació de les </a:t>
            </a:r>
            <a:r>
              <a:rPr b="0" lang="ca-ES" sz="3200" spc="-1" strike="noStrike" u="sng">
                <a:solidFill>
                  <a:srgbClr val="000000"/>
                </a:solidFill>
                <a:uFillTx/>
                <a:latin typeface="Calibri"/>
              </a:rPr>
              <a:t>obres i les expressions</a:t>
            </a:r>
            <a:r>
              <a:rPr b="0" lang="ca-ES" sz="3200" spc="-1" strike="noStrike">
                <a:solidFill>
                  <a:srgbClr val="000000"/>
                </a:solidFill>
                <a:latin typeface="Calibri"/>
              </a:rPr>
              <a:t> són al </a:t>
            </a:r>
            <a:r>
              <a:rPr b="1" lang="ca-ES" sz="3200" spc="-1" strike="noStrike">
                <a:solidFill>
                  <a:srgbClr val="376092"/>
                </a:solidFill>
                <a:latin typeface="Calibri"/>
              </a:rPr>
              <a:t>capítol 6</a:t>
            </a:r>
            <a:r>
              <a:rPr b="0" lang="ca-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ambé cal consultar les instruccions relaciona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19:</a:t>
            </a:r>
            <a:r>
              <a:rPr b="0" lang="ca-ES" sz="2800" spc="-1" strike="noStrike">
                <a:solidFill>
                  <a:srgbClr val="000000"/>
                </a:solidFill>
                <a:latin typeface="Calibri"/>
              </a:rPr>
              <a:t> Persones, famílies i entitats corporatives associades amb una ob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pítol 20</a:t>
            </a:r>
            <a:r>
              <a:rPr b="0" lang="ca-ES" sz="2800" spc="-1" strike="noStrike">
                <a:solidFill>
                  <a:srgbClr val="000000"/>
                </a:solidFill>
                <a:latin typeface="Calibri"/>
              </a:rPr>
              <a:t>: Persones, famílies i entitats corporatives associades amb una expressió.</a:t>
            </a:r>
            <a:endParaRPr b="0" lang="en-US" sz="2800" spc="-1" strike="noStrike">
              <a:solidFill>
                <a:srgbClr val="000000"/>
              </a:solidFill>
              <a:latin typeface="Calibri"/>
            </a:endParaRPr>
          </a:p>
        </p:txBody>
      </p:sp>
      <p:sp>
        <p:nvSpPr>
          <p:cNvPr id="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FDA1-ED63-4F53-9697-460D4227A8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en la llengua original no trobats o no aplicables (RDA 6.2.2.3-6.2.2.6)</a:t>
            </a:r>
            <a:endParaRPr b="0" lang="en-US" sz="3200" spc="-1" strike="noStrike">
              <a:solidFill>
                <a:srgbClr val="000000"/>
              </a:solidFill>
              <a:latin typeface="Calibri"/>
            </a:endParaRPr>
          </a:p>
        </p:txBody>
      </p:sp>
      <p:sp>
        <p:nvSpPr>
          <p:cNvPr id="163" name=""/>
          <p:cNvSpPr txBox="1"/>
          <p:nvPr/>
        </p:nvSpPr>
        <p:spPr>
          <a:xfrm>
            <a:off x="468000" y="1483920"/>
            <a:ext cx="8434440" cy="4824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no es troba un títol preferit en la llengua original (p. ex., manuscrits, escultures, etc.), trieu en aquest ordre de preferència:</a:t>
            </a:r>
            <a:endParaRPr b="0" lang="en-US" sz="24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títol trobat en una </a:t>
            </a:r>
            <a:r>
              <a:rPr b="1" lang="ca-ES" sz="2400" spc="-1" strike="noStrike" u="sng">
                <a:solidFill>
                  <a:srgbClr val="000000"/>
                </a:solidFill>
                <a:uFillTx/>
                <a:latin typeface="Calibri"/>
              </a:rPr>
              <a:t>font de referència </a:t>
            </a:r>
            <a:r>
              <a:rPr b="0" lang="ca-ES" sz="2400" spc="-1" strike="noStrike">
                <a:solidFill>
                  <a:srgbClr val="000000"/>
                </a:solidFill>
                <a:latin typeface="Calibri"/>
              </a:rPr>
              <a:t>en català (vegeu RDA 6.2.2.6.1 i </a:t>
            </a:r>
            <a:r>
              <a:rPr b="1" i="1" lang="ca-ES" sz="2400" spc="-1" strike="noStrike">
                <a:solidFill>
                  <a:srgbClr val="000000"/>
                </a:solidFill>
                <a:latin typeface="Calibri"/>
              </a:rPr>
              <a:t>Concre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00 1# $aPicasso, Pablo,$d1881-1973</a:t>
            </a:r>
            <a:r>
              <a:rPr b="1" lang="ca-ES" sz="1800" spc="-1" strike="noStrike">
                <a:solidFill>
                  <a:srgbClr val="953735"/>
                </a:solidFill>
                <a:latin typeface="Courier New"/>
                <a:ea typeface="Courier New"/>
              </a:rPr>
              <a:t>.$tSenyoretes del carrer d'Avinyó</a:t>
            </a:r>
            <a:endParaRPr b="0" lang="en-US" sz="1800" spc="-1" strike="noStrike">
              <a:solidFill>
                <a:srgbClr val="000000"/>
              </a:solidFill>
              <a:latin typeface="Calibri"/>
            </a:endParaRPr>
          </a:p>
          <a:p>
            <a:pPr lvl="1" marL="177840" indent="-173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n </a:t>
            </a:r>
            <a:r>
              <a:rPr b="1" lang="ca-ES" sz="2400" spc="-1" strike="noStrike" u="sng">
                <a:solidFill>
                  <a:srgbClr val="000000"/>
                </a:solidFill>
                <a:uFillTx/>
                <a:latin typeface="Calibri"/>
              </a:rPr>
              <a:t>títol inventat </a:t>
            </a:r>
            <a:r>
              <a:rPr b="0" lang="ca-ES" sz="2400" spc="-1" strike="noStrike">
                <a:solidFill>
                  <a:srgbClr val="000000"/>
                </a:solidFill>
                <a:latin typeface="Calibri"/>
              </a:rPr>
              <a:t>en català (vegeu RDA 6.2.2.6.2 i </a:t>
            </a:r>
            <a:r>
              <a:rPr b="1" i="1" lang="ca-ES" sz="2400" spc="-1" strike="noStrike">
                <a:solidFill>
                  <a:srgbClr val="000000"/>
                </a:solidFill>
                <a:latin typeface="Calibri"/>
              </a:rPr>
              <a:t>Concreció 6.2.2.6</a:t>
            </a:r>
            <a:r>
              <a:rPr b="0" lang="ca-ES" sz="2400" spc="-1" strike="noStrike">
                <a:solidFill>
                  <a:srgbClr val="000000"/>
                </a:solidFill>
                <a:latin typeface="Calibri"/>
              </a:rPr>
              <a:t>)</a:t>
            </a:r>
            <a:endParaRPr b="0" lang="en-US" sz="2400" spc="-1" strike="noStrike">
              <a:solidFill>
                <a:srgbClr val="000000"/>
              </a:solidFill>
              <a:latin typeface="Calibri"/>
            </a:endParaRPr>
          </a:p>
          <a:p>
            <a:pPr lvl="1" marL="177840" indent="-1731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177840" indent="-1731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953735"/>
                </a:solidFill>
                <a:latin typeface="Courier New"/>
                <a:ea typeface="Courier New"/>
              </a:rPr>
              <a:t>110 2# $aBiblioteca de Catalunya.$kManuscrit.$nM 971 b</a:t>
            </a:r>
            <a:endParaRPr b="0" lang="en-US" sz="1800" spc="-1" strike="noStrike">
              <a:solidFill>
                <a:srgbClr val="000000"/>
              </a:solidFill>
              <a:latin typeface="Calibri"/>
            </a:endParaRPr>
          </a:p>
        </p:txBody>
      </p:sp>
      <p:sp>
        <p:nvSpPr>
          <p:cNvPr id="16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F88E7-76FE-4006-AE22-DE9442BF091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s trobats en una escriptura no preferida (RDA 6.2.2.7)</a:t>
            </a:r>
            <a:endParaRPr b="0" lang="en-US" sz="3200" spc="-1" strike="noStrike">
              <a:solidFill>
                <a:srgbClr val="000000"/>
              </a:solidFill>
              <a:latin typeface="Calibri"/>
            </a:endParaRPr>
          </a:p>
        </p:txBody>
      </p:sp>
      <p:sp>
        <p:nvSpPr>
          <p:cNvPr id="166" name=""/>
          <p:cNvSpPr txBox="1"/>
          <p:nvPr/>
        </p:nvSpPr>
        <p:spPr>
          <a:xfrm>
            <a:off x="468360" y="1989000"/>
            <a:ext cx="8229600" cy="20145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7 Alternativa</a:t>
            </a:r>
            <a:r>
              <a:rPr b="1" lang="ca-ES" sz="2400" spc="-1" strike="noStrike">
                <a:solidFill>
                  <a:srgbClr val="000000"/>
                </a:solidFill>
                <a:latin typeface="Calibri"/>
              </a:rPr>
              <a:t>:</a:t>
            </a:r>
            <a:r>
              <a:rPr b="0" lang="ca-ES" sz="2400" spc="-1" strike="noStrike">
                <a:solidFill>
                  <a:srgbClr val="000000"/>
                </a:solidFill>
                <a:latin typeface="Calibri"/>
              </a:rPr>
              <a:t> S’aplica a obres anònimes creades abans de 1501 que no hagin estat escrites ni en grec ni en llatí. Es tria com a títol preferit un títol ben establert en català, si n’hi ha un.</a:t>
            </a:r>
            <a:endParaRPr b="0" lang="en-US" sz="2400" spc="-1" strike="noStrike">
              <a:solidFill>
                <a:srgbClr val="000000"/>
              </a:solidFill>
              <a:latin typeface="Calibri"/>
            </a:endParaRPr>
          </a:p>
        </p:txBody>
      </p:sp>
      <p:sp>
        <p:nvSpPr>
          <p:cNvPr id="167" name="4 Rectángulo"/>
          <p:cNvSpPr/>
          <p:nvPr/>
        </p:nvSpPr>
        <p:spPr>
          <a:xfrm>
            <a:off x="755640" y="4005360"/>
            <a:ext cx="7272360" cy="201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Font:</a:t>
            </a:r>
            <a:r>
              <a:rPr b="0" i="1" lang="ca-ES" sz="1800" spc="-1" strike="noStrike">
                <a:solidFill>
                  <a:srgbClr val="000000"/>
                </a:solidFill>
                <a:latin typeface="Arial"/>
              </a:rPr>
              <a:t> </a:t>
            </a:r>
            <a:r>
              <a:rPr b="0" i="1" lang="ca-ES" sz="1800" spc="-1" strike="noStrike">
                <a:solidFill>
                  <a:srgbClr val="000000"/>
                </a:solidFill>
                <a:latin typeface="Arial"/>
              </a:rPr>
              <a:t>ألف ليلة وليل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Transcripció: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lf layla wa-lay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 a obra relaciona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lang="ca-ES" sz="1800" spc="-1" strike="noStrike">
                <a:solidFill>
                  <a:srgbClr val="376092"/>
                </a:solidFill>
                <a:latin typeface="Courier New"/>
                <a:ea typeface="Courier New"/>
              </a:rPr>
              <a:t>730 0# $a</a:t>
            </a:r>
            <a:r>
              <a:rPr b="1" lang="ca-ES" sz="1800" spc="-1" strike="noStrike">
                <a:solidFill>
                  <a:srgbClr val="953735"/>
                </a:solidFill>
                <a:latin typeface="Courier New"/>
                <a:ea typeface="Courier New"/>
              </a:rPr>
              <a:t>Mil i una nits</a:t>
            </a:r>
            <a:endParaRPr b="0" lang="en-US" sz="1800" spc="-1" strike="noStrike">
              <a:solidFill>
                <a:srgbClr val="000000"/>
              </a:solidFill>
              <a:latin typeface="Arial"/>
            </a:endParaRPr>
          </a:p>
        </p:txBody>
      </p:sp>
      <p:sp>
        <p:nvSpPr>
          <p:cNvPr id="1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94C6-274A-4A78-AAAE-B791686BA69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eferit d’una obra (RDA 6.2.2.8)</a:t>
            </a:r>
            <a:endParaRPr b="0" lang="en-US" sz="3200" spc="-1" strike="noStrike">
              <a:solidFill>
                <a:srgbClr val="000000"/>
              </a:solidFill>
              <a:latin typeface="Calibri"/>
            </a:endParaRPr>
          </a:p>
        </p:txBody>
      </p:sp>
      <p:sp>
        <p:nvSpPr>
          <p:cNvPr id="170" name=""/>
          <p:cNvSpPr txBox="1"/>
          <p:nvPr/>
        </p:nvSpPr>
        <p:spPr>
          <a:xfrm>
            <a:off x="457200" y="1600200"/>
            <a:ext cx="8362800" cy="478152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questa instrucció s’aplica a les </a:t>
            </a:r>
            <a:r>
              <a:rPr b="1" lang="ca-ES" sz="2000" spc="-1" strike="noStrike">
                <a:solidFill>
                  <a:srgbClr val="000000"/>
                </a:solidFill>
                <a:latin typeface="Calibri"/>
              </a:rPr>
              <a:t>obres individuals i a les compilacions d’obres.</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registreu el títol triat com a títol preferit. </a:t>
            </a:r>
            <a:r>
              <a:rPr b="0" lang="ca-ES" sz="2000" spc="-1" strike="noStrike" u="sng">
                <a:solidFill>
                  <a:srgbClr val="000000"/>
                </a:solidFill>
                <a:uFillTx/>
                <a:latin typeface="Calibri"/>
              </a:rPr>
              <a:t>No enregistreu un títol alternatiu</a:t>
            </a:r>
            <a:r>
              <a:rPr b="0" lang="ca-ES" sz="2000" spc="-1" strike="noStrike">
                <a:solidFill>
                  <a:srgbClr val="000000"/>
                </a:solidFill>
                <a:latin typeface="Calibri"/>
              </a:rPr>
              <a:t>.</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directrius generals i concrecions de 6.2.1 (majúscules, article inicial, etc.).</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La Concreció 6.2.2.8: </a:t>
            </a:r>
            <a:endParaRPr b="0" lang="en-US" sz="20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000000"/>
                </a:solidFill>
                <a:latin typeface="Calibri"/>
              </a:rPr>
              <a:t>I/J, U/V: </a:t>
            </a:r>
            <a:r>
              <a:rPr b="0" lang="ca-ES" sz="1700" spc="-1" strike="noStrike">
                <a:solidFill>
                  <a:srgbClr val="000000"/>
                </a:solidFill>
                <a:latin typeface="Calibri"/>
              </a:rPr>
              <a:t>Quan el títol triat com a títol preferit és afectat per un ús no regularitzat de "i/j" i "u/v", es regularitza l'ús d'aquestes lletres de la manera següent: "i" per a vocals; "j" per a consonants; "u" per a vocals; "v" per a consonants; i "w" per a "uu" o "vv".</a:t>
            </a:r>
            <a:endParaRPr b="0" lang="en-US" sz="17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Apliqueu les instruccions addicionals en el ca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una o més </a:t>
            </a:r>
            <a:r>
              <a:rPr b="1" lang="ca-ES" sz="1800" spc="-1" strike="noStrike" u="sng">
                <a:solidFill>
                  <a:srgbClr val="000000"/>
                </a:solidFill>
                <a:uFillTx/>
                <a:latin typeface="Calibri"/>
              </a:rPr>
              <a:t>parts</a:t>
            </a:r>
            <a:r>
              <a:rPr b="1" lang="ca-ES" sz="1800" spc="-1" strike="noStrike">
                <a:solidFill>
                  <a:srgbClr val="000000"/>
                </a:solidFill>
                <a:latin typeface="Calibri"/>
              </a:rPr>
              <a:t> d’una obra </a:t>
            </a:r>
            <a:r>
              <a:rPr b="0" lang="ca-ES" sz="1800" spc="-1" strike="noStrike">
                <a:solidFill>
                  <a:srgbClr val="000000"/>
                </a:solidFill>
                <a:latin typeface="Calibri"/>
              </a:rPr>
              <a:t>(RDA 6.2.2.9)</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les </a:t>
            </a:r>
            <a:r>
              <a:rPr b="1" lang="ca-ES" sz="1800" spc="-1" strike="noStrike" u="sng">
                <a:solidFill>
                  <a:srgbClr val="000000"/>
                </a:solidFill>
                <a:uFillTx/>
                <a:latin typeface="Calibri"/>
              </a:rPr>
              <a:t>obres d’una </a:t>
            </a:r>
            <a:r>
              <a:rPr b="1" lang="ca-ES" sz="1800" spc="-1" strike="noStrike">
                <a:solidFill>
                  <a:srgbClr val="000000"/>
                </a:solidFill>
                <a:latin typeface="Calibri"/>
              </a:rPr>
              <a:t>persona</a:t>
            </a:r>
            <a:r>
              <a:rPr b="0" lang="ca-ES" sz="1800" spc="-1" strike="noStrike">
                <a:solidFill>
                  <a:srgbClr val="000000"/>
                </a:solidFill>
                <a:latin typeface="Calibri"/>
              </a:rPr>
              <a:t>, una família o una entitat corporativa (RDA 6.2.2.10)</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de </a:t>
            </a:r>
            <a:r>
              <a:rPr b="1" lang="ca-ES" sz="1800" spc="-1" strike="noStrike">
                <a:solidFill>
                  <a:srgbClr val="000000"/>
                </a:solidFill>
                <a:latin typeface="Calibri"/>
              </a:rPr>
              <a:t>compilacions de </a:t>
            </a:r>
            <a:r>
              <a:rPr b="1" lang="ca-ES" sz="1800" spc="-1" strike="noStrike" u="sng">
                <a:solidFill>
                  <a:srgbClr val="000000"/>
                </a:solidFill>
                <a:uFillTx/>
                <a:latin typeface="Calibri"/>
              </a:rPr>
              <a:t>les obres de diferents </a:t>
            </a:r>
            <a:r>
              <a:rPr b="1" lang="ca-ES" sz="1800" spc="-1" strike="noStrike">
                <a:solidFill>
                  <a:srgbClr val="000000"/>
                </a:solidFill>
                <a:latin typeface="Calibri"/>
              </a:rPr>
              <a:t>persones</a:t>
            </a:r>
            <a:r>
              <a:rPr b="0" lang="ca-ES" sz="1800" spc="-1" strike="noStrike">
                <a:solidFill>
                  <a:srgbClr val="000000"/>
                </a:solidFill>
                <a:latin typeface="Calibri"/>
              </a:rPr>
              <a:t>, famílies o entitats corporatives (RDA 6.2.2.11).</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CED9-DA27-4107-B170-453C45BB7B1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a:t>
            </a:r>
            <a:br>
              <a:rPr sz="3200"/>
            </a:br>
            <a:r>
              <a:rPr b="1" lang="ca-ES" sz="3200" spc="-1" strike="noStrike">
                <a:solidFill>
                  <a:srgbClr val="000000"/>
                </a:solidFill>
                <a:latin typeface="Calibri"/>
              </a:rPr>
              <a:t>Parts d'una obra (RDA 6.2.2.9)</a:t>
            </a:r>
            <a:endParaRPr b="0" lang="en-US" sz="3200" spc="-1" strike="noStrike">
              <a:solidFill>
                <a:srgbClr val="000000"/>
              </a:solidFill>
              <a:latin typeface="Calibri"/>
            </a:endParaRPr>
          </a:p>
        </p:txBody>
      </p:sp>
      <p:sp>
        <p:nvSpPr>
          <p:cNvPr id="173" name=""/>
          <p:cNvSpPr txBox="1"/>
          <p:nvPr/>
        </p:nvSpPr>
        <p:spPr>
          <a:xfrm>
            <a:off x="457200" y="1341360"/>
            <a:ext cx="8229600" cy="511200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RDA fa una distinció depenent del nombre de pa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Una part </a:t>
            </a:r>
            <a:r>
              <a:rPr b="0" lang="ca-ES" sz="2000" spc="-1" strike="noStrike">
                <a:solidFill>
                  <a:srgbClr val="000000"/>
                </a:solidFill>
                <a:latin typeface="Calibri"/>
              </a:rPr>
              <a:t>(vegeu RDA 6.2.2.9.1)</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nregistreu el títol preferit de la part aplicant les instruccions bàsiqu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en-US" sz="1300" spc="-1" strike="noStrike">
                <a:solidFill>
                  <a:srgbClr val="376092"/>
                </a:solidFill>
                <a:latin typeface="Courier New"/>
                <a:ea typeface="Courier New"/>
              </a:rPr>
              <a:t>700 1# $aTolkien, J. R. R.$q(John Ronald Reuel),$d1892-1973</a:t>
            </a:r>
            <a:r>
              <a:rPr b="1" lang="en-US" sz="1300" spc="-1" strike="noStrike">
                <a:solidFill>
                  <a:srgbClr val="953735"/>
                </a:solidFill>
                <a:latin typeface="Courier New"/>
                <a:ea typeface="Courier New"/>
              </a:rPr>
              <a:t>.$tTwo towers</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Si la part només s’identifica amb una designació de part, enregistreu la designació (si és numèrica en xifres)</a:t>
            </a:r>
            <a:endParaRPr b="0" lang="en-US" sz="18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 </a:t>
            </a:r>
            <a:r>
              <a:rPr b="1" lang="ca-ES" sz="1300" spc="-1" strike="noStrike">
                <a:solidFill>
                  <a:srgbClr val="376092"/>
                </a:solidFill>
                <a:latin typeface="Courier New"/>
                <a:ea typeface="Courier New"/>
              </a:rPr>
              <a:t>700 1# $aVirgili Maró, Publi,$d70 aC-19 aC.$tAeneis.</a:t>
            </a:r>
            <a:r>
              <a:rPr b="1" lang="ca-ES" sz="1300" spc="-1" strike="noStrike">
                <a:solidFill>
                  <a:srgbClr val="953735"/>
                </a:solidFill>
                <a:latin typeface="Courier New"/>
                <a:ea typeface="Courier New"/>
              </a:rPr>
              <a:t>$nLiber 1</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Dues o més parts</a:t>
            </a:r>
            <a:r>
              <a:rPr b="0" lang="ca-ES" sz="2000" spc="-1" strike="noStrike">
                <a:solidFill>
                  <a:srgbClr val="000000"/>
                </a:solidFill>
                <a:latin typeface="Calibri"/>
              </a:rPr>
              <a:t> (vegeu RDA 6.2.2.9.2)</a:t>
            </a:r>
            <a:endParaRPr b="0" lang="en-US" sz="20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a:t>
            </a:r>
            <a:r>
              <a:rPr b="0" lang="ca-ES" sz="1800" spc="-1" strike="noStrike" u="sng">
                <a:solidFill>
                  <a:srgbClr val="000000"/>
                </a:solidFill>
                <a:uFillTx/>
                <a:latin typeface="Calibri"/>
              </a:rPr>
              <a:t>numerades consecutivament</a:t>
            </a:r>
            <a:r>
              <a:rPr b="0" lang="ca-ES" sz="1800" spc="-1" strike="noStrike">
                <a:solidFill>
                  <a:srgbClr val="000000"/>
                </a:solidFill>
                <a:latin typeface="Calibri"/>
              </a:rPr>
              <a:t>, només amb una designació general: Enregistreu la designació de les parts seguit dels números inclusius de les parts.</a:t>
            </a:r>
            <a:endParaRPr b="0" lang="en-US" sz="18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Courier New"/>
                <a:ea typeface="Courier New"/>
              </a:rPr>
              <a:t>Ex.:</a:t>
            </a:r>
            <a:r>
              <a:rPr b="1" lang="ca-ES" sz="1300" spc="-1" strike="noStrike">
                <a:solidFill>
                  <a:srgbClr val="376092"/>
                </a:solidFill>
                <a:latin typeface="Courier New"/>
                <a:ea typeface="Courier New"/>
              </a:rPr>
              <a:t>100 1# $aVirgili Maró, Publi,$d70 aC-19 aC </a:t>
            </a:r>
            <a:endParaRPr b="0" lang="en-US" sz="1300" spc="-1" strike="noStrike">
              <a:solidFill>
                <a:srgbClr val="000000"/>
              </a:solidFill>
              <a:latin typeface="Calibri"/>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300" spc="-1" strike="noStrike">
                <a:solidFill>
                  <a:srgbClr val="953735"/>
                </a:solidFill>
                <a:latin typeface="Courier New"/>
                <a:ea typeface="Courier New"/>
              </a:rPr>
              <a:t>240 10 $aAeneis.$nLiber 7-12 </a:t>
            </a:r>
            <a:endParaRPr b="0" lang="en-US" sz="1300" spc="-1" strike="noStrike">
              <a:solidFill>
                <a:srgbClr val="000000"/>
              </a:solidFill>
              <a:latin typeface="Calibri"/>
            </a:endParaRPr>
          </a:p>
          <a:p>
            <a:pPr lvl="1" marL="272880" indent="-1774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272880" indent="-177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o numerades o </a:t>
            </a:r>
            <a:r>
              <a:rPr b="0" lang="ca-ES" sz="1800" spc="-1" strike="noStrike" u="sng">
                <a:solidFill>
                  <a:srgbClr val="000000"/>
                </a:solidFill>
                <a:uFillTx/>
                <a:latin typeface="Calibri"/>
              </a:rPr>
              <a:t>no numerades consecutivament:</a:t>
            </a:r>
            <a:endParaRPr b="0" lang="en-US" sz="1800" spc="-1" strike="noStrike">
              <a:solidFill>
                <a:srgbClr val="000000"/>
              </a:solidFill>
              <a:latin typeface="Calibri"/>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Concreció 6.2.2.9.2</a:t>
            </a:r>
            <a:r>
              <a:rPr b="0" lang="ca-ES" sz="1800" spc="-1" strike="noStrike">
                <a:solidFill>
                  <a:srgbClr val="000000"/>
                </a:solidFill>
                <a:latin typeface="Calibri"/>
              </a:rPr>
              <a:t> </a:t>
            </a:r>
            <a:r>
              <a:rPr b="1" i="1" lang="ca-ES" sz="1800" spc="-1" strike="noStrike">
                <a:solidFill>
                  <a:srgbClr val="000000"/>
                </a:solidFill>
                <a:latin typeface="Calibri"/>
              </a:rPr>
              <a:t>Alternativa:</a:t>
            </a:r>
            <a:r>
              <a:rPr b="0" lang="ca-ES" sz="1800" spc="-1" strike="noStrike">
                <a:solidFill>
                  <a:srgbClr val="000000"/>
                </a:solidFill>
                <a:latin typeface="Calibri"/>
              </a:rPr>
              <a:t> </a:t>
            </a:r>
            <a:r>
              <a:rPr b="0" i="1" lang="ca-ES" sz="1800" spc="-1" strike="noStrike">
                <a:solidFill>
                  <a:srgbClr val="000000"/>
                </a:solidFill>
                <a:latin typeface="Calibri"/>
              </a:rPr>
              <a:t>S’aplica.</a:t>
            </a:r>
            <a:r>
              <a:rPr b="0" lang="ca-ES" sz="1800" spc="-1" strike="noStrike">
                <a:solidFill>
                  <a:srgbClr val="000000"/>
                </a:solidFill>
                <a:latin typeface="Calibri"/>
              </a:rPr>
              <a:t> S’enregistra, a més a més del títol col·lectiu convencional "</a:t>
            </a:r>
            <a:r>
              <a:rPr b="1" lang="ca-ES" sz="1800" spc="-1" strike="noStrike">
                <a:solidFill>
                  <a:srgbClr val="376092"/>
                </a:solidFill>
                <a:latin typeface="Calibri"/>
              </a:rPr>
              <a:t>s</a:t>
            </a:r>
            <a:r>
              <a:rPr b="1" lang="ca-ES" sz="1800" spc="-1" strike="noStrike" u="sng">
                <a:solidFill>
                  <a:srgbClr val="376092"/>
                </a:solidFill>
                <a:uFillTx/>
                <a:latin typeface="Calibri"/>
              </a:rPr>
              <a:t>eleccions</a:t>
            </a:r>
            <a:r>
              <a:rPr b="0" lang="ca-ES" sz="1800" spc="-1" strike="noStrike">
                <a:solidFill>
                  <a:srgbClr val="000000"/>
                </a:solidFill>
                <a:latin typeface="Calibri"/>
              </a:rPr>
              <a:t>", </a:t>
            </a:r>
            <a:r>
              <a:rPr b="1" lang="ca-ES" sz="1800" spc="-1" strike="noStrike" u="sng">
                <a:solidFill>
                  <a:srgbClr val="376092"/>
                </a:solidFill>
                <a:uFillTx/>
                <a:latin typeface="Calibri"/>
              </a:rPr>
              <a:t>el títol d’una o més parts </a:t>
            </a:r>
            <a:r>
              <a:rPr b="0" lang="ca-ES" sz="1800" spc="-1" strike="noStrike">
                <a:solidFill>
                  <a:srgbClr val="000000"/>
                </a:solidFill>
                <a:latin typeface="Calibri"/>
              </a:rPr>
              <a:t>si són essencialment importants. </a:t>
            </a:r>
            <a:endParaRPr b="0" lang="en-US" sz="18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272880" indent="-177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2B83F-4EDC-4FA6-9520-A7FD5B19657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ues o més parts </a:t>
            </a:r>
            <a:br>
              <a:rPr sz="3200"/>
            </a:br>
            <a:r>
              <a:rPr b="1" i="1" lang="ca-ES" sz="3200" spc="-1" strike="noStrike">
                <a:solidFill>
                  <a:srgbClr val="000000"/>
                </a:solidFill>
                <a:latin typeface="Calibri"/>
              </a:rPr>
              <a:t>Concreció 6.2.2.9.2</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6.2.2.9.2</a:t>
            </a:r>
            <a:r>
              <a:rPr b="0" lang="ca-ES" sz="2400" spc="-1" strike="noStrike">
                <a:solidFill>
                  <a:srgbClr val="000000"/>
                </a:solidFill>
                <a:latin typeface="Calibri"/>
              </a:rPr>
              <a:t> </a:t>
            </a:r>
            <a:r>
              <a:rPr b="1" i="1" lang="ca-ES" sz="2400" spc="-1" strike="noStrike">
                <a:solidFill>
                  <a:srgbClr val="000000"/>
                </a:solidFill>
                <a:latin typeface="Calibri"/>
              </a:rPr>
              <a:t>Alternativa</a:t>
            </a:r>
            <a:r>
              <a:rPr b="1" lang="ca-ES" sz="2400" spc="-1" strike="noStrike">
                <a:solidFill>
                  <a:srgbClr val="000000"/>
                </a:solidFill>
                <a:latin typeface="Calibri"/>
              </a:rPr>
              <a:t>:</a:t>
            </a:r>
            <a:r>
              <a:rPr b="0" lang="ca-ES" sz="2400" spc="-1" strike="noStrike">
                <a:solidFill>
                  <a:srgbClr val="000000"/>
                </a:solidFill>
                <a:latin typeface="Calibri"/>
              </a:rPr>
              <a:t> S’aplica. S’enregistra, a més a més del títol col·lectiu convencional </a:t>
            </a:r>
            <a:r>
              <a:rPr b="1" lang="ca-ES" sz="2400" spc="-1" strike="noStrike" u="sng">
                <a:solidFill>
                  <a:srgbClr val="376092"/>
                </a:solidFill>
                <a:uFillTx/>
                <a:latin typeface="Calibri"/>
              </a:rPr>
              <a:t>"Seleccions", el títol d’una o més parts </a:t>
            </a:r>
            <a:r>
              <a:rPr b="0" lang="ca-ES" sz="2400" spc="-1" strike="noStrike">
                <a:solidFill>
                  <a:srgbClr val="000000"/>
                </a:solidFill>
                <a:latin typeface="Calibri"/>
              </a:rPr>
              <a:t>si són essencialment importants. </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El títol preferit per a les parts d'una obra que consisteix en els llibres 7 i 12 d'Aeneis de Virgili: </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100 1# $aVirgili Maró, Publi,$d70 aC-19 aC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240 10 $aAeneis</a:t>
            </a:r>
            <a:r>
              <a:rPr b="1" lang="ca-ES" sz="1600" spc="-1" strike="noStrike">
                <a:solidFill>
                  <a:srgbClr val="953735"/>
                </a:solidFill>
                <a:latin typeface="Courier New"/>
                <a:ea typeface="Courier New"/>
              </a:rPr>
              <a:t>.$kSeleccion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76092"/>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700 12 $aVirgili Maró, Publi,$d70 aC-19 aC.$tAeneis</a:t>
            </a:r>
            <a:r>
              <a:rPr b="1" lang="ca-ES" sz="1600" spc="-1" strike="noStrike">
                <a:solidFill>
                  <a:srgbClr val="953735"/>
                </a:solidFill>
                <a:latin typeface="Courier New"/>
                <a:ea typeface="Courier New"/>
              </a:rPr>
              <a:t>.$nLiber</a:t>
            </a:r>
            <a:r>
              <a:rPr b="1" lang="ca-ES" sz="1600" spc="-1" strike="noStrike">
                <a:solidFill>
                  <a:srgbClr val="376092"/>
                </a:solidFill>
                <a:latin typeface="Courier New"/>
                <a:ea typeface="Courier New"/>
              </a:rPr>
              <a:t> </a:t>
            </a:r>
            <a:r>
              <a:rPr b="1" lang="ca-ES" sz="1600" spc="-1" strike="noStrike">
                <a:solidFill>
                  <a:srgbClr val="953735"/>
                </a:solidFill>
                <a:latin typeface="Courier New"/>
                <a:ea typeface="Courier New"/>
              </a:rPr>
              <a:t>1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600" spc="-1" strike="noStrike">
                <a:solidFill>
                  <a:srgbClr val="376092"/>
                </a:solidFill>
                <a:latin typeface="Courier New"/>
                <a:ea typeface="Courier New"/>
              </a:rPr>
              <a:t> </a:t>
            </a:r>
            <a:endParaRPr b="0" lang="en-US" sz="1600" spc="-1" strike="noStrike">
              <a:solidFill>
                <a:srgbClr val="000000"/>
              </a:solidFill>
              <a:latin typeface="Calibri"/>
            </a:endParaRPr>
          </a:p>
        </p:txBody>
      </p:sp>
      <p:sp>
        <p:nvSpPr>
          <p:cNvPr id="1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AE56D-EE74-4DDF-A319-40368FE6177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s d'accés autoritzats per a una part o parts d'una obra (RDA 6.27.2)</a:t>
            </a:r>
            <a:endParaRPr b="0" lang="en-US" sz="3200" spc="-1" strike="noStrike">
              <a:solidFill>
                <a:srgbClr val="000000"/>
              </a:solidFill>
              <a:latin typeface="Calibri"/>
            </a:endParaRPr>
          </a:p>
        </p:txBody>
      </p:sp>
      <p:sp>
        <p:nvSpPr>
          <p:cNvPr id="179" name=""/>
          <p:cNvSpPr txBox="1"/>
          <p:nvPr/>
        </p:nvSpPr>
        <p:spPr>
          <a:xfrm>
            <a:off x="457200" y="1341360"/>
            <a:ext cx="8362800" cy="5112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En genera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pel punt d'accés autoritzat del creador, quan s'apliqui.</a:t>
            </a:r>
            <a:endParaRPr b="0" lang="en-US" sz="20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en-US" sz="1600" spc="-1" strike="noStrike">
                <a:solidFill>
                  <a:srgbClr val="376092"/>
                </a:solidFill>
                <a:latin typeface="Courier New"/>
                <a:ea typeface="Courier New"/>
              </a:rPr>
              <a:t>700 1# $</a:t>
            </a:r>
            <a:r>
              <a:rPr b="1" lang="en-US" sz="1600" spc="-1" strike="noStrike" u="sng">
                <a:solidFill>
                  <a:srgbClr val="376092"/>
                </a:solidFill>
                <a:uFillTx/>
                <a:latin typeface="Courier New"/>
                <a:ea typeface="Courier New"/>
              </a:rPr>
              <a:t>aTolkien, J. R. R.$q(John Ronald Reuel),$d1892-1973</a:t>
            </a:r>
            <a:r>
              <a:rPr b="1" lang="en-US" sz="1600" spc="-1" strike="noStrike">
                <a:solidFill>
                  <a:srgbClr val="376092"/>
                </a:solidFill>
                <a:latin typeface="Courier New"/>
                <a:ea typeface="Courier New"/>
              </a:rPr>
              <a:t>.$</a:t>
            </a:r>
            <a:r>
              <a:rPr b="1" lang="en-US" sz="1600" spc="-1" strike="noStrike">
                <a:solidFill>
                  <a:srgbClr val="953735"/>
                </a:solidFill>
                <a:latin typeface="Courier New"/>
                <a:ea typeface="Courier New"/>
              </a:rPr>
              <a:t>tTwo towers</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er a:</a:t>
            </a:r>
            <a:endParaRPr b="0" lang="en-US" sz="22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Títols no distintius </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arts numerades en forma consecutiva</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ublicacions en sèrie i recursos integrants</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Programes de televisió / ràdio</a:t>
            </a:r>
            <a:endParaRPr b="0" lang="en-US" sz="18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Títol preferit de la part o par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Precedit del punt d'accés autoritzat per a la obra.</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urier New"/>
                <a:ea typeface="Courier New"/>
              </a:rPr>
              <a:t>Ex.: </a:t>
            </a:r>
            <a:r>
              <a:rPr b="1" lang="ca-ES" sz="1600" spc="-1" strike="noStrike">
                <a:solidFill>
                  <a:srgbClr val="376092"/>
                </a:solidFill>
                <a:latin typeface="Courier New"/>
                <a:ea typeface="Courier New"/>
              </a:rPr>
              <a:t>700 1# $</a:t>
            </a:r>
            <a:r>
              <a:rPr b="1" lang="ca-ES" sz="1600" spc="-1" strike="noStrike" u="sng">
                <a:solidFill>
                  <a:srgbClr val="376092"/>
                </a:solidFill>
                <a:uFillTx/>
                <a:latin typeface="Courier New"/>
                <a:ea typeface="Courier New"/>
              </a:rPr>
              <a:t>aVirgili Maró, Publi,$d70 aC-19 aC.$tAeneis.</a:t>
            </a:r>
            <a:r>
              <a:rPr b="1" lang="ca-ES" sz="1600" spc="-1" strike="noStrike">
                <a:solidFill>
                  <a:srgbClr val="953735"/>
                </a:solidFill>
                <a:latin typeface="Courier New"/>
                <a:ea typeface="Courier New"/>
              </a:rPr>
              <a:t>$nLiber 1</a:t>
            </a:r>
            <a:endParaRPr b="0" lang="en-US" sz="1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C6094-F229-4158-AF6C-AABAA798AAA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18900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ons vs. col·laboracions</a:t>
            </a:r>
            <a:endParaRPr b="0" lang="en-US" sz="3200" spc="-1" strike="noStrike">
              <a:solidFill>
                <a:srgbClr val="000000"/>
              </a:solidFill>
              <a:latin typeface="Calibri"/>
            </a:endParaRPr>
          </a:p>
        </p:txBody>
      </p:sp>
      <p:sp>
        <p:nvSpPr>
          <p:cNvPr id="182" name=""/>
          <p:cNvSpPr txBox="1"/>
          <p:nvPr/>
        </p:nvSpPr>
        <p:spPr>
          <a:xfrm>
            <a:off x="457200" y="1125000"/>
            <a:ext cx="8362800" cy="525636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Hi ha dues categories de </a:t>
            </a:r>
            <a:r>
              <a:rPr b="1" lang="ca-ES" sz="2400" spc="-1" strike="noStrike">
                <a:solidFill>
                  <a:srgbClr val="000000"/>
                </a:solidFill>
                <a:latin typeface="Calibri"/>
              </a:rPr>
              <a:t>compilacion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dentifica pel seu </a:t>
            </a:r>
            <a:r>
              <a:rPr b="1" lang="ca-ES" sz="2400" spc="-1" strike="noStrike">
                <a:solidFill>
                  <a:srgbClr val="376092"/>
                </a:solidFill>
                <a:latin typeface="Calibri"/>
              </a:rPr>
              <a:t>creador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a:t>
            </a:r>
            <a:r>
              <a:rPr b="0" lang="ca-ES" sz="2400" spc="-1" strike="noStrike" u="sng">
                <a:solidFill>
                  <a:srgbClr val="000000"/>
                </a:solidFill>
                <a:uFillTx/>
                <a:latin typeface="Calibri"/>
              </a:rPr>
              <a:t>títol preferit:</a:t>
            </a:r>
            <a:endParaRPr b="0" lang="en-US" sz="24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negut, o</a:t>
            </a:r>
            <a:endParaRPr b="0" lang="en-US" sz="2000" spc="-1" strike="noStrike">
              <a:solidFill>
                <a:srgbClr val="000000"/>
              </a:solidFill>
              <a:latin typeface="Calibri"/>
            </a:endParaRPr>
          </a:p>
          <a:p>
            <a:pPr lvl="3" marL="155196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ot ser un títol col·lectiu convencional.</a:t>
            </a:r>
            <a:endParaRPr b="0" lang="en-US" sz="2000" spc="-1" strike="noStrike">
              <a:solidFill>
                <a:srgbClr val="000000"/>
              </a:solidFill>
              <a:latin typeface="Calibri"/>
            </a:endParaRPr>
          </a:p>
          <a:p>
            <a:pPr lvl="2" marL="1108440" indent="-221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Obres </a:t>
            </a:r>
            <a:endParaRPr b="0" lang="en-US" sz="2000" spc="-1" strike="noStrike">
              <a:solidFill>
                <a:srgbClr val="000000"/>
              </a:solidFill>
              <a:latin typeface="Calibri"/>
            </a:endParaRPr>
          </a:p>
          <a:p>
            <a:pPr lvl="3" marL="1551960" indent="-221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240 10 $aPoesia.$kSeleccions</a:t>
            </a:r>
            <a:endParaRPr b="0" lang="en-US" sz="20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ompilacions d'obres </a:t>
            </a:r>
            <a:r>
              <a:rPr b="1" lang="ca-ES" sz="2400" spc="-1" strike="noStrike" u="sng">
                <a:solidFill>
                  <a:srgbClr val="953735"/>
                </a:solidFill>
                <a:uFillTx/>
                <a:latin typeface="Calibri"/>
              </a:rPr>
              <a:t>de més d'un creador:</a:t>
            </a:r>
            <a:endParaRPr b="0" lang="en-US" sz="24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aquest cas cal determinar si es tracta:</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l·labor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creador principal o primer anomenat + títol preferit. </a:t>
            </a:r>
            <a:endParaRPr b="0" lang="en-US" sz="2400" spc="-1" strike="noStrike">
              <a:solidFill>
                <a:srgbClr val="000000"/>
              </a:solidFill>
              <a:latin typeface="Calibri"/>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mpilació</a:t>
            </a:r>
            <a:r>
              <a:rPr b="0" lang="ca-ES" sz="2400" spc="-1" strike="noStrike">
                <a:solidFill>
                  <a:srgbClr val="000000"/>
                </a:solidFill>
                <a:latin typeface="Calibri"/>
              </a:rPr>
              <a:t>: s'ha d'identificar l'obra pel seu </a:t>
            </a:r>
            <a:r>
              <a:rPr b="1" lang="ca-ES" sz="2400" spc="-1" strike="noStrike">
                <a:solidFill>
                  <a:srgbClr val="376092"/>
                </a:solidFill>
                <a:latin typeface="Calibri"/>
              </a:rPr>
              <a:t>títol preferit.</a:t>
            </a:r>
            <a:endParaRPr b="0" lang="en-US" sz="2400" spc="-1" strike="noStrike">
              <a:solidFill>
                <a:srgbClr val="000000"/>
              </a:solidFill>
              <a:latin typeface="Calibri"/>
            </a:endParaRPr>
          </a:p>
        </p:txBody>
      </p:sp>
      <p:sp>
        <p:nvSpPr>
          <p:cNvPr id="1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BA51-FE79-4BB3-87AB-9303CE332E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a:solidFill>
                  <a:srgbClr val="953735"/>
                </a:solidFill>
                <a:latin typeface="Calibri"/>
              </a:rPr>
              <a:t>d'un sol creador</a:t>
            </a:r>
            <a:br>
              <a:rPr sz="3200"/>
            </a:br>
            <a:r>
              <a:rPr b="1" lang="ca-ES" sz="3200" spc="-1" strike="noStrike">
                <a:solidFill>
                  <a:srgbClr val="000000"/>
                </a:solidFill>
                <a:latin typeface="Calibri"/>
              </a:rPr>
              <a:t>(RDA 6.2.2.10, RDA 6.27.1.2)</a:t>
            </a:r>
            <a:endParaRPr b="0" lang="en-US" sz="3200" spc="-1" strike="noStrike">
              <a:solidFill>
                <a:srgbClr val="000000"/>
              </a:solidFill>
              <a:latin typeface="Calibri"/>
            </a:endParaRPr>
          </a:p>
        </p:txBody>
      </p:sp>
      <p:sp>
        <p:nvSpPr>
          <p:cNvPr id="185" name=""/>
          <p:cNvSpPr txBox="1"/>
          <p:nvPr/>
        </p:nvSpPr>
        <p:spPr>
          <a:xfrm>
            <a:off x="457200" y="1600200"/>
            <a:ext cx="8229600" cy="1828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Ha de ser tractada com una compilació</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	</a:t>
            </a:r>
            <a:r>
              <a:rPr b="0" i="1" lang="ca-ES" sz="3200" spc="-1" strike="noStrike">
                <a:solidFill>
                  <a:srgbClr val="000000"/>
                </a:solidFill>
                <a:latin typeface="Calibri"/>
              </a:rPr>
              <a:t>(p. ex., no hi ha col·laborad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dentifica per:</a:t>
            </a:r>
            <a:endParaRPr b="0" lang="en-US" sz="3200" spc="-1" strike="noStrike">
              <a:solidFill>
                <a:srgbClr val="000000"/>
              </a:solidFill>
              <a:latin typeface="Calibri"/>
            </a:endParaRPr>
          </a:p>
        </p:txBody>
      </p:sp>
      <p:sp>
        <p:nvSpPr>
          <p:cNvPr id="1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9080C-50EC-494E-8AC0-1E47277117F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7" name="4 Rectángulo"/>
          <p:cNvSpPr/>
          <p:nvPr/>
        </p:nvSpPr>
        <p:spPr>
          <a:xfrm>
            <a:off x="3132000" y="3500280"/>
            <a:ext cx="288000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creador</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a:t>
            </a:r>
            <a:endParaRPr b="0" lang="en-US" sz="32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Arial"/>
              </a:rPr>
              <a:t>títol pref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9528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a:t>
            </a:r>
            <a:br>
              <a:rPr sz="3200"/>
            </a:br>
            <a:r>
              <a:rPr b="1" lang="ca-ES" sz="3200" spc="-1" strike="noStrike">
                <a:solidFill>
                  <a:srgbClr val="000000"/>
                </a:solidFill>
                <a:latin typeface="Calibri"/>
              </a:rPr>
              <a:t>d'un creador (RDA 6.2.2.10)</a:t>
            </a:r>
            <a:endParaRPr b="0" lang="en-US" sz="3200" spc="-1" strike="noStrike">
              <a:solidFill>
                <a:srgbClr val="000000"/>
              </a:solidFill>
              <a:latin typeface="Calibri"/>
            </a:endParaRPr>
          </a:p>
        </p:txBody>
      </p:sp>
      <p:sp>
        <p:nvSpPr>
          <p:cNvPr id="189" name=""/>
          <p:cNvSpPr txBox="1"/>
          <p:nvPr/>
        </p:nvSpPr>
        <p:spPr>
          <a:xfrm>
            <a:off x="179280" y="1052280"/>
            <a:ext cx="8748720" cy="6048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s coneix la compilació per un tít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rmalment no, però</a:t>
            </a:r>
            <a:r>
              <a:rPr b="0" lang="es-ES" sz="2200" spc="-1" strike="noStrike">
                <a:solidFill>
                  <a:srgbClr val="000000"/>
                </a:solidFill>
                <a:latin typeface="Calibri"/>
              </a:rPr>
              <a:t> "</a:t>
            </a:r>
            <a:r>
              <a:rPr b="0" i="1" lang="es-ES" sz="2200" spc="-1" strike="noStrike">
                <a:solidFill>
                  <a:srgbClr val="000000"/>
                </a:solidFill>
                <a:latin typeface="Calibri"/>
              </a:rPr>
              <a:t>Veinte poemas de amor y una canción desesperada" </a:t>
            </a:r>
            <a:r>
              <a:rPr b="0" lang="ca-ES" sz="2200" spc="-1" strike="noStrike">
                <a:solidFill>
                  <a:srgbClr val="000000"/>
                </a:solidFill>
                <a:latin typeface="Calibri"/>
              </a:rPr>
              <a:t>és un exemple d'una compilació coneguda per un títol. En aquest cas es triaria com a títol preferit el títol conegut de la compilació.</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Si no es coneix la compilació per cap títol, utilitzeu un títol col·lectiu convencional </a:t>
            </a:r>
            <a:r>
              <a:rPr b="0" lang="ca-ES" sz="2500" spc="-1" strike="noStrike">
                <a:solidFill>
                  <a:srgbClr val="000000"/>
                </a:solidFill>
                <a:latin typeface="Calibri"/>
              </a:rPr>
              <a:t>(no importa si el títol propi és diferen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 "</a:t>
            </a:r>
            <a:r>
              <a:rPr b="1" lang="ca-ES" sz="2200" spc="-1" strike="noStrike">
                <a:solidFill>
                  <a:srgbClr val="376092"/>
                </a:solidFill>
                <a:latin typeface="Calibri"/>
              </a:rPr>
              <a:t>Obres</a:t>
            </a:r>
            <a:r>
              <a:rPr b="0" lang="ca-E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Obres completes en una sola forma = utilitzeu el terme apropiat (de 6.2.2.10.2): "</a:t>
            </a:r>
            <a:r>
              <a:rPr b="1" lang="ca-ES" sz="2200" spc="-1" strike="noStrike">
                <a:solidFill>
                  <a:srgbClr val="376092"/>
                </a:solidFill>
                <a:latin typeface="Calibri"/>
              </a:rPr>
              <a:t>Novel·les</a:t>
            </a:r>
            <a:r>
              <a:rPr b="0" lang="ca-ES" sz="2200" spc="-1" strike="noStrike">
                <a:solidFill>
                  <a:srgbClr val="000000"/>
                </a:solidFill>
                <a:latin typeface="Calibri"/>
              </a:rPr>
              <a:t>", "</a:t>
            </a:r>
            <a:r>
              <a:rPr b="1" lang="ca-ES" sz="2200" spc="-1" strike="noStrike">
                <a:solidFill>
                  <a:srgbClr val="376092"/>
                </a:solidFill>
                <a:latin typeface="Calibri"/>
              </a:rPr>
              <a:t>Poesia</a:t>
            </a:r>
            <a:r>
              <a:rPr b="0" lang="ca-ES" sz="2200" spc="-1" strike="noStrike">
                <a:solidFill>
                  <a:srgbClr val="000000"/>
                </a:solidFill>
                <a:latin typeface="Calibri"/>
              </a:rPr>
              <a:t>", "</a:t>
            </a:r>
            <a:r>
              <a:rPr b="1" lang="ca-ES" sz="2200" spc="-1" strike="noStrike">
                <a:solidFill>
                  <a:srgbClr val="376092"/>
                </a:solidFill>
                <a:latin typeface="Calibri"/>
              </a:rPr>
              <a:t>Teatre</a:t>
            </a:r>
            <a:r>
              <a:rPr b="0" lang="ca-ES" sz="2200" spc="-1" strike="noStrike">
                <a:solidFill>
                  <a:srgbClr val="000000"/>
                </a:solidFill>
                <a:latin typeface="Calibri"/>
              </a:rPr>
              <a:t>", etc.</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ltres compilacions de dues o més obres (però no totes) de la mateixa forma o de formes diferents: S'aplica la </a:t>
            </a:r>
            <a:r>
              <a:rPr b="1" i="1" lang="ca-ES" sz="2200" spc="-1" strike="noStrike">
                <a:solidFill>
                  <a:srgbClr val="000000"/>
                </a:solidFill>
                <a:latin typeface="Calibri"/>
              </a:rPr>
              <a:t>Concreció 6.2.2.10.3 Alternativa. </a:t>
            </a:r>
            <a:r>
              <a:rPr b="0" lang="ca-ES" sz="2200" spc="-1" strike="noStrike">
                <a:solidFill>
                  <a:srgbClr val="000000"/>
                </a:solidFill>
                <a:latin typeface="Calibri"/>
              </a:rPr>
              <a:t>Afegiu "</a:t>
            </a:r>
            <a:r>
              <a:rPr b="1" lang="ca-ES" sz="2200" spc="-1" strike="noStrike">
                <a:solidFill>
                  <a:srgbClr val="376092"/>
                </a:solidFill>
                <a:latin typeface="Calibri"/>
              </a:rPr>
              <a:t>Seleccions</a:t>
            </a:r>
            <a:r>
              <a:rPr b="0" lang="ca-ES" sz="2200" spc="-1" strike="noStrike">
                <a:solidFill>
                  <a:srgbClr val="000000"/>
                </a:solidFill>
                <a:latin typeface="Calibri"/>
              </a:rPr>
              <a:t>" al títol col·lectiu convencional.</a:t>
            </a:r>
            <a:endParaRPr b="0" lang="en-US" sz="2200" spc="-1" strike="noStrike">
              <a:solidFill>
                <a:srgbClr val="000000"/>
              </a:solidFill>
              <a:latin typeface="Calibri"/>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200" spc="-1" strike="noStrike">
                <a:solidFill>
                  <a:srgbClr val="000000"/>
                </a:solidFill>
                <a:latin typeface="Calibri"/>
              </a:rPr>
              <a:t>la </a:t>
            </a:r>
            <a:r>
              <a:rPr b="1" i="1" lang="ca-ES" sz="1800" spc="-1" strike="noStrike">
                <a:solidFill>
                  <a:srgbClr val="000000"/>
                </a:solidFill>
                <a:latin typeface="Calibri"/>
              </a:rPr>
              <a:t>Concreció 25.1: </a:t>
            </a:r>
            <a:r>
              <a:rPr b="0" lang="ca-ES" sz="1800" spc="-1" strike="noStrike">
                <a:solidFill>
                  <a:srgbClr val="000000"/>
                </a:solidFill>
                <a:latin typeface="Calibri"/>
              </a:rPr>
              <a:t>ens indica donar el contingut en un camp 505, si és factible. Es proporciona un punt d’accés autoritzat analític per a l'obra predominant o la primera si representa una part important del recurs. (S’ignoren contribucions com el prefaci o la introducció). Aquesta concreció no s'aplica en el cas d'antologies de poesia, himnaris, actes de congressos, revistes, col·leccions d'entrevistes o cartes, capítols de monografies en diverses parts catalogades com un conjunt i recursos similar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CE1DD-7585-4CA8-AF0B-826FD7CF35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a:t>
            </a:r>
            <a:br>
              <a:rPr sz="3200"/>
            </a:br>
            <a:r>
              <a:rPr b="1" lang="ca-ES" sz="3200" spc="-1" strike="noStrike">
                <a:solidFill>
                  <a:srgbClr val="000000"/>
                </a:solidFill>
                <a:latin typeface="Calibri"/>
              </a:rPr>
              <a:t>Compilació de 2 obres del mateix creador</a:t>
            </a:r>
            <a:endParaRPr b="0" lang="en-US" sz="3200" spc="-1" strike="noStrike">
              <a:solidFill>
                <a:srgbClr val="000000"/>
              </a:solidFill>
              <a:latin typeface="Calibri"/>
            </a:endParaRPr>
          </a:p>
        </p:txBody>
      </p:sp>
      <p:sp>
        <p:nvSpPr>
          <p:cNvPr id="192" name=""/>
          <p:cNvSpPr txBox="1"/>
          <p:nvPr/>
        </p:nvSpPr>
        <p:spPr>
          <a:xfrm>
            <a:off x="468360" y="1483920"/>
            <a:ext cx="8229600" cy="2089080"/>
          </a:xfrm>
          <a:prstGeom prst="rect">
            <a:avLst/>
          </a:prstGeom>
          <a:noFill/>
          <a:ln w="9360">
            <a:solidFill>
              <a:srgbClr val="000000"/>
            </a:solidFill>
            <a:miter/>
          </a:ln>
        </p:spPr>
        <p:txBody>
          <a:bodyPr anchor="t">
            <a:normAutofit fontScale="99000"/>
          </a:bodyPr>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AACR2:</a:t>
            </a:r>
            <a:r>
              <a:rPr b="1" i="1" lang="ca-ES" sz="1700" spc="-1" strike="noStrike">
                <a:solidFill>
                  <a:srgbClr val="000000"/>
                </a:solidFill>
                <a:latin typeface="Calibri"/>
              </a:rPr>
              <a:t> s'utilitza la 1a obra com a títol preferit de la compilació (però això identifica erròniament la compilació)</a:t>
            </a:r>
            <a:endParaRPr b="0" lang="en-US" sz="17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00 1# $aMiller, Arthur,$d1915-2005</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0 10 $aArchbishop's ceiling</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245 10 $aTwo plays /$cArthur Miller</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505 0# $aThe Archbishop's ceiling -- The American clock</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700 12 $aMiller, Arthur,$d1915-2005.$tAmerican clock</a:t>
            </a:r>
            <a:endParaRPr b="0" lang="en-US" sz="1700" spc="-1" strike="noStrike">
              <a:solidFill>
                <a:srgbClr val="000000"/>
              </a:solidFill>
              <a:latin typeface="Calibri"/>
            </a:endParaRPr>
          </a:p>
        </p:txBody>
      </p:sp>
      <p:sp>
        <p:nvSpPr>
          <p:cNvPr id="19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6844-CCA9-4F99-94F9-2003897B42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2 Marcador de contenido"/>
          <p:cNvSpPr/>
          <p:nvPr/>
        </p:nvSpPr>
        <p:spPr>
          <a:xfrm>
            <a:off x="539640" y="3860640"/>
            <a:ext cx="8209080" cy="2376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u="sng">
                <a:solidFill>
                  <a:srgbClr val="000000"/>
                </a:solidFill>
                <a:uFillTx/>
                <a:latin typeface="Calibri"/>
              </a:rPr>
              <a:t>RDA</a:t>
            </a:r>
            <a:r>
              <a:rPr b="1" i="1" lang="ca-ES" sz="1700" spc="-1" strike="noStrike">
                <a:solidFill>
                  <a:srgbClr val="000000"/>
                </a:solidFill>
                <a:latin typeface="Calibri"/>
              </a:rPr>
              <a:t>: S'aplica l'alternativa d'usar un títol col·lectiu convencional</a:t>
            </a:r>
            <a:endParaRPr b="0" lang="en-US" sz="17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100 1# $aMiller, Arthur,$d1915-2005</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240 10 $aTeatre.$kSeleccions</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245 10 $aTwo plays /$cArthur Miller</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505 0# $aThe Archbishop's ceiling –- The 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953735"/>
                </a:solidFill>
                <a:latin typeface="Courier New"/>
                <a:ea typeface="Courier New"/>
              </a:rPr>
              <a:t>700 12 $aMiller,Arthur,$d1915-2005.$tArchbishop's ceiling</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Courier New"/>
              </a:rPr>
              <a:t>*700 12 $aMiller, Arthur,$d1915-2005.$tAmerican clock</a:t>
            </a: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500" spc="-1" strike="noStrike">
                <a:solidFill>
                  <a:srgbClr val="000000"/>
                </a:solidFill>
                <a:latin typeface="Calibri"/>
              </a:rPr>
              <a:t>*El 2n camp 700 no és un requeriment bàsic però és útil per a l'usuari</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0"/>
            <a:ext cx="82296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Organització del capítol 6</a:t>
            </a:r>
            <a:endParaRPr b="0" lang="en-US" sz="2400" spc="-1" strike="noStrike">
              <a:solidFill>
                <a:srgbClr val="000000"/>
              </a:solidFill>
              <a:latin typeface="Calibri"/>
            </a:endParaRPr>
          </a:p>
        </p:txBody>
      </p:sp>
      <p:sp>
        <p:nvSpPr>
          <p:cNvPr id="59" name=""/>
          <p:cNvSpPr txBox="1"/>
          <p:nvPr/>
        </p:nvSpPr>
        <p:spPr>
          <a:xfrm>
            <a:off x="0" y="475920"/>
            <a:ext cx="4248000" cy="616572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0: Propòsit i abas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 Directrius generals sobre la identificació de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 </a:t>
            </a:r>
            <a:r>
              <a:rPr b="1" lang="ca-ES" sz="1600" spc="-1" strike="noStrike">
                <a:solidFill>
                  <a:srgbClr val="000000"/>
                </a:solidFill>
                <a:latin typeface="Calibri"/>
              </a:rPr>
              <a:t>Títol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 Form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4: Dat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5: Lloc d’origen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6: Altra característica distintiv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7: Història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8: Identificador de l’obr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9: Tipus de contingu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0: Dat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1: Llengu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2: Altra característica distintiva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3: Identificador de l’express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4: </a:t>
            </a:r>
            <a:r>
              <a:rPr b="1" lang="ca-ES" sz="1600" spc="-1" strike="noStrike">
                <a:solidFill>
                  <a:srgbClr val="000000"/>
                </a:solidFill>
                <a:latin typeface="Calibri"/>
              </a:rPr>
              <a:t>Títol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5: Repartiment de l’execució</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6: Designació numèrica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7: Tonali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8: Altra característica distintiva de l’expressió d’una obra music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0" name=""/>
          <p:cNvSpPr txBox="1"/>
          <p:nvPr/>
        </p:nvSpPr>
        <p:spPr>
          <a:xfrm>
            <a:off x="4572000" y="593280"/>
            <a:ext cx="4572000" cy="6048360"/>
          </a:xfrm>
          <a:prstGeom prst="rect">
            <a:avLst/>
          </a:prstGeom>
          <a:noFill/>
          <a:ln w="38160">
            <a:solidFill>
              <a:srgbClr val="4f81bd"/>
            </a:solidFill>
            <a:miter/>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19: </a:t>
            </a:r>
            <a:r>
              <a:rPr b="1" lang="ca-ES" sz="1600" spc="-1" strike="noStrike">
                <a:solidFill>
                  <a:srgbClr val="000000"/>
                </a:solidFill>
                <a:latin typeface="Calibri"/>
              </a:rPr>
              <a:t>Títol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0: Dat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1: Altra característica distintiva d’una obra jurídi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2: Participant en un tracta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3: </a:t>
            </a:r>
            <a:r>
              <a:rPr b="1" lang="ca-ES" sz="1600" spc="-1" strike="noStrike">
                <a:solidFill>
                  <a:srgbClr val="000000"/>
                </a:solidFill>
                <a:latin typeface="Calibri"/>
              </a:rPr>
              <a:t>Títol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4: Data d’una 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5: Altra característica distintiva de l’expressió d’una obra religios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6: </a:t>
            </a:r>
            <a:r>
              <a:rPr b="1" lang="ca-ES" sz="1600" spc="-1" strike="noStrike">
                <a:solidFill>
                  <a:srgbClr val="000000"/>
                </a:solidFill>
                <a:latin typeface="Calibri"/>
              </a:rPr>
              <a:t>Títol d’una comunicació oficial</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7: </a:t>
            </a:r>
            <a:r>
              <a:rPr b="1" lang="ca-ES" sz="1600" spc="-1" strike="noStrike">
                <a:solidFill>
                  <a:srgbClr val="000000"/>
                </a:solidFill>
                <a:latin typeface="Calibri"/>
              </a:rPr>
              <a:t>Elaboració dels punts d’accés que representen les obres i les expressio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8: Elaboració dels punts d’accés que representen les obres i les expressions </a:t>
            </a:r>
            <a:r>
              <a:rPr b="1" lang="ca-ES" sz="1600" spc="-1" strike="noStrike">
                <a:solidFill>
                  <a:srgbClr val="000000"/>
                </a:solidFill>
                <a:latin typeface="Calibri"/>
              </a:rPr>
              <a:t>musical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29: Elaboració dels punts d’accés que representen les obres i les expressions</a:t>
            </a:r>
            <a:r>
              <a:rPr b="1" lang="ca-ES" sz="1600" spc="-1" strike="noStrike">
                <a:solidFill>
                  <a:srgbClr val="000000"/>
                </a:solidFill>
                <a:latin typeface="Calibri"/>
              </a:rPr>
              <a:t> jurídiqu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0: Elaboració dels punts d’accés que representen les obres i les expressions</a:t>
            </a:r>
            <a:r>
              <a:rPr b="1" lang="ca-ES" sz="1600" spc="-1" strike="noStrike">
                <a:solidFill>
                  <a:srgbClr val="000000"/>
                </a:solidFill>
                <a:latin typeface="Calibri"/>
              </a:rPr>
              <a:t> religiose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6.31: Elaboració dels punts d’accés que representen les </a:t>
            </a:r>
            <a:r>
              <a:rPr b="1" lang="ca-ES" sz="1600" spc="-1" strike="noStrike">
                <a:solidFill>
                  <a:srgbClr val="000000"/>
                </a:solidFill>
                <a:latin typeface="Calibri"/>
              </a:rPr>
              <a:t>comunicacions oficials</a:t>
            </a:r>
            <a:endParaRPr b="0" lang="en-US" sz="1600" spc="-1" strike="noStrike">
              <a:solidFill>
                <a:srgbClr val="000000"/>
              </a:solidFill>
              <a:latin typeface="Calibri"/>
            </a:endParaRPr>
          </a:p>
        </p:txBody>
      </p:sp>
      <p:sp>
        <p:nvSpPr>
          <p:cNvPr id="61" name="6 Conector recto"/>
          <p:cNvSpPr/>
          <p:nvPr/>
        </p:nvSpPr>
        <p:spPr>
          <a:xfrm>
            <a:off x="0" y="1341360"/>
            <a:ext cx="417672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7 Conector recto"/>
          <p:cNvSpPr/>
          <p:nvPr/>
        </p:nvSpPr>
        <p:spPr>
          <a:xfrm>
            <a:off x="0" y="4869000"/>
            <a:ext cx="4211640" cy="0"/>
          </a:xfrm>
          <a:prstGeom prst="line">
            <a:avLst/>
          </a:prstGeom>
          <a:ln w="38160">
            <a:solidFill>
              <a:srgbClr val="37609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9 Conector recto"/>
          <p:cNvSpPr/>
          <p:nvPr/>
        </p:nvSpPr>
        <p:spPr>
          <a:xfrm>
            <a:off x="4572000" y="177336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10 Conector recto"/>
          <p:cNvSpPr/>
          <p:nvPr/>
        </p:nvSpPr>
        <p:spPr>
          <a:xfrm>
            <a:off x="4572000" y="285264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11 Conector recto"/>
          <p:cNvSpPr/>
          <p:nvPr/>
        </p:nvSpPr>
        <p:spPr>
          <a:xfrm>
            <a:off x="4572000" y="3213000"/>
            <a:ext cx="4572000" cy="0"/>
          </a:xfrm>
          <a:prstGeom prst="line">
            <a:avLst/>
          </a:prstGeom>
          <a:ln w="381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6" name="13 Conector recto de flecha"/>
          <p:cNvCxnSpPr/>
          <p:nvPr/>
        </p:nvCxnSpPr>
        <p:spPr>
          <a:xfrm flipH="1">
            <a:off x="1834920" y="1483920"/>
            <a:ext cx="1800720" cy="1080"/>
          </a:xfrm>
          <a:prstGeom prst="straightConnector1">
            <a:avLst/>
          </a:prstGeom>
          <a:ln w="28440">
            <a:solidFill>
              <a:srgbClr val="953735"/>
            </a:solidFill>
            <a:miter/>
            <a:tailEnd len="med" type="arrow" w="med"/>
          </a:ln>
        </p:spPr>
      </p:cxnSp>
      <p:sp>
        <p:nvSpPr>
          <p:cNvPr id="67" name="14 Cerrar llave"/>
          <p:cNvSpPr/>
          <p:nvPr/>
        </p:nvSpPr>
        <p:spPr>
          <a:xfrm>
            <a:off x="3419640" y="155736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15 Cerrar llave"/>
          <p:cNvSpPr/>
          <p:nvPr/>
        </p:nvSpPr>
        <p:spPr>
          <a:xfrm>
            <a:off x="3419640" y="3213000"/>
            <a:ext cx="431640" cy="1584360"/>
          </a:xfrm>
          <a:custGeom>
            <a:avLst/>
            <a:gdLst>
              <a:gd name="textAreaLeft" fmla="*/ 0 w 431640"/>
              <a:gd name="textAreaRight" fmla="*/ 155880 w 431640"/>
              <a:gd name="textAreaTop" fmla="*/ 11160 h 1584360"/>
              <a:gd name="textAreaBottom" fmla="*/ 1573200 h 1584360"/>
            </a:gdLst>
            <a:ahLst/>
            <a:rect l="textAreaLeft" t="textAreaTop" r="textAreaRight" b="textAreaBottom"/>
            <a:pathLst>
              <a:path w="21600" h="21600">
                <a:moveTo>
                  <a:pt x="0" y="0"/>
                </a:moveTo>
                <a:cubicBezTo>
                  <a:pt x="5400" y="0"/>
                  <a:pt x="10800" y="246"/>
                  <a:pt x="10800" y="491"/>
                </a:cubicBezTo>
                <a:lnTo>
                  <a:pt x="10800" y="10309"/>
                </a:lnTo>
                <a:cubicBezTo>
                  <a:pt x="10800" y="10555"/>
                  <a:pt x="16200" y="10800"/>
                  <a:pt x="21600" y="10800"/>
                </a:cubicBezTo>
                <a:cubicBezTo>
                  <a:pt x="16200" y="10800"/>
                  <a:pt x="10800" y="11046"/>
                  <a:pt x="10800" y="11291"/>
                </a:cubicBezTo>
                <a:lnTo>
                  <a:pt x="10800" y="21109"/>
                </a:lnTo>
                <a:cubicBezTo>
                  <a:pt x="10800" y="21355"/>
                  <a:pt x="5400" y="21600"/>
                  <a:pt x="0" y="21600"/>
                </a:cubicBezTo>
              </a:path>
            </a:pathLst>
          </a:custGeom>
          <a:noFill/>
          <a:ln w="2844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16 Elipse"/>
          <p:cNvSpPr/>
          <p:nvPr/>
        </p:nvSpPr>
        <p:spPr>
          <a:xfrm>
            <a:off x="4572000" y="3213000"/>
            <a:ext cx="3887640" cy="2808360"/>
          </a:xfrm>
          <a:prstGeom prst="ellipse">
            <a:avLst/>
          </a:prstGeom>
          <a:noFill/>
          <a:ln w="255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18 Conector recto"/>
          <p:cNvSpPr/>
          <p:nvPr/>
        </p:nvSpPr>
        <p:spPr>
          <a:xfrm>
            <a:off x="539640" y="5084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19 Conector recto"/>
          <p:cNvSpPr/>
          <p:nvPr/>
        </p:nvSpPr>
        <p:spPr>
          <a:xfrm>
            <a:off x="5076720" y="9079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20 Conector recto"/>
          <p:cNvSpPr/>
          <p:nvPr/>
        </p:nvSpPr>
        <p:spPr>
          <a:xfrm>
            <a:off x="5076720" y="206064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21 Conector recto"/>
          <p:cNvSpPr/>
          <p:nvPr/>
        </p:nvSpPr>
        <p:spPr>
          <a:xfrm>
            <a:off x="5292720" y="3141720"/>
            <a:ext cx="2087640" cy="0"/>
          </a:xfrm>
          <a:prstGeom prst="line">
            <a:avLst/>
          </a:prstGeom>
          <a:ln w="936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1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A889F-E5EC-4A24-A2B4-956326CD4B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67"/>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7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7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7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3"/>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br>
              <a:rPr sz="3200"/>
            </a:br>
            <a:r>
              <a:rPr b="1" lang="ca-ES" sz="3200" spc="-1" strike="noStrike">
                <a:solidFill>
                  <a:srgbClr val="000000"/>
                </a:solidFill>
                <a:latin typeface="Calibri"/>
              </a:rPr>
              <a:t>Compilacions d'obres </a:t>
            </a:r>
            <a:r>
              <a:rPr b="1" lang="ca-ES" sz="3200" spc="-1" strike="noStrike" u="sng">
                <a:solidFill>
                  <a:srgbClr val="953735"/>
                </a:solidFill>
                <a:uFillTx/>
                <a:latin typeface="Calibri"/>
              </a:rPr>
              <a:t>de més d'un creador </a:t>
            </a:r>
            <a:r>
              <a:rPr b="1" lang="ca-ES" sz="3200" spc="-1" strike="noStrike">
                <a:solidFill>
                  <a:srgbClr val="000000"/>
                </a:solidFill>
                <a:latin typeface="Calibri"/>
              </a:rPr>
              <a:t>(RDA 6.2.2.11 )</a:t>
            </a:r>
            <a:br>
              <a:rPr sz="3200"/>
            </a:br>
            <a:endParaRPr b="0" lang="en-US" sz="3200" spc="-1" strike="noStrike">
              <a:solidFill>
                <a:srgbClr val="000000"/>
              </a:solidFill>
              <a:latin typeface="Calibri"/>
            </a:endParaRPr>
          </a:p>
        </p:txBody>
      </p:sp>
      <p:sp>
        <p:nvSpPr>
          <p:cNvPr id="196" name=""/>
          <p:cNvSpPr txBox="1"/>
          <p:nvPr/>
        </p:nvSpPr>
        <p:spPr>
          <a:xfrm>
            <a:off x="395280" y="1341360"/>
            <a:ext cx="8229600" cy="51451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Primer </a:t>
            </a:r>
            <a:r>
              <a:rPr b="1" lang="ca-ES" sz="3000" spc="-1" strike="noStrike" u="sng">
                <a:solidFill>
                  <a:srgbClr val="000000"/>
                </a:solidFill>
                <a:uFillTx/>
                <a:latin typeface="Calibri"/>
              </a:rPr>
              <a:t>s'ha de decidir si és una compilació o una col·laboració </a:t>
            </a:r>
            <a:r>
              <a:rPr b="1" lang="ca-ES" sz="3000" spc="-1" strike="noStrike">
                <a:solidFill>
                  <a:srgbClr val="000000"/>
                </a:solidFill>
                <a:latin typeface="Calibri"/>
              </a:rPr>
              <a:t>-- Com ho decidim?</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Claus per saber si </a:t>
            </a:r>
            <a:r>
              <a:rPr b="1" lang="ca-ES" sz="2600" spc="-1" strike="noStrike" u="sng">
                <a:solidFill>
                  <a:srgbClr val="953735"/>
                </a:solidFill>
                <a:uFillTx/>
                <a:latin typeface="Calibri"/>
              </a:rPr>
              <a:t>és una compilació</a:t>
            </a:r>
            <a:r>
              <a:rPr b="0" lang="ca-ES" sz="2600" spc="-1" strike="noStrike">
                <a:solidFill>
                  <a:srgbClr val="000000"/>
                </a:solidFill>
                <a:latin typeface="Calibri"/>
              </a:rPr>
              <a:t>:</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dicació de qui ha creat què.</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 partir de la font preferida, el sumari, el prefaci, les notes del programa, la pàgina inicial i altres components del recur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resència d'un compilador o d'un editor literari.</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fet que els creadors no visquin en el mateix període de temp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ssumim que </a:t>
            </a:r>
            <a:r>
              <a:rPr b="1" lang="ca-ES" sz="2600" spc="-1" strike="noStrike" u="sng">
                <a:solidFill>
                  <a:srgbClr val="953735"/>
                </a:solidFill>
                <a:uFillTx/>
                <a:latin typeface="Calibri"/>
              </a:rPr>
              <a:t>és una col·laboració s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hi ha cap indicació de qui ha creat què, o</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cas de dubte.</a:t>
            </a:r>
            <a:endParaRPr b="0" lang="en-US" sz="2200" spc="-1" strike="noStrike">
              <a:solidFill>
                <a:srgbClr val="000000"/>
              </a:solidFill>
              <a:latin typeface="Calibri"/>
            </a:endParaRPr>
          </a:p>
        </p:txBody>
      </p:sp>
      <p:sp>
        <p:nvSpPr>
          <p:cNvPr id="19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F55B8-37B0-4548-BC70-5623D35E16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d'obres </a:t>
            </a:r>
            <a:r>
              <a:rPr b="1" lang="ca-ES" sz="3200" spc="-1" strike="noStrike" u="sng">
                <a:solidFill>
                  <a:srgbClr val="953735"/>
                </a:solidFill>
                <a:uFillTx/>
                <a:latin typeface="Calibri"/>
              </a:rPr>
              <a:t>de més d'un creador</a:t>
            </a:r>
            <a:r>
              <a:rPr b="0" lang="ca-ES" sz="3200" spc="-1" strike="noStrike" u="sng">
                <a:solidFill>
                  <a:srgbClr val="953735"/>
                </a:solidFill>
                <a:uFillTx/>
                <a:latin typeface="Calibri"/>
              </a:rPr>
              <a:t> </a:t>
            </a:r>
            <a:br>
              <a:rPr sz="3200"/>
            </a:br>
            <a:endParaRPr b="0" lang="en-US" sz="3200" spc="-1" strike="noStrike">
              <a:solidFill>
                <a:srgbClr val="000000"/>
              </a:solidFill>
              <a:latin typeface="Calibri"/>
            </a:endParaRPr>
          </a:p>
        </p:txBody>
      </p:sp>
      <p:sp>
        <p:nvSpPr>
          <p:cNvPr id="199" name=""/>
          <p:cNvSpPr txBox="1"/>
          <p:nvPr/>
        </p:nvSpPr>
        <p:spPr>
          <a:xfrm>
            <a:off x="468360" y="1052640"/>
            <a:ext cx="8229600" cy="1008000"/>
          </a:xfrm>
          <a:prstGeom prst="rect">
            <a:avLst/>
          </a:prstGeom>
          <a:noFill/>
          <a:ln w="0">
            <a:noFill/>
          </a:ln>
        </p:spPr>
        <p:txBody>
          <a:bodyPr anchor="t">
            <a:normAutofit fontScale="55000"/>
          </a:bodyPr>
          <a:p>
            <a:pPr marL="18864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ilació </a:t>
            </a:r>
            <a:r>
              <a:rPr b="0" lang="ca-ES" sz="3200" spc="-1" strike="noStrike">
                <a:solidFill>
                  <a:srgbClr val="000000"/>
                </a:solidFill>
                <a:latin typeface="Calibri"/>
              </a:rPr>
              <a:t>(RDA 6.2.2.11, RDA 6.27.1.4)</a:t>
            </a:r>
            <a:r>
              <a:rPr b="1" lang="ca-ES" sz="3200" spc="-1" strike="noStrike">
                <a:solidFill>
                  <a:srgbClr val="000000"/>
                </a:solidFill>
                <a:latin typeface="Calibri"/>
              </a:rPr>
              <a:t> </a:t>
            </a:r>
            <a:r>
              <a:rPr b="0" i="1" lang="ca-ES" sz="3200" spc="-1" strike="noStrike">
                <a:solidFill>
                  <a:srgbClr val="000000"/>
                </a:solidFill>
                <a:latin typeface="Calibri"/>
              </a:rPr>
              <a:t>S'identifica pel:</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Però</a:t>
            </a:r>
            <a:endParaRPr b="0" lang="en-US" sz="3200" spc="-1" strike="noStrike">
              <a:solidFill>
                <a:srgbClr val="000000"/>
              </a:solidFill>
              <a:latin typeface="Calibri"/>
            </a:endParaRPr>
          </a:p>
          <a:p>
            <a:pPr marL="188640" indent="-188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2 Marcador de contenido"/>
          <p:cNvSpPr/>
          <p:nvPr/>
        </p:nvSpPr>
        <p:spPr>
          <a:xfrm>
            <a:off x="468360" y="3429000"/>
            <a:ext cx="8229600" cy="1008000"/>
          </a:xfrm>
          <a:prstGeom prst="rect">
            <a:avLst/>
          </a:prstGeom>
          <a:noFill/>
          <a:ln w="0">
            <a:noFill/>
          </a:ln>
        </p:spPr>
        <p:style>
          <a:lnRef idx="0"/>
          <a:fillRef idx="0"/>
          <a:effectRef idx="0"/>
          <a:fontRef idx="minor"/>
        </p:style>
        <p:txBody>
          <a:bodyPr lIns="90000" rIns="90000" tIns="46800" bIns="46800" anchor="t">
            <a:no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l·laboració</a:t>
            </a:r>
            <a:r>
              <a:rPr b="0" lang="ca-ES" sz="3200" spc="-1" strike="noStrike">
                <a:solidFill>
                  <a:srgbClr val="000000"/>
                </a:solidFill>
                <a:latin typeface="Calibri"/>
              </a:rPr>
              <a:t> (RDA 6.2.2.3, RDA 6.27.1.3) </a:t>
            </a:r>
            <a:endParaRPr b="0" lang="en-US" sz="32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S'identifica pel:</a:t>
            </a:r>
            <a:endParaRPr b="0" lang="en-US" sz="3200" spc="-1" strike="noStrike">
              <a:solidFill>
                <a:srgbClr val="000000"/>
              </a:solidFill>
              <a:latin typeface="Arial"/>
            </a:endParaRPr>
          </a:p>
          <a:p>
            <a:pPr marL="361800" indent="-361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4 CuadroTexto"/>
          <p:cNvSpPr/>
          <p:nvPr/>
        </p:nvSpPr>
        <p:spPr>
          <a:xfrm>
            <a:off x="1619280" y="234936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5 CuadroTexto"/>
          <p:cNvSpPr/>
          <p:nvPr/>
        </p:nvSpPr>
        <p:spPr>
          <a:xfrm>
            <a:off x="2411280" y="2205000"/>
            <a:ext cx="360072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6 CuadroTexto"/>
          <p:cNvSpPr/>
          <p:nvPr/>
        </p:nvSpPr>
        <p:spPr>
          <a:xfrm>
            <a:off x="2124000" y="4581360"/>
            <a:ext cx="5688000" cy="192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Creador </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rincipal o anomenat en primer lloc)</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	</a:t>
            </a:r>
            <a:r>
              <a:rPr b="1" lang="ca-ES" sz="3200" spc="-1" strike="noStrike">
                <a:solidFill>
                  <a:srgbClr val="376092"/>
                </a:solidFill>
                <a:latin typeface="Calibri"/>
              </a:rPr>
              <a:t>+</a:t>
            </a:r>
            <a:endParaRPr b="0" lang="en-US" sz="3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p:txBody>
      </p:sp>
      <p:sp>
        <p:nvSpPr>
          <p:cNvPr id="2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7C03C-417B-4943-ABAE-9331862D1D0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6" descr=""/>
          <p:cNvPicPr/>
          <p:nvPr/>
        </p:nvPicPr>
        <p:blipFill>
          <a:blip r:embed="rId1"/>
          <a:srcRect l="32186" t="21878" r="34575" b="11458"/>
          <a:stretch/>
        </p:blipFill>
        <p:spPr>
          <a:xfrm>
            <a:off x="0" y="0"/>
            <a:ext cx="3348000" cy="4321080"/>
          </a:xfrm>
          <a:prstGeom prst="rect">
            <a:avLst/>
          </a:prstGeom>
          <a:ln w="0">
            <a:noFill/>
          </a:ln>
        </p:spPr>
      </p:pic>
      <p:pic>
        <p:nvPicPr>
          <p:cNvPr id="206" name="Picture 4" descr="scan0002"/>
          <p:cNvPicPr/>
          <p:nvPr/>
        </p:nvPicPr>
        <p:blipFill>
          <a:blip r:embed="rId2"/>
          <a:srcRect l="0" t="6937" r="0" b="2758"/>
          <a:stretch/>
        </p:blipFill>
        <p:spPr>
          <a:xfrm>
            <a:off x="3348000" y="0"/>
            <a:ext cx="3645000" cy="4280040"/>
          </a:xfrm>
          <a:prstGeom prst="rect">
            <a:avLst/>
          </a:prstGeom>
          <a:ln w="9360">
            <a:solidFill>
              <a:srgbClr val="000000"/>
            </a:solidFill>
            <a:miter/>
          </a:ln>
        </p:spPr>
      </p:pic>
      <p:pic>
        <p:nvPicPr>
          <p:cNvPr id="207" name="Picture 4" descr="scan0003"/>
          <p:cNvPicPr/>
          <p:nvPr/>
        </p:nvPicPr>
        <p:blipFill>
          <a:blip r:embed="rId3"/>
          <a:srcRect l="3243" t="0" r="4292" b="0"/>
          <a:stretch/>
        </p:blipFill>
        <p:spPr>
          <a:xfrm>
            <a:off x="3924360" y="1844640"/>
            <a:ext cx="4927680" cy="4579920"/>
          </a:xfrm>
          <a:prstGeom prst="rect">
            <a:avLst/>
          </a:prstGeom>
          <a:ln w="9360">
            <a:solidFill>
              <a:srgbClr val="000000"/>
            </a:solidFill>
            <a:miter/>
          </a:ln>
        </p:spPr>
      </p:pic>
      <p:sp>
        <p:nvSpPr>
          <p:cNvPr id="208" name="6 CuadroTexto"/>
          <p:cNvSpPr/>
          <p:nvPr/>
        </p:nvSpPr>
        <p:spPr>
          <a:xfrm>
            <a:off x="6732720" y="981000"/>
            <a:ext cx="2087280" cy="947160"/>
          </a:xfrm>
          <a:prstGeom prst="rect">
            <a:avLst/>
          </a:prstGeom>
          <a:solidFill>
            <a:srgbClr val="ffffff"/>
          </a:solid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 una compilació</a:t>
            </a:r>
            <a:endParaRPr b="0" lang="en-US" sz="2800" spc="-1" strike="noStrike">
              <a:solidFill>
                <a:srgbClr val="000000"/>
              </a:solidFill>
              <a:latin typeface="Arial"/>
            </a:endParaRPr>
          </a:p>
        </p:txBody>
      </p:sp>
      <p:cxnSp>
        <p:nvCxnSpPr>
          <p:cNvPr id="209" name="8 Conector recto de flecha"/>
          <p:cNvCxnSpPr/>
          <p:nvPr/>
        </p:nvCxnSpPr>
        <p:spPr>
          <a:xfrm flipH="1">
            <a:off x="5651280" y="2852280"/>
            <a:ext cx="2953440" cy="1080"/>
          </a:xfrm>
          <a:prstGeom prst="straightConnector1">
            <a:avLst/>
          </a:prstGeom>
          <a:ln w="9360">
            <a:solidFill>
              <a:srgbClr val="4a7ebb"/>
            </a:solidFill>
            <a:miter/>
            <a:tailEnd len="med" type="triangle" w="med"/>
          </a:ln>
        </p:spPr>
      </p:cxnSp>
      <p:cxnSp>
        <p:nvCxnSpPr>
          <p:cNvPr id="210" name="10 Conector recto de flecha"/>
          <p:cNvCxnSpPr/>
          <p:nvPr/>
        </p:nvCxnSpPr>
        <p:spPr>
          <a:xfrm flipH="1">
            <a:off x="5651280" y="3428640"/>
            <a:ext cx="2953440" cy="1080"/>
          </a:xfrm>
          <a:prstGeom prst="straightConnector1">
            <a:avLst/>
          </a:prstGeom>
          <a:ln w="9360">
            <a:solidFill>
              <a:srgbClr val="4a7ebb"/>
            </a:solidFill>
            <a:miter/>
            <a:tailEnd len="med" type="triangle" w="med"/>
          </a:ln>
        </p:spPr>
      </p:cxnSp>
      <p:cxnSp>
        <p:nvCxnSpPr>
          <p:cNvPr id="211" name="11 Conector recto de flecha"/>
          <p:cNvCxnSpPr/>
          <p:nvPr/>
        </p:nvCxnSpPr>
        <p:spPr>
          <a:xfrm flipH="1">
            <a:off x="5651280" y="3141360"/>
            <a:ext cx="3024720" cy="1080"/>
          </a:xfrm>
          <a:prstGeom prst="straightConnector1">
            <a:avLst/>
          </a:prstGeom>
          <a:ln w="9360">
            <a:solidFill>
              <a:srgbClr val="4a7ebb"/>
            </a:solidFill>
            <a:miter/>
            <a:tailEnd len="med" type="triangle" w="med"/>
          </a:ln>
        </p:spPr>
      </p:cxnSp>
      <p:cxnSp>
        <p:nvCxnSpPr>
          <p:cNvPr id="212" name="12 Conector recto de flecha"/>
          <p:cNvCxnSpPr/>
          <p:nvPr/>
        </p:nvCxnSpPr>
        <p:spPr>
          <a:xfrm flipH="1">
            <a:off x="5940000" y="3715920"/>
            <a:ext cx="2664720" cy="1080"/>
          </a:xfrm>
          <a:prstGeom prst="straightConnector1">
            <a:avLst/>
          </a:prstGeom>
          <a:ln w="9360">
            <a:solidFill>
              <a:srgbClr val="4a7ebb"/>
            </a:solidFill>
            <a:miter/>
            <a:tailEnd len="med" type="triangle" w="med"/>
          </a:ln>
        </p:spPr>
      </p:cxnSp>
      <p:sp>
        <p:nvSpPr>
          <p:cNvPr id="213" name="9 CuadroTexto"/>
          <p:cNvSpPr/>
          <p:nvPr/>
        </p:nvSpPr>
        <p:spPr>
          <a:xfrm>
            <a:off x="468360" y="5013360"/>
            <a:ext cx="287964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ítol preferit</a:t>
            </a:r>
            <a:endParaRPr b="0" lang="en-US" sz="3200" spc="-1" strike="noStrike">
              <a:solidFill>
                <a:srgbClr val="000000"/>
              </a:solidFill>
              <a:latin typeface="Arial"/>
            </a:endParaRPr>
          </a:p>
          <a:p>
            <a:pPr lvl="1" marL="88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76092"/>
                </a:solidFill>
                <a:latin typeface="Courier New"/>
                <a:ea typeface="Courier New"/>
              </a:rPr>
              <a:t>[245 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cxnSp>
        <p:nvCxnSpPr>
          <p:cNvPr id="214" name="13 Conector recto de flecha"/>
          <p:cNvCxnSpPr/>
          <p:nvPr/>
        </p:nvCxnSpPr>
        <p:spPr>
          <a:xfrm flipH="1">
            <a:off x="5940000" y="4005000"/>
            <a:ext cx="2664720" cy="1080"/>
          </a:xfrm>
          <a:prstGeom prst="straightConnector1">
            <a:avLst/>
          </a:prstGeom>
          <a:ln w="9360">
            <a:solidFill>
              <a:srgbClr val="4a7ebb"/>
            </a:solidFill>
            <a:miter/>
            <a:tailEnd len="med" type="triangle" w="med"/>
          </a:ln>
        </p:spPr>
      </p:cxnSp>
      <p:cxnSp>
        <p:nvCxnSpPr>
          <p:cNvPr id="215" name="16 Conector recto de flecha"/>
          <p:cNvCxnSpPr/>
          <p:nvPr/>
        </p:nvCxnSpPr>
        <p:spPr>
          <a:xfrm flipH="1">
            <a:off x="6084360" y="4508280"/>
            <a:ext cx="2664720" cy="1080"/>
          </a:xfrm>
          <a:prstGeom prst="straightConnector1">
            <a:avLst/>
          </a:prstGeom>
          <a:ln w="9360">
            <a:solidFill>
              <a:srgbClr val="4a7ebb"/>
            </a:solidFill>
            <a:miter/>
            <a:tailEnd len="med" type="triangle" w="med"/>
          </a:ln>
        </p:spPr>
      </p:cxnSp>
      <p:cxnSp>
        <p:nvCxnSpPr>
          <p:cNvPr id="216" name="17 Conector recto de flecha"/>
          <p:cNvCxnSpPr/>
          <p:nvPr/>
        </p:nvCxnSpPr>
        <p:spPr>
          <a:xfrm flipH="1">
            <a:off x="6084360" y="4723920"/>
            <a:ext cx="2664720" cy="1080"/>
          </a:xfrm>
          <a:prstGeom prst="straightConnector1">
            <a:avLst/>
          </a:prstGeom>
          <a:ln w="9360">
            <a:solidFill>
              <a:srgbClr val="4a7ebb"/>
            </a:solidFill>
            <a:miter/>
            <a:tailEnd len="med" type="triangle" w="med"/>
          </a:ln>
        </p:spPr>
      </p:cxnSp>
      <p:cxnSp>
        <p:nvCxnSpPr>
          <p:cNvPr id="217" name="18 Conector recto de flecha"/>
          <p:cNvCxnSpPr/>
          <p:nvPr/>
        </p:nvCxnSpPr>
        <p:spPr>
          <a:xfrm flipH="1">
            <a:off x="6155640" y="5013000"/>
            <a:ext cx="2664360" cy="1080"/>
          </a:xfrm>
          <a:prstGeom prst="straightConnector1">
            <a:avLst/>
          </a:prstGeom>
          <a:ln w="9360">
            <a:solidFill>
              <a:srgbClr val="4a7ebb"/>
            </a:solidFill>
            <a:miter/>
            <a:tailEnd len="med" type="triangle" w="med"/>
          </a:ln>
        </p:spPr>
      </p:cxnSp>
      <p:cxnSp>
        <p:nvCxnSpPr>
          <p:cNvPr id="218" name="19 Conector recto de flecha"/>
          <p:cNvCxnSpPr/>
          <p:nvPr/>
        </p:nvCxnSpPr>
        <p:spPr>
          <a:xfrm flipH="1">
            <a:off x="6084360" y="5373360"/>
            <a:ext cx="2664720" cy="1080"/>
          </a:xfrm>
          <a:prstGeom prst="straightConnector1">
            <a:avLst/>
          </a:prstGeom>
          <a:ln w="9360">
            <a:solidFill>
              <a:srgbClr val="4a7ebb"/>
            </a:solidFill>
            <a:miter/>
            <a:tailEnd len="med" type="triangle" w="med"/>
          </a:ln>
        </p:spPr>
      </p:cxnSp>
      <p:cxnSp>
        <p:nvCxnSpPr>
          <p:cNvPr id="219" name="20 Conector recto de flecha"/>
          <p:cNvCxnSpPr/>
          <p:nvPr/>
        </p:nvCxnSpPr>
        <p:spPr>
          <a:xfrm flipH="1">
            <a:off x="6155640" y="5660640"/>
            <a:ext cx="2664360" cy="1080"/>
          </a:xfrm>
          <a:prstGeom prst="straightConnector1">
            <a:avLst/>
          </a:prstGeom>
          <a:ln w="9360">
            <a:solidFill>
              <a:srgbClr val="4a7ebb"/>
            </a:solidFill>
            <a:miter/>
            <a:tailEnd len="med" type="triangle" w="med"/>
          </a:ln>
        </p:spPr>
      </p:cxnSp>
      <p:sp>
        <p:nvSpPr>
          <p:cNvPr id="220" name="2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8DC1-3002-4D26-BE38-BD3DB2C35A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1" name="22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7"/>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9"/>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1"/>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2"/>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1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15"/>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216"/>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17"/>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18"/>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19"/>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0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1 Rectángulo"/>
          <p:cNvSpPr/>
          <p:nvPr/>
        </p:nvSpPr>
        <p:spPr>
          <a:xfrm>
            <a:off x="684360" y="1700280"/>
            <a:ext cx="7632720" cy="366012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245 00</a:t>
            </a:r>
            <a:r>
              <a:rPr b="0"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 </a:t>
            </a:r>
            <a:r>
              <a:rPr b="1" lang="en-US" sz="1800" spc="-1" strike="noStrike">
                <a:solidFill>
                  <a:srgbClr val="376092"/>
                </a:solidFill>
                <a:latin typeface="Arial"/>
              </a:rPr>
              <a:t>Ten days that shook Scotland</a:t>
            </a:r>
            <a:r>
              <a:rPr b="0" lang="en-US" sz="1800" spc="-1" strike="noStrike">
                <a:solidFill>
                  <a:srgbClr val="000000"/>
                </a:solidFill>
                <a:latin typeface="Arial"/>
              </a:rPr>
              <a:t> / $</a:t>
            </a:r>
            <a:r>
              <a:rPr b="1" lang="en-US" sz="1800" spc="-1" strike="noStrike">
                <a:solidFill>
                  <a:srgbClr val="000000"/>
                </a:solidFill>
                <a:latin typeface="Arial"/>
              </a:rPr>
              <a:t>c</a:t>
            </a:r>
            <a:r>
              <a:rPr b="0" lang="en-US" sz="1800" spc="-1" strike="noStrike" u="sng">
                <a:solidFill>
                  <a:srgbClr val="000000"/>
                </a:solidFill>
                <a:uFillTx/>
                <a:latin typeface="Arial"/>
              </a:rPr>
              <a:t> Hugh MacDonald</a:t>
            </a:r>
            <a:r>
              <a:rPr b="0" lang="en-US" sz="1800" spc="-1" strike="noStrike">
                <a:solidFill>
                  <a:srgbClr val="000000"/>
                </a:solidFill>
                <a:latin typeface="Arial"/>
              </a:rPr>
              <a:t>, Alan Pattullo, Rob Robertson et al.</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5 0_ $</a:t>
            </a:r>
            <a:r>
              <a:rPr b="1" lang="en-US" sz="1800" spc="-1" strike="noStrike">
                <a:solidFill>
                  <a:srgbClr val="000000"/>
                </a:solidFill>
                <a:latin typeface="Arial"/>
              </a:rPr>
              <a:t>a</a:t>
            </a:r>
            <a:r>
              <a:rPr b="0" lang="en-US" sz="1800" spc="-1" strike="noStrike">
                <a:solidFill>
                  <a:srgbClr val="000000"/>
                </a:solidFill>
                <a:latin typeface="Arial"/>
              </a:rPr>
              <a:t> From the spiders' web : the historic first defeat of Queen's Park / John Cairney -- </a:t>
            </a:r>
            <a:r>
              <a:rPr b="0" lang="en-US" sz="1800" spc="-1" strike="noStrike" u="sng">
                <a:solidFill>
                  <a:srgbClr val="000000"/>
                </a:solidFill>
                <a:uFillTx/>
                <a:latin typeface="Arial"/>
              </a:rPr>
              <a:t>There were no winners : the Scottish Cup final of 1909 / Hugh MacDonald </a:t>
            </a:r>
            <a:r>
              <a:rPr b="0" lang="en-US" sz="1800" spc="-1" strike="noStrike">
                <a:solidFill>
                  <a:srgbClr val="000000"/>
                </a:solidFill>
                <a:latin typeface="Arial"/>
              </a:rPr>
              <a:t>-- Better than Bannockburn : the Webley Wizards / Frank Gilfeather -- Motherwell : champions of Scotland / Matt Vallance -- Home before the postcards : Scotland in the 1954 World Cup / Terence Murray -- Nearly tenpast Haffey : England 9, Scotland 3 / Ronnie Esplin -- "The old men of Peru" / Graham McColl -- The death of Jock Stein / Stephen McGowan -- Aberdeen : the road to Gothenburg / Rob Robertson -- Berti Vogts, Scotland manager / Alan Pattullo.</a:t>
            </a:r>
            <a:endParaRPr b="0" lang="en-US" sz="1800" spc="-1" strike="noStrike">
              <a:solidFill>
                <a:srgbClr val="000000"/>
              </a:solidFill>
              <a:latin typeface="Arial"/>
            </a:endParaRPr>
          </a:p>
          <a:p>
            <a:pPr marL="722160" indent="-72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70012 $a </a:t>
            </a:r>
            <a:r>
              <a:rPr b="1" lang="en-US" sz="1800" spc="-1" strike="noStrike" u="sng">
                <a:solidFill>
                  <a:srgbClr val="376092"/>
                </a:solidFill>
                <a:uFillTx/>
                <a:latin typeface="Arial"/>
              </a:rPr>
              <a:t>MacDonald, Hugh. $t There were no winners.</a:t>
            </a:r>
            <a:endParaRPr b="0" lang="en-US" sz="1800" spc="-1" strike="noStrike">
              <a:solidFill>
                <a:srgbClr val="000000"/>
              </a:solidFill>
              <a:latin typeface="Arial"/>
            </a:endParaRPr>
          </a:p>
        </p:txBody>
      </p:sp>
      <p:sp>
        <p:nvSpPr>
          <p:cNvPr id="223" name="2 Rectángulo"/>
          <p:cNvSpPr/>
          <p:nvPr/>
        </p:nvSpPr>
        <p:spPr>
          <a:xfrm>
            <a:off x="971640" y="6206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LCCN Permalin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u="sng">
                <a:solidFill>
                  <a:srgbClr val="0000ff"/>
                </a:solidFill>
                <a:uFillTx/>
                <a:latin typeface="Arial"/>
                <a:hlinkClick r:id="rId1"/>
              </a:rPr>
              <a:t>https://lccn.loc.gov/2010681487</a:t>
            </a:r>
            <a:endParaRPr b="0" lang="en-US" sz="1800" spc="-1" strike="noStrike">
              <a:solidFill>
                <a:srgbClr val="000000"/>
              </a:solidFill>
              <a:latin typeface="Arial"/>
            </a:endParaRPr>
          </a:p>
        </p:txBody>
      </p:sp>
      <p:sp>
        <p:nvSpPr>
          <p:cNvPr id="224" name="3 CuadroTexto"/>
          <p:cNvSpPr/>
          <p:nvPr/>
        </p:nvSpPr>
        <p:spPr>
          <a:xfrm>
            <a:off x="1187280" y="5445000"/>
            <a:ext cx="62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Altres camps 7XX  són opcionals</a:t>
            </a:r>
            <a:endParaRPr b="0" lang="en-US" sz="1800" spc="-1" strike="noStrike">
              <a:solidFill>
                <a:srgbClr val="000000"/>
              </a:solidFill>
              <a:latin typeface="Arial"/>
            </a:endParaRPr>
          </a:p>
        </p:txBody>
      </p:sp>
      <p:sp>
        <p:nvSpPr>
          <p:cNvPr id="225"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2574F-90BC-484A-B853-FFDD415B2D0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5 CuadroTexto"/>
          <p:cNvSpPr/>
          <p:nvPr/>
        </p:nvSpPr>
        <p:spPr>
          <a:xfrm>
            <a:off x="900000" y="6237360"/>
            <a:ext cx="64087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atalogació de la Library of Congress en MARC</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3" descr=""/>
          <p:cNvPicPr/>
          <p:nvPr/>
        </p:nvPicPr>
        <p:blipFill>
          <a:blip r:embed="rId1"/>
          <a:srcRect l="37665" t="29852" r="36182" b="6251"/>
          <a:stretch/>
        </p:blipFill>
        <p:spPr>
          <a:xfrm rot="21470400">
            <a:off x="284040" y="479160"/>
            <a:ext cx="4124520" cy="5638680"/>
          </a:xfrm>
          <a:prstGeom prst="rect">
            <a:avLst/>
          </a:prstGeom>
          <a:ln w="0">
            <a:noFill/>
          </a:ln>
        </p:spPr>
      </p:pic>
      <p:pic>
        <p:nvPicPr>
          <p:cNvPr id="228" name="Picture 2" descr=""/>
          <p:cNvPicPr/>
          <p:nvPr/>
        </p:nvPicPr>
        <p:blipFill>
          <a:blip r:embed="rId2"/>
          <a:srcRect l="26665" t="21155" r="27161" b="21977"/>
          <a:stretch/>
        </p:blipFill>
        <p:spPr>
          <a:xfrm rot="21289800">
            <a:off x="4257720" y="477360"/>
            <a:ext cx="4487760" cy="5789880"/>
          </a:xfrm>
          <a:prstGeom prst="rect">
            <a:avLst/>
          </a:prstGeom>
          <a:ln w="0">
            <a:noFill/>
          </a:ln>
        </p:spPr>
      </p:pic>
      <p:sp>
        <p:nvSpPr>
          <p:cNvPr id="229" name="5 Conector recto"/>
          <p:cNvSpPr/>
          <p:nvPr/>
        </p:nvSpPr>
        <p:spPr>
          <a:xfrm>
            <a:off x="3924360" y="0"/>
            <a:ext cx="71280" cy="685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6 CuadroTexto"/>
          <p:cNvSpPr/>
          <p:nvPr/>
        </p:nvSpPr>
        <p:spPr>
          <a:xfrm>
            <a:off x="4067280" y="260280"/>
            <a:ext cx="2089080" cy="947160"/>
          </a:xfrm>
          <a:prstGeom prst="rect">
            <a:avLst/>
          </a:prstGeom>
          <a:noFill/>
          <a:ln w="9360">
            <a:solidFill>
              <a:srgbClr val="37609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És</a:t>
            </a:r>
            <a:r>
              <a:rPr b="1" lang="es-ES" sz="2800" spc="-1" strike="noStrike" u="sng">
                <a:solidFill>
                  <a:srgbClr val="000000"/>
                </a:solidFill>
                <a:uFillTx/>
                <a:latin typeface="Calibri"/>
              </a:rPr>
              <a:t> una </a:t>
            </a:r>
            <a:r>
              <a:rPr b="1" lang="ca-ES" sz="2800" spc="-1" strike="noStrike" u="sng">
                <a:solidFill>
                  <a:srgbClr val="000000"/>
                </a:solidFill>
                <a:uFillTx/>
                <a:latin typeface="Calibri"/>
              </a:rPr>
              <a:t>col·laboració</a:t>
            </a:r>
            <a:endParaRPr b="0" lang="en-US" sz="2800" spc="-1" strike="noStrike">
              <a:solidFill>
                <a:srgbClr val="000000"/>
              </a:solidFill>
              <a:latin typeface="Arial"/>
            </a:endParaRPr>
          </a:p>
        </p:txBody>
      </p:sp>
      <p:sp>
        <p:nvSpPr>
          <p:cNvPr id="231" name="8 CuadroTexto"/>
          <p:cNvSpPr/>
          <p:nvPr/>
        </p:nvSpPr>
        <p:spPr>
          <a:xfrm>
            <a:off x="5219640" y="1484280"/>
            <a:ext cx="3419640" cy="2288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Creador </a:t>
            </a:r>
            <a:r>
              <a:rPr b="1" lang="ca-ES" sz="1800" spc="-1" strike="noStrike">
                <a:solidFill>
                  <a:srgbClr val="376092"/>
                </a:solidFill>
                <a:latin typeface="Courier New"/>
                <a:ea typeface="Courier New"/>
              </a:rPr>
              <a:t>[100]</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principal o anomenat en primer lloc)</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	</a:t>
            </a:r>
            <a:r>
              <a:rPr b="1" lang="ca-ES" sz="1800" spc="-1" strike="noStrike">
                <a:solidFill>
                  <a:srgbClr val="376092"/>
                </a:solidFill>
                <a:latin typeface="Calibri"/>
              </a:rPr>
              <a:t>+</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alibri"/>
              </a:rPr>
              <a:t>títol preferit </a:t>
            </a:r>
            <a:r>
              <a:rPr b="1" lang="ca-ES" sz="1800" spc="-1" strike="noStrike">
                <a:solidFill>
                  <a:srgbClr val="376092"/>
                </a:solidFill>
                <a:latin typeface="Courier New"/>
                <a:ea typeface="Courier New"/>
              </a:rPr>
              <a:t>[24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7XX per a la resta de creador opcion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4679-C8B5-4845-97AF-52CCEDBB0C8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9 CuadroTexto"/>
          <p:cNvSpPr/>
          <p:nvPr/>
        </p:nvSpPr>
        <p:spPr>
          <a:xfrm>
            <a:off x="250920" y="6524640"/>
            <a:ext cx="82818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Arial"/>
              </a:rPr>
              <a:t>Cristan, Ana Lupe. </a:t>
            </a:r>
            <a:r>
              <a:rPr b="1" i="1" lang="ca-ES" sz="900" spc="-1" strike="noStrike">
                <a:solidFill>
                  <a:srgbClr val="000000"/>
                </a:solidFill>
                <a:latin typeface="Arial"/>
              </a:rPr>
              <a:t>RDA Special Topics: Compilations &amp; Collaborations. </a:t>
            </a:r>
            <a:r>
              <a:rPr b="1" lang="en-US" sz="900" spc="-1" strike="noStrike">
                <a:solidFill>
                  <a:srgbClr val="000000"/>
                </a:solidFill>
                <a:latin typeface="Arial"/>
              </a:rPr>
              <a:t>December 2011, revised by Kate James, August 2013.</a:t>
            </a:r>
            <a:r>
              <a:rPr b="1" i="1" lang="ca-ES" sz="900" spc="-1" strike="noStrike">
                <a:solidFill>
                  <a:srgbClr val="000000"/>
                </a:solidFill>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eferit - Compilacions d'obres </a:t>
            </a:r>
            <a:r>
              <a:rPr b="1" lang="ca-ES" sz="3200" spc="-1" strike="noStrike" u="sng">
                <a:solidFill>
                  <a:srgbClr val="953735"/>
                </a:solidFill>
                <a:uFillTx/>
                <a:latin typeface="Calibri"/>
              </a:rPr>
              <a:t>de més d'un creadors</a:t>
            </a:r>
            <a:endParaRPr b="0" lang="en-US" sz="3200" spc="-1" strike="noStrike">
              <a:solidFill>
                <a:srgbClr val="000000"/>
              </a:solidFill>
              <a:latin typeface="Calibri"/>
            </a:endParaRPr>
          </a:p>
        </p:txBody>
      </p:sp>
      <p:sp>
        <p:nvSpPr>
          <p:cNvPr id="235" name=""/>
          <p:cNvSpPr txBox="1"/>
          <p:nvPr/>
        </p:nvSpPr>
        <p:spPr>
          <a:xfrm>
            <a:off x="456840" y="1557360"/>
            <a:ext cx="8435880" cy="4751280"/>
          </a:xfrm>
          <a:prstGeom prst="rect">
            <a:avLst/>
          </a:prstGeom>
          <a:noFill/>
          <a:ln w="0">
            <a:noFill/>
          </a:ln>
        </p:spPr>
        <p:txBody>
          <a:bodyPr anchor="t">
            <a:normAutofit fontScale="99000"/>
          </a:bodyPr>
          <a:p>
            <a:pPr marL="339480" indent="-339480">
              <a:lnSpc>
                <a:spcPct val="90000"/>
              </a:lnSpc>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Compilació</a:t>
            </a:r>
            <a:r>
              <a:rPr b="0" lang="ca-ES" sz="2800" spc="-1" strike="noStrike">
                <a:solidFill>
                  <a:srgbClr val="000000"/>
                </a:solidFill>
                <a:latin typeface="Calibri"/>
              </a:rPr>
              <a:t> d'obres </a:t>
            </a:r>
            <a:r>
              <a:rPr b="0" i="1" lang="ca-ES" sz="2800" spc="-1" strike="noStrike" u="sng">
                <a:solidFill>
                  <a:srgbClr val="000000"/>
                </a:solidFill>
                <a:uFillTx/>
                <a:latin typeface="Calibri"/>
              </a:rPr>
              <a:t>separade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compilació </a:t>
            </a:r>
            <a:r>
              <a:rPr b="0" lang="ca-ES" sz="2800" spc="-1" strike="noStrike" u="sng">
                <a:solidFill>
                  <a:srgbClr val="000000"/>
                </a:solidFill>
                <a:uFillTx/>
                <a:latin typeface="Calibri"/>
              </a:rPr>
              <a:t>s'ha d'identificar pel seu títol preferit</a:t>
            </a:r>
            <a:r>
              <a:rPr b="0" lang="ca-ES" sz="2800" spc="-1" strike="noStrike">
                <a:solidFill>
                  <a:srgbClr val="000000"/>
                </a:solidFill>
                <a:latin typeface="Calibri"/>
              </a:rPr>
              <a:t> (vegeu RDA 6.27.1.4):</a:t>
            </a:r>
            <a:endParaRPr b="0" lang="en-US" sz="28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el qual la </a:t>
            </a:r>
            <a:r>
              <a:rPr b="0" i="1" lang="ca-ES" sz="2400" spc="-1" strike="noStrike">
                <a:solidFill>
                  <a:srgbClr val="000000"/>
                </a:solidFill>
                <a:latin typeface="Calibri"/>
              </a:rPr>
              <a:t>compilació </a:t>
            </a:r>
            <a:r>
              <a:rPr b="0" lang="ca-ES" sz="2400" spc="-1" strike="noStrike">
                <a:solidFill>
                  <a:srgbClr val="000000"/>
                </a:solidFill>
                <a:latin typeface="Calibri"/>
              </a:rPr>
              <a:t>és coneguda (inusual), </a:t>
            </a:r>
            <a:r>
              <a:rPr b="0" i="1" lang="ca-ES" sz="2400" spc="-1" strike="noStrike">
                <a:solidFill>
                  <a:srgbClr val="000000"/>
                </a:solidFill>
                <a:latin typeface="Calibri"/>
              </a:rPr>
              <a:t>o</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ítol propi de la manifestació</a:t>
            </a:r>
            <a:endParaRPr b="0" lang="en-US" sz="2400" spc="-1" strike="noStrike">
              <a:solidFill>
                <a:srgbClr val="000000"/>
              </a:solidFill>
              <a:latin typeface="Calibri"/>
            </a:endParaRPr>
          </a:p>
          <a:p>
            <a:pPr lvl="1" marL="735480" indent="-28296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r>
              <a:rPr b="0" lang="ca-ES" sz="2000" spc="-1" strike="noStrike">
                <a:solidFill>
                  <a:srgbClr val="000000"/>
                </a:solidFill>
                <a:latin typeface="Courier New"/>
                <a:ea typeface="Courier New"/>
              </a:rPr>
              <a:t> </a:t>
            </a:r>
            <a:r>
              <a:rPr b="1" i="1" lang="ca-ES" sz="2000" spc="-1" strike="noStrike">
                <a:solidFill>
                  <a:srgbClr val="376092"/>
                </a:solidFill>
                <a:latin typeface="Courier New"/>
                <a:ea typeface="Courier New"/>
              </a:rPr>
              <a:t>Best of Broadway</a:t>
            </a:r>
            <a:r>
              <a:rPr b="0" lang="ca-ES" sz="2000" spc="-1" strike="noStrike">
                <a:solidFill>
                  <a:srgbClr val="000000"/>
                </a:solidFill>
                <a:latin typeface="Courier New"/>
                <a:ea typeface="Courier New"/>
              </a:rPr>
              <a:t> </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ea typeface="Courier New"/>
              </a:rPr>
              <a:t>(conjunt de 5 CDs, una selecció de diversos musicals de diferents compositors)</a:t>
            </a:r>
            <a:endParaRPr b="0" lang="en-US" sz="2000" spc="-1" strike="noStrike">
              <a:solidFill>
                <a:srgbClr val="000000"/>
              </a:solidFill>
              <a:latin typeface="Calibri"/>
            </a:endParaRPr>
          </a:p>
          <a:p>
            <a:pPr lvl="2" marL="1131480" indent="-22608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Calibri"/>
              </a:rPr>
              <a:t>(</a:t>
            </a:r>
            <a:r>
              <a:rPr b="0" i="1" lang="ca-ES" sz="2600" spc="-1" strike="noStrike">
                <a:solidFill>
                  <a:srgbClr val="000000"/>
                </a:solidFill>
                <a:latin typeface="Calibri"/>
              </a:rPr>
              <a:t>Si hi ha conflicte entre el títol preferit de la compilació i una obra ja existent al catàleg, apliqueu 6.27.1.9. per distingir-les)</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3AAA0-4BDF-4376-85B9-08D5F96B13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Què passa si la compilació </a:t>
            </a:r>
            <a:br>
              <a:rPr sz="4000"/>
            </a:br>
            <a:r>
              <a:rPr b="1" lang="ca-ES" sz="4000" spc="-1" strike="noStrike">
                <a:solidFill>
                  <a:srgbClr val="000000"/>
                </a:solidFill>
                <a:latin typeface="Calibri"/>
              </a:rPr>
              <a:t>no té un títol col·lectiu?</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a:t>
            </a:r>
            <a:r>
              <a:rPr b="0" lang="ca-ES" sz="3000" spc="-1" strike="noStrike" u="sng">
                <a:solidFill>
                  <a:srgbClr val="953735"/>
                </a:solidFill>
                <a:uFillTx/>
                <a:latin typeface="Calibri"/>
              </a:rPr>
              <a:t>d'obres de diferents creadors no té un títol col·lectiu</a:t>
            </a:r>
            <a:r>
              <a:rPr b="0" lang="ca-ES" sz="3000" spc="-1" strike="noStrike">
                <a:solidFill>
                  <a:srgbClr val="000000"/>
                </a:solidFill>
                <a:latin typeface="Calibri"/>
              </a:rPr>
              <a:t>, en general:</a:t>
            </a:r>
            <a:endParaRPr b="0" lang="en-US" sz="30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utilitza el títol propi de la primera obra de la compilació com a títol preferit, i</a:t>
            </a:r>
            <a:endParaRPr b="0" lang="en-US" sz="2600" spc="-1" strike="noStrike">
              <a:solidFill>
                <a:srgbClr val="000000"/>
              </a:solidFill>
              <a:latin typeface="Calibri"/>
            </a:endParaRPr>
          </a:p>
          <a:p>
            <a:pPr lvl="1" marL="743040" indent="-28584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s fa un punt d'accés autoritzat analític per l'obra predominant o la primera obra de la compilació, quan aquesta representi una part important del recu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o inventeu un títol per fer servir com a títol preferit. </a:t>
            </a:r>
            <a:r>
              <a:rPr b="0" i="1" lang="ca-ES" sz="2600" spc="-1" strike="noStrike">
                <a:solidFill>
                  <a:srgbClr val="000000"/>
                </a:solidFill>
                <a:latin typeface="Calibri"/>
              </a:rPr>
              <a:t>(No s'aplica l'alternativa d'RDA 6.27.1.4</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u="sng">
                <a:solidFill>
                  <a:srgbClr val="000000"/>
                </a:solidFill>
                <a:uFillTx/>
                <a:latin typeface="Calibri"/>
              </a:rPr>
              <a:t>Una obra que és part d'una compilació es considera una "obra relacionada"</a:t>
            </a:r>
            <a:r>
              <a:rPr b="0" lang="ca-ES" sz="3000" spc="-1" strike="noStrike">
                <a:solidFill>
                  <a:srgbClr val="000000"/>
                </a:solidFill>
                <a:latin typeface="Calibri"/>
              </a:rPr>
              <a:t>.</a:t>
            </a:r>
            <a:r>
              <a:rPr b="1" lang="ca-ES" sz="3000" spc="-1" strike="noStrike">
                <a:solidFill>
                  <a:srgbClr val="000000"/>
                </a:solidFill>
                <a:latin typeface="Calibri"/>
              </a:rPr>
              <a:t> </a:t>
            </a:r>
            <a:endParaRPr b="0" lang="en-US" sz="3000" spc="-1" strike="noStrike">
              <a:solidFill>
                <a:srgbClr val="000000"/>
              </a:solidFill>
              <a:latin typeface="Calibri"/>
            </a:endParaRPr>
          </a:p>
        </p:txBody>
      </p:sp>
      <p:sp>
        <p:nvSpPr>
          <p:cNvPr id="2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DD19-DAA8-4F48-B7C4-0FD1C05696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Compilació d'obres de </a:t>
            </a:r>
            <a:br>
              <a:rPr sz="3200"/>
            </a:br>
            <a:r>
              <a:rPr b="1" lang="ca-ES" sz="3200" spc="-1" strike="noStrike">
                <a:solidFill>
                  <a:srgbClr val="000000"/>
                </a:solidFill>
                <a:latin typeface="Calibri"/>
              </a:rPr>
              <a:t>diferents creadors sense títol col·lectiu</a:t>
            </a:r>
            <a:br>
              <a:rPr sz="3200"/>
            </a:br>
            <a:endParaRPr b="0" lang="en-US" sz="3200" spc="-1" strike="noStrike">
              <a:solidFill>
                <a:srgbClr val="000000"/>
              </a:solidFill>
              <a:latin typeface="Calibri"/>
            </a:endParaRPr>
          </a:p>
        </p:txBody>
      </p:sp>
      <p:sp>
        <p:nvSpPr>
          <p:cNvPr id="241" name=""/>
          <p:cNvSpPr txBox="1"/>
          <p:nvPr/>
        </p:nvSpPr>
        <p:spPr>
          <a:xfrm>
            <a:off x="468000" y="1413000"/>
            <a:ext cx="8435880" cy="252072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r>
              <a:rPr b="1" i="1" lang="ca-ES" sz="2000" spc="-1" strike="noStrike">
                <a:solidFill>
                  <a:srgbClr val="000000"/>
                </a:solidFill>
                <a:latin typeface="Calibri"/>
              </a:rPr>
              <a:t> utilitza la 1a obra com a títol preferit (però això identifica erròniament la compilació)</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Polk, Shar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Community band concert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ommunity band concerts /$cSharon Polk. Fall harvest festivals / Terri Swanso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Calibri"/>
            </a:endParaRPr>
          </a:p>
        </p:txBody>
      </p:sp>
      <p:sp>
        <p:nvSpPr>
          <p:cNvPr id="2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5EEF9-4EBD-47AB-ADFC-4CE9D51C3D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3" name="2 Marcador de contenido"/>
          <p:cNvSpPr/>
          <p:nvPr/>
        </p:nvSpPr>
        <p:spPr>
          <a:xfrm>
            <a:off x="457200" y="4076640"/>
            <a:ext cx="8435880" cy="2549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r>
              <a:rPr b="1" i="1" lang="ca-ES" sz="2000" spc="-1" strike="noStrike">
                <a:solidFill>
                  <a:srgbClr val="000000"/>
                </a:solidFill>
                <a:latin typeface="Calibri"/>
              </a:rPr>
              <a:t> utilitza el títol propi de la primera obra com a títol preferi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t>
            </a:r>
            <a:r>
              <a:rPr b="1" lang="ca-ES" sz="2000" spc="-1" strike="noStrike">
                <a:solidFill>
                  <a:srgbClr val="953735"/>
                </a:solidFill>
                <a:latin typeface="Courier New"/>
                <a:ea typeface="Courier New"/>
              </a:rPr>
              <a:t>Community band concerts</a:t>
            </a:r>
            <a:r>
              <a:rPr b="1" lang="ca-ES" sz="2000" spc="-1" strike="noStrike">
                <a:solidFill>
                  <a:srgbClr val="376092"/>
                </a:solidFill>
                <a:latin typeface="Courier New"/>
                <a:ea typeface="Courier New"/>
              </a:rPr>
              <a:t> /$cShar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Polk. Fall harvest festivals / Terri Swanson</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Polk, Sharon.$tCommunity band concert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2 $aSwanson, Terri.$tFall harvest Festival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 El 2n camp 700 no és un requeriment bàsic però és útil per a l'usuari</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Calibri"/>
              </a:rPr>
              <a:t>Obres en col·laboració - </a:t>
            </a:r>
            <a:br>
              <a:rPr sz="4000"/>
            </a:br>
            <a:r>
              <a:rPr b="1" lang="ca-ES" sz="4000" spc="-1" strike="noStrike">
                <a:solidFill>
                  <a:srgbClr val="000000"/>
                </a:solidFill>
                <a:latin typeface="Calibri"/>
              </a:rPr>
              <a:t>Una obra, diversos creadors</a:t>
            </a:r>
            <a:endParaRPr b="0" lang="en-US" sz="40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rincipal responsable o creador anomenat en primer llo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cepcions (vegeu RDA 6.27.1.3):</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matges en movi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s recursos que involucrin tant a entitats corporatives com a person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gunes col·laboracions musica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cta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a majoria de les publicacions en sèrie.</a:t>
            </a:r>
            <a:endParaRPr b="0" lang="en-US" sz="2800" spc="-1" strike="noStrike">
              <a:solidFill>
                <a:srgbClr val="000000"/>
              </a:solidFill>
              <a:latin typeface="Calibri"/>
            </a:endParaRPr>
          </a:p>
        </p:txBody>
      </p:sp>
      <p:sp>
        <p:nvSpPr>
          <p:cNvPr id="2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9AE4-A0EF-4404-9D5A-1B1AA29B76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Responsabilitat principal indicada</a:t>
            </a:r>
            <a:endParaRPr b="0" lang="en-US" sz="32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a:lnSpc>
                <a:spcPct val="8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No hi ha canvis respecte a les AACR2, excepte pel que fa als punts d'accés addicionals</a:t>
            </a:r>
            <a:r>
              <a:rPr b="1" i="1" lang="ca-ES" sz="3100" spc="-1" strike="noStrike">
                <a:solidFill>
                  <a:srgbClr val="000000"/>
                </a:solidFill>
                <a:latin typeface="Calibri"/>
              </a:rPr>
              <a:t>.</a:t>
            </a:r>
            <a:endParaRPr b="0" lang="en-US" sz="31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100 1# $a</a:t>
            </a:r>
            <a:r>
              <a:rPr b="1" lang="ca-ES" sz="2200" spc="-1" strike="noStrike">
                <a:solidFill>
                  <a:srgbClr val="953735"/>
                </a:solidFill>
                <a:latin typeface="Courier New"/>
                <a:ea typeface="Courier New"/>
              </a:rPr>
              <a:t>Sweet, Marth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0 $a</a:t>
            </a:r>
            <a:r>
              <a:rPr b="1" lang="ca-ES" sz="2200" spc="-1" strike="noStrike">
                <a:solidFill>
                  <a:srgbClr val="953735"/>
                </a:solidFill>
                <a:latin typeface="Courier New"/>
                <a:ea typeface="Courier New"/>
              </a:rPr>
              <a:t>Geòrgia history </a:t>
            </a:r>
            <a:r>
              <a:rPr b="1" lang="ca-ES" sz="2200" spc="-1" strike="noStrike">
                <a:solidFill>
                  <a:srgbClr val="000000"/>
                </a:solidFill>
                <a:latin typeface="Courier New"/>
                <a:ea typeface="Courier New"/>
              </a:rPr>
              <a:t>/$c</a:t>
            </a:r>
            <a:r>
              <a:rPr b="1" lang="en-US" sz="2200" spc="-1" strike="noStrike">
                <a:solidFill>
                  <a:srgbClr val="000000"/>
                </a:solidFill>
                <a:latin typeface="Courier New"/>
                <a:ea typeface="MS PGothic"/>
              </a:rPr>
              <a:t>by Martha Sweet and Linda Bruce </a:t>
            </a:r>
            <a:r>
              <a:rPr b="0" lang="en-US" sz="2200" spc="-1" strike="noStrike" u="sng">
                <a:solidFill>
                  <a:srgbClr val="000000"/>
                </a:solidFill>
                <a:uFillTx/>
                <a:latin typeface="Courier New"/>
                <a:ea typeface="MS PGothic"/>
              </a:rPr>
              <a:t>with</a:t>
            </a:r>
            <a:r>
              <a:rPr b="1" lang="en-US" sz="2200" spc="-1" strike="noStrike">
                <a:solidFill>
                  <a:srgbClr val="000000"/>
                </a:solidFill>
                <a:latin typeface="Courier New"/>
                <a:ea typeface="MS PGothic"/>
              </a:rPr>
              <a:t> contributions by Gus Peterson and Marilee Jame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Bruce, Linda</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Peterson, Gus</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700 1# $aJames, Marilee</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ea typeface="Courier New"/>
              </a:rPr>
              <a:t>*</a:t>
            </a:r>
            <a:r>
              <a:rPr b="1" i="1" lang="ca-ES" sz="2000" spc="-1" strike="noStrike">
                <a:solidFill>
                  <a:srgbClr val="000000"/>
                </a:solidFill>
                <a:latin typeface="Calibri"/>
                <a:ea typeface="Courier New"/>
              </a:rPr>
              <a:t>Els punts d'accés addicionals resten a criteri del catalogador (Concreció 19.2-19.3 )</a:t>
            </a:r>
            <a:endParaRPr b="0" lang="en-US" sz="2000" spc="-1" strike="noStrike">
              <a:solidFill>
                <a:srgbClr val="000000"/>
              </a:solidFill>
              <a:latin typeface="Calibri"/>
            </a:endParaRPr>
          </a:p>
        </p:txBody>
      </p:sp>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E636-6588-447F-A2E9-010D9452A7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obra i expressió</a:t>
            </a:r>
            <a:br>
              <a:rPr sz="3200"/>
            </a:br>
            <a:r>
              <a:rPr b="1" lang="ca-ES" sz="3200" spc="-1" strike="noStrike">
                <a:solidFill>
                  <a:srgbClr val="000000"/>
                </a:solidFill>
                <a:latin typeface="Calibri"/>
              </a:rPr>
              <a:t>(RDA 5.1.2)</a:t>
            </a:r>
            <a:endParaRPr b="0" lang="en-US" sz="3200" spc="-1" strike="noStrike">
              <a:solidFill>
                <a:srgbClr val="000000"/>
              </a:solidFill>
              <a:latin typeface="Calibri"/>
            </a:endParaRPr>
          </a:p>
        </p:txBody>
      </p:sp>
      <p:sp>
        <p:nvSpPr>
          <p:cNvPr id="76" name=""/>
          <p:cNvSpPr txBox="1"/>
          <p:nvPr/>
        </p:nvSpPr>
        <p:spPr>
          <a:xfrm>
            <a:off x="457200" y="1600200"/>
            <a:ext cx="77868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bra: </a:t>
            </a:r>
            <a:r>
              <a:rPr b="0" lang="ca-ES" sz="2600" spc="-1" strike="noStrike">
                <a:solidFill>
                  <a:srgbClr val="000000"/>
                </a:solidFill>
                <a:latin typeface="Calibri"/>
              </a:rPr>
              <a:t>fa referència a una creació intel·lectual o artística distinta (és a dir, el contingut intel·lectual o artístic).</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xpressió: </a:t>
            </a:r>
            <a:r>
              <a:rPr b="0" lang="ca-ES" sz="26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s termes obra i expressió poden fer referència a les entitats individuals, </a:t>
            </a:r>
            <a:r>
              <a:rPr b="1" lang="ca-ES" sz="2600" spc="-1" strike="noStrike" u="sng">
                <a:solidFill>
                  <a:srgbClr val="000000"/>
                </a:solidFill>
                <a:uFillTx/>
                <a:latin typeface="Calibri"/>
              </a:rPr>
              <a:t>als agregats o als components d’aquestes entitats </a:t>
            </a:r>
            <a:r>
              <a:rPr b="0" lang="ca-ES" sz="2600" spc="-1" strike="noStrike">
                <a:solidFill>
                  <a:srgbClr val="000000"/>
                </a:solidFill>
                <a:latin typeface="Calibri"/>
              </a:rPr>
              <a:t>(per exemple, el terme obra pot fer referència a una obra individual, a una obra agregada o a un component d’una obra).</a:t>
            </a:r>
            <a:endParaRPr b="0" lang="en-US" sz="2600" spc="-1" strike="noStrike">
              <a:solidFill>
                <a:srgbClr val="000000"/>
              </a:solidFill>
              <a:latin typeface="Calibri"/>
            </a:endParaRPr>
          </a:p>
        </p:txBody>
      </p:sp>
      <p:sp>
        <p:nvSpPr>
          <p:cNvPr id="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F4CA-6573-460D-B0D2-35B3294F6F9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 Diversos creadors </a:t>
            </a:r>
            <a:br>
              <a:rPr sz="3200"/>
            </a:br>
            <a:r>
              <a:rPr b="1" lang="ca-ES" sz="3200" spc="-1" strike="noStrike">
                <a:solidFill>
                  <a:srgbClr val="000000"/>
                </a:solidFill>
                <a:latin typeface="Calibri"/>
              </a:rPr>
              <a:t>No hi ha responsabilitat principal</a:t>
            </a:r>
            <a:endParaRPr b="0" lang="en-US" sz="3200" spc="-1" strike="noStrike">
              <a:solidFill>
                <a:srgbClr val="000000"/>
              </a:solidFill>
              <a:latin typeface="Calibri"/>
            </a:endParaRPr>
          </a:p>
        </p:txBody>
      </p:sp>
      <p:sp>
        <p:nvSpPr>
          <p:cNvPr id="251" name=""/>
          <p:cNvSpPr txBox="1"/>
          <p:nvPr/>
        </p:nvSpPr>
        <p:spPr>
          <a:xfrm>
            <a:off x="395280" y="1483920"/>
            <a:ext cx="8507520" cy="1252440"/>
          </a:xfrm>
          <a:prstGeom prst="rect">
            <a:avLst/>
          </a:prstGeom>
          <a:no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AACR2:</a:t>
            </a:r>
            <a:r>
              <a:rPr b="1" i="1" lang="ca-ES" sz="2000" spc="-1" strike="noStrike">
                <a:solidFill>
                  <a:srgbClr val="000000"/>
                </a:solidFill>
                <a:latin typeface="Calibri"/>
                <a:ea typeface="Courier New"/>
              </a:rPr>
              <a:t> s'entra sota títol, sense camp 1X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Architecture /$cby Susan Brown ... [et a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Susan Brown</a:t>
            </a:r>
            <a:endParaRPr b="0" lang="en-US" sz="2000" spc="-1" strike="noStrike">
              <a:solidFill>
                <a:srgbClr val="000000"/>
              </a:solidFill>
              <a:latin typeface="Calibri"/>
            </a:endParaRPr>
          </a:p>
        </p:txBody>
      </p:sp>
      <p:sp>
        <p:nvSpPr>
          <p:cNvPr id="2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D9F4-B423-4E7A-A249-C07D1D4EF5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3" name="2 Marcador de contenido"/>
          <p:cNvSpPr/>
          <p:nvPr/>
        </p:nvSpPr>
        <p:spPr>
          <a:xfrm>
            <a:off x="395280" y="2781360"/>
            <a:ext cx="8497800" cy="3816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ea typeface="Courier New"/>
              </a:rPr>
              <a:t>RDA:</a:t>
            </a:r>
            <a:r>
              <a:rPr b="1" i="1" lang="ca-ES" sz="2000" spc="-1" strike="noStrike">
                <a:solidFill>
                  <a:srgbClr val="000000"/>
                </a:solidFill>
                <a:latin typeface="Calibri"/>
                <a:ea typeface="Courier New"/>
              </a:rPr>
              <a:t> precediu el títol preferit pel creador anomenat en primer llo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a:t>
            </a:r>
            <a:r>
              <a:rPr b="1" lang="ca-ES" sz="2000" spc="-1" strike="noStrike">
                <a:solidFill>
                  <a:srgbClr val="953735"/>
                </a:solidFill>
                <a:latin typeface="Courier New"/>
                <a:ea typeface="Courier New"/>
              </a:rPr>
              <a:t>Brown, Sus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a:t>
            </a:r>
            <a:r>
              <a:rPr b="1" lang="ca-ES" sz="2000" spc="-1" strike="noStrike">
                <a:solidFill>
                  <a:srgbClr val="953735"/>
                </a:solidFill>
                <a:latin typeface="Courier New"/>
                <a:ea typeface="Courier New"/>
              </a:rPr>
              <a:t>Architecture</a:t>
            </a:r>
            <a:r>
              <a:rPr b="1" lang="ca-ES" sz="2000" spc="-1" strike="noStrike">
                <a:solidFill>
                  <a:srgbClr val="376092"/>
                </a:solidFill>
                <a:latin typeface="Courier New"/>
                <a:ea typeface="Courier New"/>
              </a:rPr>
              <a:t> </a:t>
            </a:r>
            <a:r>
              <a:rPr b="1" lang="ca-ES" sz="2000" spc="-1" strike="noStrike">
                <a:solidFill>
                  <a:srgbClr val="000000"/>
                </a:solidFill>
                <a:latin typeface="Courier New"/>
                <a:ea typeface="Courier New"/>
              </a:rPr>
              <a:t>/$c</a:t>
            </a:r>
            <a:r>
              <a:rPr b="1" lang="en-US" sz="2000" spc="-1" strike="noStrike">
                <a:solidFill>
                  <a:srgbClr val="000000"/>
                </a:solidFill>
                <a:latin typeface="Courier New"/>
                <a:ea typeface="MS PGothic"/>
              </a:rPr>
              <a:t>by Susan Brown, Melanie Carlson, Stephen Lindell, Kevin Ott, and Janet Wils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Carlson, Melan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Lindell, Stephe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Ott, Kevi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700 1# $aWilson, Jane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a:t>
            </a:r>
            <a:r>
              <a:rPr b="1" i="1" lang="ca-ES" sz="2000" spc="-1" strike="noStrike">
                <a:solidFill>
                  <a:srgbClr val="000000"/>
                </a:solidFill>
                <a:latin typeface="Arial"/>
                <a:ea typeface="Courier New"/>
              </a:rPr>
              <a:t> </a:t>
            </a:r>
            <a:r>
              <a:rPr b="1" i="1" lang="ca-ES" sz="2000" spc="-1" strike="noStrike">
                <a:solidFill>
                  <a:srgbClr val="000000"/>
                </a:solidFill>
                <a:latin typeface="Calibri"/>
                <a:ea typeface="Courier New"/>
              </a:rPr>
              <a:t>Els punts d'accés addicionals, resta a criteri del catalogador (Concreció 19.2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a:t>
            </a:r>
            <a:br>
              <a:rPr sz="2800"/>
            </a:br>
            <a:r>
              <a:rPr b="1" lang="ca-ES" sz="2800" spc="-1" strike="noStrike">
                <a:solidFill>
                  <a:srgbClr val="000000"/>
                </a:solidFill>
                <a:latin typeface="Calibri"/>
              </a:rPr>
              <a:t>(RDA 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55" name=""/>
          <p:cNvSpPr txBox="1"/>
          <p:nvPr/>
        </p:nvSpPr>
        <p:spPr>
          <a:xfrm>
            <a:off x="468360" y="1557000"/>
            <a:ext cx="8229600" cy="1655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a:t>
            </a:r>
            <a:r>
              <a:rPr b="0" lang="ca-ES" sz="2400" spc="-1" strike="noStrike" u="sng">
                <a:solidFill>
                  <a:srgbClr val="000000"/>
                </a:solidFill>
                <a:uFillTx/>
                <a:latin typeface="Calibri"/>
              </a:rPr>
              <a:t>es presenta com l'obra </a:t>
            </a:r>
            <a:r>
              <a:rPr b="0" lang="ca-ES" sz="2400" spc="-1" strike="noStrike">
                <a:solidFill>
                  <a:srgbClr val="000000"/>
                </a:solidFill>
                <a:latin typeface="Calibri"/>
              </a:rPr>
              <a:t>del responsable del comentari, etc., apliqueu: </a:t>
            </a:r>
            <a:r>
              <a:rPr b="1" i="1" lang="ca-ES" sz="2400" spc="-1" strike="noStrike">
                <a:solidFill>
                  <a:srgbClr val="000000"/>
                </a:solidFill>
                <a:latin typeface="Calibri"/>
              </a:rPr>
              <a:t>Concreció 6.27.1.6.</a:t>
            </a:r>
            <a:r>
              <a:rPr b="0" lang="ca-ES" sz="2400" spc="-1" strike="noStrike">
                <a:solidFill>
                  <a:srgbClr val="000000"/>
                </a:solidFill>
                <a:latin typeface="Calibri"/>
              </a:rPr>
              <a:t> Si el recurs conté l'obra original i un comentari separat (o comentaris) i el comentari té el seu títol propi, s'aplica RDA 6.27.1.2 o 6.27.1.4 a la </a:t>
            </a:r>
            <a:r>
              <a:rPr b="1" lang="ca-ES" sz="2400" spc="-1" strike="noStrike" u="sng">
                <a:solidFill>
                  <a:srgbClr val="000000"/>
                </a:solidFill>
                <a:uFillTx/>
                <a:latin typeface="Calibri"/>
              </a:rPr>
              <a:t>compilació</a:t>
            </a:r>
            <a:r>
              <a:rPr b="0" lang="ca-E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EAC23-4637-46D7-B873-CDD0DB44DD4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4 Rectángulo"/>
          <p:cNvSpPr/>
          <p:nvPr/>
        </p:nvSpPr>
        <p:spPr>
          <a:xfrm>
            <a:off x="324000" y="3213000"/>
            <a:ext cx="835164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2 $a</a:t>
            </a:r>
            <a:r>
              <a:rPr b="1" lang="ca-ES" sz="1800" spc="-1" strike="noStrike">
                <a:solidFill>
                  <a:srgbClr val="953735"/>
                </a:solidFill>
                <a:latin typeface="Courier New"/>
                <a:ea typeface="Courier New"/>
              </a:rPr>
              <a:t>A Commentary on Virgil's first Eclogue </a:t>
            </a:r>
            <a:r>
              <a:rPr b="1" lang="ca-ES" sz="1800" spc="-1" strike="noStrike">
                <a:solidFill>
                  <a:srgbClr val="376092"/>
                </a:solidFill>
                <a:latin typeface="Courier New"/>
                <a:ea typeface="Courier New"/>
              </a:rPr>
              <a:t>:$bprotocol of the forty-third colloquy, 6 June 1982 /$cWendell Clausen</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505 2# $aEclogue I -- Responses -- Minutes of the colloquy</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Clausen, Wendell,$d1923-2006.$tCommentary on Virgil's first Eclogue </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Virgili Maró, Publi,$d70 aC-19 aC.$tBucolica.</a:t>
            </a:r>
            <a:endParaRPr b="0" lang="en-US" sz="1800" spc="-1" strike="noStrike">
              <a:solidFill>
                <a:srgbClr val="000000"/>
              </a:solidFill>
              <a:latin typeface="Arial"/>
            </a:endParaRPr>
          </a:p>
          <a:p>
            <a:pPr marL="990720" indent="-9907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n1.$lAnglès</a:t>
            </a:r>
            <a:endParaRPr b="0" lang="en-US" sz="1800" spc="-1" strike="noStrike">
              <a:solidFill>
                <a:srgbClr val="000000"/>
              </a:solidFill>
              <a:latin typeface="Arial"/>
            </a:endParaRPr>
          </a:p>
        </p:txBody>
      </p:sp>
      <p:sp>
        <p:nvSpPr>
          <p:cNvPr id="258" name="5 Rectángulo"/>
          <p:cNvSpPr/>
          <p:nvPr/>
        </p:nvSpPr>
        <p:spPr>
          <a:xfrm>
            <a:off x="468360" y="5516640"/>
            <a:ext cx="8207280" cy="9169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rPr>
              <a:t>Concreció 25.1. </a:t>
            </a:r>
            <a:r>
              <a:rPr b="0" lang="ca-ES" sz="1800" spc="-1" strike="noStrike">
                <a:solidFill>
                  <a:srgbClr val="000000"/>
                </a:solidFill>
                <a:latin typeface="Arial"/>
              </a:rPr>
              <a:t>Per compilacions que consisteixen en l’obra original i un comentari separat amb el seu propi títol, es proporcionen </a:t>
            </a:r>
            <a:r>
              <a:rPr b="0" lang="ca-ES" sz="1800" spc="-1" strike="noStrike" u="sng">
                <a:solidFill>
                  <a:srgbClr val="000000"/>
                </a:solidFill>
                <a:uFillTx/>
                <a:latin typeface="Arial"/>
              </a:rPr>
              <a:t>punts d’accés autoritzats per a tots d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457200" y="1599840"/>
            <a:ext cx="8229600" cy="12524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obra es presenta simplement com una edició d’una obra que existia prèviament, tracteu-la com una expressió d’aquesta obra.</a:t>
            </a:r>
            <a:endParaRPr b="0" lang="en-US" sz="2400" spc="-1" strike="noStrike">
              <a:solidFill>
                <a:srgbClr val="000000"/>
              </a:solidFill>
              <a:latin typeface="Calibri"/>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entari, anotacions, contingut il·lustratiu, etc., afegit a una obra que existia prèviament (RDA6.27.1.6 </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61" name="4 Rectángulo"/>
          <p:cNvSpPr/>
          <p:nvPr/>
        </p:nvSpPr>
        <p:spPr>
          <a:xfrm>
            <a:off x="611280" y="3068640"/>
            <a:ext cx="8064360" cy="3003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100 1# $a</a:t>
            </a:r>
            <a:r>
              <a:rPr b="1" lang="en-US" sz="1800" spc="-1" strike="noStrike">
                <a:solidFill>
                  <a:srgbClr val="953735"/>
                </a:solidFill>
                <a:latin typeface="Courier New"/>
                <a:ea typeface="Courier New"/>
              </a:rPr>
              <a:t>Joyce, James,$d1882-1941</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0 10 $a</a:t>
            </a:r>
            <a:r>
              <a:rPr b="1" lang="en-US" sz="1800" spc="-1" strike="noStrike">
                <a:solidFill>
                  <a:srgbClr val="953735"/>
                </a:solidFill>
                <a:latin typeface="Courier New"/>
                <a:ea typeface="Courier New"/>
              </a:rPr>
              <a:t>Dubliner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245 10 $aJames Joyce’s Dubliners :$ban illustration edition with annotations /$c[edited by] John Wyse Jackson &amp; Bernard McGinle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Jackson, John Wys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r>
              <a:rPr b="1" lang="en-US" sz="1800" spc="-1" strike="noStrike">
                <a:solidFill>
                  <a:srgbClr val="376092"/>
                </a:solidFill>
                <a:latin typeface="Courier New"/>
                <a:ea typeface="Courier New"/>
              </a:rPr>
              <a:t>700 1# $aMcGinley, Bernar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Arial"/>
                <a:ea typeface="Courier New"/>
              </a:rPr>
              <a:t>Els punts d'accés per als contribuïdors resten a criteri del catalogador</a:t>
            </a:r>
            <a:endParaRPr b="0" lang="en-US" sz="1800" spc="-1" strike="noStrike">
              <a:solidFill>
                <a:srgbClr val="000000"/>
              </a:solidFill>
              <a:latin typeface="Arial"/>
            </a:endParaRPr>
          </a:p>
        </p:txBody>
      </p:sp>
      <p:sp>
        <p:nvSpPr>
          <p:cNvPr id="26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AB23-9E6C-42C4-A161-B3C8FAFB23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addicionals en els punts d’accés autoritzats que representen les obres</a:t>
            </a:r>
            <a:br>
              <a:rPr sz="3200"/>
            </a:br>
            <a:r>
              <a:rPr b="1" lang="ca-ES" sz="3200" spc="-1" strike="noStrike">
                <a:solidFill>
                  <a:srgbClr val="000000"/>
                </a:solidFill>
                <a:latin typeface="Calibri"/>
              </a:rPr>
              <a:t>(RDA 6.27.1.9)</a:t>
            </a:r>
            <a:endParaRPr b="0" lang="en-US" sz="32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Incloeu elements addicionals en els punts d’accés autoritzats </a:t>
            </a:r>
            <a:r>
              <a:rPr b="1" lang="ca-ES" sz="2800" spc="-1" strike="noStrike" u="sng">
                <a:solidFill>
                  <a:srgbClr val="000000"/>
                </a:solidFill>
                <a:uFillTx/>
                <a:latin typeface="Calibri"/>
              </a:rPr>
              <a:t>si cal distingir en el CCUC </a:t>
            </a:r>
            <a:r>
              <a:rPr b="0" lang="ca-ES" sz="2800" spc="-1" strike="noStrike">
                <a:solidFill>
                  <a:srgbClr val="000000"/>
                </a:solidFill>
                <a:latin typeface="Calibri"/>
              </a:rPr>
              <a:t>el punt d’accés d’una obra que s'està catalogant:</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un altre punt d’accés igual o similar però que representa una obra diferent, </a:t>
            </a:r>
            <a:r>
              <a:rPr b="1" i="1" lang="ca-ES" sz="2600" spc="-1" strike="noStrike">
                <a:solidFill>
                  <a:srgbClr val="000000"/>
                </a:solidFill>
                <a:latin typeface="Calibri"/>
              </a:rPr>
              <a:t>o</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d’un altre punt d’accés que representa una persona, una família, una entitat </a:t>
            </a:r>
            <a:r>
              <a:rPr b="0" lang="ca-ES" sz="2600" spc="-1" strike="noStrike">
                <a:solidFill>
                  <a:srgbClr val="000000"/>
                </a:solidFill>
                <a:latin typeface="Calibri"/>
              </a:rPr>
              <a:t>corporativa o un lloc.</a:t>
            </a:r>
            <a:endParaRPr b="0" lang="en-US" sz="26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ulació dels punts d'accés autoritzats:</a:t>
            </a:r>
            <a:endParaRPr b="0" lang="en-US" sz="28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Començar amb el títol preferit.</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Precedit pel creador, quan correspongui.</a:t>
            </a:r>
            <a:endParaRPr b="0" lang="en-US" sz="2600" spc="-1" strike="noStrike">
              <a:solidFill>
                <a:srgbClr val="000000"/>
              </a:solidFill>
              <a:latin typeface="Calibri"/>
            </a:endParaRPr>
          </a:p>
          <a:p>
            <a:pPr marL="343080" indent="-343080">
              <a:lnSpc>
                <a:spcPct val="80000"/>
              </a:lnSpc>
              <a:spcBef>
                <a:spcPts val="64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ddicions per fer una distinció.</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6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BB160-69B4-4DF0-9009-4C6849A2236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6" name="4 Rectángulo"/>
          <p:cNvSpPr/>
          <p:nvPr/>
        </p:nvSpPr>
        <p:spPr>
          <a:xfrm>
            <a:off x="611280" y="573264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En general no s'ha de preveure un conflicte i, quan es doni, l'addició es farà al recurs que s'està catalogant, no retroactiva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68" name=""/>
          <p:cNvSpPr txBox="1"/>
          <p:nvPr/>
        </p:nvSpPr>
        <p:spPr>
          <a:xfrm>
            <a:off x="457200" y="1599840"/>
            <a:ext cx="8229600" cy="47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a:t>
            </a:r>
            <a:r>
              <a:rPr b="0" lang="ca-ES" sz="2800" spc="-1" strike="noStrike">
                <a:solidFill>
                  <a:srgbClr val="000000"/>
                </a:solidFill>
                <a:latin typeface="Calibri"/>
              </a:rPr>
              <a:t>: amb RDA les obres que són anomenades amb un títol caldrà distingir-les d'altres obres anomenades pel mateix títol.</a:t>
            </a:r>
            <a:endParaRPr b="0" lang="en-US" sz="28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Reglà)</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Història de Catalunya /$cdirecció de Joan Reglà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Història de Catalunya </a:t>
            </a:r>
            <a:r>
              <a:rPr b="1" lang="ca-ES" sz="2000" spc="-1" strike="noStrike">
                <a:solidFill>
                  <a:srgbClr val="953735"/>
                </a:solidFill>
                <a:latin typeface="Courier New"/>
                <a:ea typeface="Courier New"/>
              </a:rPr>
              <a:t>(Vi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00 $aHistòria de Catalunya /$cdirector: Pierre Vila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ea typeface="Courier New"/>
              </a:rPr>
              <a:t>Es tria l'addició més apropiada a criteri del catalogador.</a:t>
            </a:r>
            <a:endParaRPr b="0" lang="en-US" sz="20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9005-135C-4A52-B2EF-6A9CF9B7424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igual o similar però que representa una obra diferent</a:t>
            </a:r>
            <a:endParaRPr b="0" lang="en-US" sz="3200" spc="-1" strike="noStrike">
              <a:solidFill>
                <a:srgbClr val="000000"/>
              </a:solidFill>
              <a:latin typeface="Calibri"/>
            </a:endParaRPr>
          </a:p>
        </p:txBody>
      </p:sp>
      <p:sp>
        <p:nvSpPr>
          <p:cNvPr id="2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Canvi respecte AACR2: </a:t>
            </a:r>
            <a:r>
              <a:rPr b="0" lang="ca-ES" sz="2800" spc="-1" strike="noStrike">
                <a:solidFill>
                  <a:srgbClr val="000000"/>
                </a:solidFill>
                <a:latin typeface="Calibri"/>
              </a:rPr>
              <a:t>amb RDA les obres que són anomenades amb un títol caldrà distingir-les si coincideixen amb el punt d'accés d'una persona, família, entitat corporativa o lloc.</a:t>
            </a:r>
            <a:endParaRPr b="0" lang="en-US" sz="2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30 0# $aCatalunya </a:t>
            </a:r>
            <a:r>
              <a:rPr b="1" lang="ca-ES" sz="2000" spc="-1" strike="noStrike">
                <a:solidFill>
                  <a:srgbClr val="953735"/>
                </a:solidFill>
                <a:latin typeface="Courier New"/>
                <a:ea typeface="Courier New"/>
              </a:rPr>
              <a:t>(Cançons folklòriq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Cataluny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300 ## $a1 disc àudio ;$c30 cm</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Comentari: el títol del disc àudio és idèntic al punt d'accés del lloc.</a:t>
            </a:r>
            <a:endParaRPr b="0" lang="en-US" sz="2000" spc="-1" strike="noStrike">
              <a:solidFill>
                <a:srgbClr val="000000"/>
              </a:solidFill>
              <a:latin typeface="Calibri"/>
            </a:endParaRPr>
          </a:p>
        </p:txBody>
      </p:sp>
      <p:sp>
        <p:nvSpPr>
          <p:cNvPr id="2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2545-A621-43ED-A90A-656A273935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que representen obres</a:t>
            </a:r>
            <a:endParaRPr b="0" lang="en-US" sz="3200" spc="-1" strike="noStrike">
              <a:solidFill>
                <a:srgbClr val="000000"/>
              </a:solidFill>
              <a:latin typeface="Calibri"/>
            </a:endParaRPr>
          </a:p>
        </p:txBody>
      </p:sp>
      <p:sp>
        <p:nvSpPr>
          <p:cNvPr id="274" name=""/>
          <p:cNvSpPr txBox="1"/>
          <p:nvPr/>
        </p:nvSpPr>
        <p:spPr>
          <a:xfrm>
            <a:off x="468360" y="1412640"/>
            <a:ext cx="8229600" cy="5111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rma de l'obra (RDA 6.3)</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ata de l'obra (RDA 6.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loc d'origen de l'obra (RDA 6.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ltra característica distintiva de l'obra (RDA 6.6)</a:t>
            </a:r>
            <a:endParaRPr b="0" lang="en-US" sz="28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No hi ha ordre de prioritat.</a:t>
            </a:r>
            <a:endParaRPr b="0" lang="en-US" sz="3200" spc="-1" strike="noStrike">
              <a:solidFill>
                <a:srgbClr val="000000"/>
              </a:solidFill>
              <a:latin typeface="Calibri"/>
            </a:endParaRPr>
          </a:p>
          <a:p>
            <a:pPr marL="343080" indent="-343080" algn="ctr">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Se'n pot donar més d'una, si cal.</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addicions es donen entre parèntesis. Quan en un punt d'accés en són necessàries més d'una, es separen per "</a:t>
            </a:r>
            <a:r>
              <a:rPr b="0" i="1" lang="ca-ES" sz="2800" spc="-1" strike="noStrike">
                <a:solidFill>
                  <a:srgbClr val="000000"/>
                </a:solidFill>
                <a:latin typeface="Calibri"/>
              </a:rPr>
              <a:t>espai</a:t>
            </a:r>
            <a:r>
              <a:rPr b="0" lang="ca-ES" sz="2800" spc="-1" strike="noStrike">
                <a:solidFill>
                  <a:srgbClr val="000000"/>
                </a:solidFill>
                <a:latin typeface="Calibri"/>
              </a:rPr>
              <a:t> </a:t>
            </a:r>
            <a:r>
              <a:rPr b="0" lang="ca-ES" sz="2800" spc="-1" strike="noStrike">
                <a:solidFill>
                  <a:srgbClr val="376092"/>
                </a:solidFill>
                <a:latin typeface="Calibri"/>
              </a:rPr>
              <a:t>:</a:t>
            </a:r>
            <a:r>
              <a:rPr b="0" lang="ca-ES" sz="2800" spc="-1" strike="noStrike">
                <a:solidFill>
                  <a:srgbClr val="000000"/>
                </a:solidFill>
                <a:latin typeface="Calibri"/>
              </a:rPr>
              <a:t> </a:t>
            </a:r>
            <a:r>
              <a:rPr b="0" i="1" lang="ca-ES" sz="2800" spc="-1" strike="noStrike">
                <a:solidFill>
                  <a:srgbClr val="000000"/>
                </a:solidFill>
                <a:latin typeface="Calibri"/>
              </a:rPr>
              <a:t>espai</a:t>
            </a:r>
            <a:r>
              <a:rPr b="0" lang="ca-ES" sz="2800" spc="-1" strike="noStrike">
                <a:solidFill>
                  <a:srgbClr val="000000"/>
                </a:solidFill>
                <a:latin typeface="Calibri"/>
              </a:rPr>
              <a:t>".</a:t>
            </a:r>
            <a:endParaRPr b="0" lang="en-US" sz="2800" spc="-1" strike="noStrike">
              <a:solidFill>
                <a:srgbClr val="000000"/>
              </a:solidFill>
              <a:latin typeface="Calibri"/>
            </a:endParaRPr>
          </a:p>
        </p:txBody>
      </p:sp>
      <p:sp>
        <p:nvSpPr>
          <p:cNvPr id="2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ABD0-2EB1-41AD-BE8E-E7AF81BAFBD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Forma de l'obra (RDA 6.3)</a:t>
            </a:r>
            <a:endParaRPr b="0" lang="en-US" sz="3200" spc="-1" strike="noStrike">
              <a:solidFill>
                <a:srgbClr val="000000"/>
              </a:solidFill>
              <a:latin typeface="Calibri"/>
            </a:endParaRPr>
          </a:p>
        </p:txBody>
      </p:sp>
      <p:sp>
        <p:nvSpPr>
          <p:cNvPr id="277" name=""/>
          <p:cNvSpPr txBox="1"/>
          <p:nvPr/>
        </p:nvSpPr>
        <p:spPr>
          <a:xfrm>
            <a:off x="456840" y="1600200"/>
            <a:ext cx="8435880" cy="4781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a:t>
            </a:r>
            <a:r>
              <a:rPr b="0" lang="it-IT" sz="2500" spc="-1" strike="noStrike">
                <a:solidFill>
                  <a:srgbClr val="000000"/>
                </a:solidFill>
                <a:latin typeface="Calibri"/>
              </a:rPr>
              <a:t>és una classe o un gènere al qual pertany l’obra.</a:t>
            </a:r>
            <a:r>
              <a:rPr b="0" lang="ca-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er tant, no cal utilitzar un vocabulari control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Les addicions es donen després del títol preferit entre parèntesis.</a:t>
            </a:r>
            <a:endParaRPr b="0" lang="en-US" sz="25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700" spc="-1" strike="noStrike">
                <a:solidFill>
                  <a:srgbClr val="000000"/>
                </a:solidFill>
                <a:latin typeface="Courier New"/>
                <a:ea typeface="Courier New"/>
              </a:rPr>
              <a:t>Ex.: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ràdio)</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700" spc="-1" strike="noStrike">
                <a:solidFill>
                  <a:srgbClr val="376092"/>
                </a:solidFill>
                <a:latin typeface="Courier New"/>
                <a:ea typeface="Courier New"/>
              </a:rPr>
              <a:t>130 0# $aWar of the worlds </a:t>
            </a:r>
            <a:r>
              <a:rPr b="1" lang="ca-ES" sz="1700" spc="-1" strike="noStrike">
                <a:solidFill>
                  <a:srgbClr val="953735"/>
                </a:solidFill>
                <a:latin typeface="Courier New"/>
                <a:ea typeface="Courier New"/>
              </a:rPr>
              <a:t>(Programa de televisió)</a:t>
            </a:r>
            <a:endParaRPr b="0" lang="en-US" sz="1700" spc="-1" strike="noStrike">
              <a:solidFill>
                <a:srgbClr val="000000"/>
              </a:solidFill>
              <a:latin typeface="Calibri"/>
            </a:endParaRPr>
          </a:p>
          <a:p>
            <a:pPr marL="343080" indent="-34308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ó 6.3: </a:t>
            </a:r>
            <a:r>
              <a:rPr b="1" lang="ca-ES" sz="2500" spc="-1" strike="noStrike">
                <a:solidFill>
                  <a:srgbClr val="000000"/>
                </a:solidFill>
                <a:latin typeface="Calibri"/>
              </a:rPr>
              <a:t>ELEMENT BÀSIC PER A LA BC I EL CCUC</a:t>
            </a:r>
            <a:r>
              <a:rPr b="0" lang="ca-ES" sz="2500" spc="-1" strike="noStrike">
                <a:solidFill>
                  <a:srgbClr val="000000"/>
                </a:solidFill>
                <a:latin typeface="Calibri"/>
              </a:rPr>
              <a:t>, per a pel·lícules cinematogràfiques, programes de ràdio i televisió, encara que no hi hagi conflicte.</a:t>
            </a:r>
            <a:endParaRPr b="0" lang="en-US" sz="2500" spc="-1" strike="noStrike">
              <a:solidFill>
                <a:srgbClr val="000000"/>
              </a:solidFill>
              <a:latin typeface="Calibri"/>
            </a:endParaRPr>
          </a:p>
        </p:txBody>
      </p:sp>
      <p:sp>
        <p:nvSpPr>
          <p:cNvPr id="2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F4BE6-1519-40CA-9BD6-AB2530968E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Data de l'obra (RDA 6.4)</a:t>
            </a:r>
            <a:endParaRPr b="0" lang="en-US" sz="3200" spc="-1" strike="noStrike">
              <a:solidFill>
                <a:srgbClr val="000000"/>
              </a:solidFill>
              <a:latin typeface="Calibri"/>
            </a:endParaRPr>
          </a:p>
        </p:txBody>
      </p:sp>
      <p:sp>
        <p:nvSpPr>
          <p:cNvPr id="280" name=""/>
          <p:cNvSpPr txBox="1"/>
          <p:nvPr/>
        </p:nvSpPr>
        <p:spPr>
          <a:xfrm>
            <a:off x="456840" y="1600200"/>
            <a:ext cx="843588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a:t>
            </a:r>
            <a:r>
              <a:rPr b="0" i="1" lang="ca-ES" sz="3000" spc="-1" strike="noStrike">
                <a:solidFill>
                  <a:srgbClr val="000000"/>
                </a:solidFill>
                <a:latin typeface="Calibri"/>
              </a:rPr>
              <a:t>quan és necessari per diferenciar</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la data més antiga associada amb una obra."</a:t>
            </a:r>
            <a:endParaRPr b="0" lang="en-US" sz="3000" spc="-1" strike="noStrike">
              <a:solidFill>
                <a:srgbClr val="000000"/>
              </a:solidFill>
              <a:latin typeface="Calibri"/>
            </a:endParaRPr>
          </a:p>
          <a:p>
            <a:pPr lvl="1" marL="735480" indent="-2829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600" spc="-1" strike="noStrike">
                <a:solidFill>
                  <a:srgbClr val="000000"/>
                </a:solidFill>
                <a:latin typeface="Calibri"/>
              </a:rPr>
              <a:t>(creada, publicada per primera vegada, o editada)</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qualsevol font.</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més any(s). </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addicions es donen després del títol preferit entre parèntesis.</a:t>
            </a:r>
            <a:endParaRPr b="0" lang="en-US" sz="30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762)</a:t>
            </a:r>
            <a:endParaRPr b="0" lang="en-US" sz="2400" spc="-1" strike="noStrike">
              <a:solidFill>
                <a:srgbClr val="000000"/>
              </a:solidFill>
              <a:latin typeface="Calibri"/>
            </a:endParaRPr>
          </a:p>
          <a:p>
            <a:pPr marL="339480" indent="-3394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Dublin magazine </a:t>
            </a:r>
            <a:r>
              <a:rPr b="1" lang="ca-ES" sz="2400" spc="-1" strike="noStrike">
                <a:solidFill>
                  <a:srgbClr val="953735"/>
                </a:solidFill>
                <a:latin typeface="Courier New"/>
                <a:ea typeface="Courier New"/>
              </a:rPr>
              <a:t>(1965)</a:t>
            </a:r>
            <a:endParaRPr b="0" lang="en-US" sz="24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a:p>
            <a:pPr marL="339480" indent="-3394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
        <p:nvSpPr>
          <p:cNvPr id="2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9181-5882-40BE-9C37-1C8F17C4ED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Lloc d'origen de l'obra (RDA 6.5)</a:t>
            </a:r>
            <a:endParaRPr b="0" lang="en-US" sz="3200" spc="-1" strike="noStrike">
              <a:solidFill>
                <a:srgbClr val="000000"/>
              </a:solidFill>
              <a:latin typeface="Calibri"/>
            </a:endParaRPr>
          </a:p>
        </p:txBody>
      </p:sp>
      <p:sp>
        <p:nvSpPr>
          <p:cNvPr id="283" name=""/>
          <p:cNvSpPr txBox="1"/>
          <p:nvPr/>
        </p:nvSpPr>
        <p:spPr>
          <a:xfrm>
            <a:off x="456840" y="1600200"/>
            <a:ext cx="84358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el país o qualsevol altra jurisdicció territorial on l’obra es va origin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 la forma prescrita al capítol 16 (</a:t>
            </a:r>
            <a:r>
              <a:rPr b="1" lang="ca-ES" sz="2700" spc="-1" strike="noStrike" u="sng">
                <a:solidFill>
                  <a:srgbClr val="000000"/>
                </a:solidFill>
                <a:uFillTx/>
                <a:latin typeface="Calibri"/>
              </a:rPr>
              <a:t>NO</a:t>
            </a:r>
            <a:r>
              <a:rPr b="0" lang="ca-ES" sz="2700" spc="-1" strike="noStrike">
                <a:solidFill>
                  <a:srgbClr val="000000"/>
                </a:solidFill>
                <a:latin typeface="Calibri"/>
              </a:rPr>
              <a:t> </a:t>
            </a:r>
            <a:r>
              <a:rPr b="0" lang="ca-ES" sz="2700" spc="-1" strike="noStrike" u="sng">
                <a:solidFill>
                  <a:srgbClr val="000000"/>
                </a:solidFill>
                <a:uFillTx/>
                <a:latin typeface="Calibri"/>
              </a:rPr>
              <a:t>s'utilitza l'Apèndix B.11</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Boise, Idaho)</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30 0# $aAdvocat </a:t>
            </a:r>
            <a:r>
              <a:rPr b="1" lang="ca-ES" sz="2400" spc="-1" strike="noStrike">
                <a:solidFill>
                  <a:srgbClr val="953735"/>
                </a:solidFill>
                <a:latin typeface="Courier New"/>
                <a:ea typeface="Courier New"/>
              </a:rPr>
              <a:t>(Nairobi, Kenya)</a:t>
            </a:r>
            <a:endParaRPr b="0" lang="en-US" sz="2400" spc="-1" strike="noStrike">
              <a:solidFill>
                <a:srgbClr val="000000"/>
              </a:solidFill>
              <a:latin typeface="Calibri"/>
            </a:endParaRPr>
          </a:p>
        </p:txBody>
      </p:sp>
      <p:sp>
        <p:nvSpPr>
          <p:cNvPr id="2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EB02F-2011-4098-9005-DD7E6B8661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a:t>
            </a:r>
            <a:r>
              <a:rPr b="1" lang="ca-ES" sz="3200" spc="-1" strike="noStrike">
                <a:solidFill>
                  <a:srgbClr val="376092"/>
                </a:solidFill>
                <a:latin typeface="Calibri"/>
              </a:rPr>
              <a:t>:</a:t>
            </a:r>
            <a:r>
              <a:rPr b="1" lang="ca-ES" sz="3200" spc="-1" strike="noStrike">
                <a:solidFill>
                  <a:srgbClr val="000000"/>
                </a:solidFill>
                <a:latin typeface="Calibri"/>
              </a:rPr>
              <a:t> Títol de l’obra </a:t>
            </a:r>
            <a:endParaRPr b="0" lang="en-US" sz="3200" spc="-1" strike="noStrike">
              <a:solidFill>
                <a:srgbClr val="000000"/>
              </a:solidFill>
              <a:latin typeface="Calibri"/>
            </a:endParaRPr>
          </a:p>
        </p:txBody>
      </p:sp>
      <p:sp>
        <p:nvSpPr>
          <p:cNvPr id="79" name=""/>
          <p:cNvSpPr txBox="1"/>
          <p:nvPr/>
        </p:nvSpPr>
        <p:spPr>
          <a:xfrm>
            <a:off x="457200" y="1268280"/>
            <a:ext cx="8229600" cy="48578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de l'obra </a:t>
            </a:r>
            <a:r>
              <a:rPr b="0" lang="ca-ES" sz="2600" spc="-1" strike="noStrike">
                <a:solidFill>
                  <a:srgbClr val="000000"/>
                </a:solidFill>
                <a:latin typeface="Calibri"/>
              </a:rPr>
              <a:t>fa referència al títol o títols pels quals es coneix una obra.</a:t>
            </a:r>
            <a:r>
              <a:rPr b="1" lang="ca-ES" sz="2600" spc="-1" strike="noStrike">
                <a:solidFill>
                  <a:srgbClr val="000000"/>
                </a:solidFill>
                <a:latin typeface="Calibri"/>
              </a:rPr>
              <a:t> </a:t>
            </a:r>
            <a:r>
              <a:rPr b="0" lang="ca-ES" sz="2600" spc="-1" strike="noStrike">
                <a:solidFill>
                  <a:srgbClr val="000000"/>
                </a:solidFill>
                <a:latin typeface="Calibri"/>
              </a:rPr>
              <a:t>RDA </a:t>
            </a:r>
            <a:r>
              <a:rPr b="0" lang="ca-ES" sz="2600" spc="-1" strike="noStrike" u="sng">
                <a:solidFill>
                  <a:srgbClr val="000000"/>
                </a:solidFill>
                <a:uFillTx/>
                <a:latin typeface="Calibri"/>
              </a:rPr>
              <a:t>distingeix dues categories:</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Títol preferit de l'obra</a:t>
            </a:r>
            <a:r>
              <a:rPr b="0" lang="ca-ES" sz="2600" spc="-1" strike="noStrike">
                <a:solidFill>
                  <a:srgbClr val="000000"/>
                </a:solidFill>
                <a:latin typeface="Calibri"/>
              </a:rPr>
              <a:t> (RDA 6.2.2.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el títol o la forma de títol triat per identificar l’obra", és a dir, la forma del títol usada quan es construeix el punt d'accés autoritzat.</a:t>
            </a:r>
            <a:endParaRPr b="0" lang="en-US" sz="2600" spc="-1" strike="noStrike">
              <a:solidFill>
                <a:srgbClr val="000000"/>
              </a:solidFill>
              <a:latin typeface="Calibri"/>
            </a:endParaRPr>
          </a:p>
          <a:p>
            <a:pPr>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Variant de títol de l'obra </a:t>
            </a:r>
            <a:r>
              <a:rPr b="0" lang="ca-ES" sz="2600" spc="-1" strike="noStrike">
                <a:solidFill>
                  <a:srgbClr val="000000"/>
                </a:solidFill>
                <a:latin typeface="Calibri"/>
              </a:rPr>
              <a:t>(RDA 6.2.3.1)</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és un títol o una forma de títol pel qual es coneix l’obra i que difereix del títol o la forma de títol triat com a títol preferit de l’obra", és a dir, la forma usada per construir un punt d'accés variant (=les referències vegeu en un registre d'autoritat). </a:t>
            </a:r>
            <a:endParaRPr b="0" lang="en-US" sz="2600" spc="-1" strike="noStrike">
              <a:solidFill>
                <a:srgbClr val="000000"/>
              </a:solidFill>
              <a:latin typeface="Calibri"/>
            </a:endParaRPr>
          </a:p>
        </p:txBody>
      </p:sp>
      <p:sp>
        <p:nvSpPr>
          <p:cNvPr id="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6F710-2615-40E8-BE9C-D7BF748928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a:t>
            </a:r>
            <a:br>
              <a:rPr sz="3200"/>
            </a:br>
            <a:r>
              <a:rPr b="1" lang="ca-ES" sz="3200" spc="-1" strike="noStrike">
                <a:solidFill>
                  <a:srgbClr val="000000"/>
                </a:solidFill>
                <a:latin typeface="Calibri"/>
              </a:rPr>
              <a:t>Altra característica distintiva (RDA 6.6)</a:t>
            </a:r>
            <a:endParaRPr b="0" lang="en-US" sz="3200" spc="-1" strike="noStrike">
              <a:solidFill>
                <a:srgbClr val="000000"/>
              </a:solidFill>
              <a:latin typeface="Calibri"/>
            </a:endParaRPr>
          </a:p>
        </p:txBody>
      </p:sp>
      <p:sp>
        <p:nvSpPr>
          <p:cNvPr id="286" name=""/>
          <p:cNvSpPr txBox="1"/>
          <p:nvPr/>
        </p:nvSpPr>
        <p:spPr>
          <a:xfrm>
            <a:off x="457200" y="1600200"/>
            <a:ext cx="8229600" cy="49975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 la forma de l’obra, la data de l’obra o el lloc d’origen de l’obra. Serveix per distingir una obra d’una altra obra amb el mateix títol o per diferenciar-la del nom d’una persona, una família o una entitat corporativa."</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De vegades s'utilitza una entitat editora; en aquest cas s'ha d'enregistrar en la forma establerta a CANTI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es addicions es donen després del títol preferit entre parèntesis.</a:t>
            </a:r>
            <a:endParaRPr b="0" lang="en-US" sz="2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ourier New"/>
                <a:ea typeface="Courier New"/>
              </a:rPr>
              <a:t>Ex.: </a:t>
            </a:r>
            <a:r>
              <a:rPr b="1" lang="ca-ES" sz="2400" spc="-1" strike="noStrike">
                <a:solidFill>
                  <a:srgbClr val="376092"/>
                </a:solidFill>
                <a:latin typeface="Courier New"/>
                <a:ea typeface="Courier New"/>
              </a:rPr>
              <a:t>Mas magazine (</a:t>
            </a:r>
            <a:r>
              <a:rPr b="1" lang="ca-ES" sz="2400" spc="-1" strike="noStrike">
                <a:solidFill>
                  <a:srgbClr val="953735"/>
                </a:solidFill>
                <a:latin typeface="Courier New"/>
                <a:ea typeface="Courier New"/>
              </a:rPr>
              <a:t>Fashion &amp; Fun (Firma</a:t>
            </a:r>
            <a:r>
              <a:rPr b="1" lang="ca-ES" sz="2400" spc="-1" strike="noStrike">
                <a:solidFill>
                  <a:srgbClr val="953735"/>
                </a:solidFill>
                <a:latin typeface="Calibri"/>
                <a:ea typeface="Courier New"/>
              </a:rPr>
              <a:t>)</a:t>
            </a:r>
            <a:r>
              <a:rPr b="1" lang="ca-ES" sz="2400" spc="-1" strike="noStrike">
                <a:solidFill>
                  <a:srgbClr val="376092"/>
                </a:solidFill>
                <a:latin typeface="Calibri"/>
                <a:ea typeface="Courier New"/>
              </a:rPr>
              <a:t>)</a:t>
            </a:r>
            <a:endParaRPr b="0" lang="en-US" sz="2400" spc="-1" strike="noStrike">
              <a:solidFill>
                <a:srgbClr val="000000"/>
              </a:solidFill>
              <a:latin typeface="Calibri"/>
            </a:endParaRPr>
          </a:p>
        </p:txBody>
      </p:sp>
      <p:sp>
        <p:nvSpPr>
          <p:cNvPr id="2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CF4A-7638-45E2-B6CB-AF81AB397B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Lleis que regeixen en una jurisdicció</a:t>
            </a:r>
            <a:endParaRPr b="0" lang="en-US" sz="3200" spc="-1" strike="noStrike">
              <a:solidFill>
                <a:srgbClr val="000000"/>
              </a:solidFill>
              <a:latin typeface="Calibri"/>
            </a:endParaRPr>
          </a:p>
        </p:txBody>
      </p:sp>
      <p:sp>
        <p:nvSpPr>
          <p:cNvPr id="289" name=""/>
          <p:cNvSpPr txBox="1"/>
          <p:nvPr/>
        </p:nvSpPr>
        <p:spPr>
          <a:xfrm>
            <a:off x="468360" y="1413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ilacions de lleis, etc. (6.19.2.5.1 -6.29.1.2)</a:t>
            </a:r>
            <a:endParaRPr b="0" lang="en-US" sz="2800" spc="-1" strike="noStrike">
              <a:solidFill>
                <a:srgbClr val="000000"/>
              </a:solidFill>
              <a:latin typeface="Calibri"/>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o s'utilitza el títol col·lectiu convencional "</a:t>
            </a:r>
            <a:r>
              <a:rPr b="0" i="1" lang="ca-ES" sz="2400" spc="-1" strike="noStrike">
                <a:solidFill>
                  <a:srgbClr val="000000"/>
                </a:solidFill>
                <a:latin typeface="Calibri"/>
              </a:rPr>
              <a:t>Lleis, etc</a:t>
            </a:r>
            <a:r>
              <a:rPr b="0" lang="ca-ES" sz="2400" spc="-1" strike="noStrike">
                <a:solidFill>
                  <a:srgbClr val="000000"/>
                </a:solidFill>
                <a:latin typeface="Calibri"/>
              </a:rPr>
              <a:t>." per a reculls general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0 10 $a</a:t>
            </a:r>
            <a:r>
              <a:rPr b="1" lang="ca-ES" sz="2000" spc="-1" strike="noStrike">
                <a:solidFill>
                  <a:srgbClr val="953735"/>
                </a:solidFill>
                <a:latin typeface="Courier New"/>
                <a:ea typeface="Courier New"/>
              </a:rPr>
              <a:t>Lleis, etc.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10 1# $aItàli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accolta ufficiale degli atti normativi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della Repubblica italiana</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D28D4-E189-41C7-9883-7708A9C8B5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Tractats (RDA 6.19.2.7, RDA 6.29.1.30.2)</a:t>
            </a:r>
            <a:endParaRPr b="0" lang="en-US" sz="3200" spc="-1" strike="noStrike">
              <a:solidFill>
                <a:srgbClr val="000000"/>
              </a:solidFill>
              <a:latin typeface="Calibri"/>
            </a:endParaRPr>
          </a:p>
        </p:txBody>
      </p:sp>
      <p:sp>
        <p:nvSpPr>
          <p:cNvPr id="292" name=""/>
          <p:cNvSpPr txBox="1"/>
          <p:nvPr/>
        </p:nvSpPr>
        <p:spPr>
          <a:xfrm>
            <a:off x="468360" y="1341360"/>
            <a:ext cx="8229600" cy="5112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Un tractat: </a:t>
            </a:r>
            <a:r>
              <a:rPr b="0" lang="ca-ES" sz="2500" spc="-1" strike="noStrike">
                <a:solidFill>
                  <a:srgbClr val="000000"/>
                </a:solidFill>
                <a:latin typeface="Calibri"/>
              </a:rPr>
              <a:t>El títol preferit s’enregistra a partir del títol oficial, el títol curt o qualsevol altra designació oficial. Els signataris o participants no formen part del punt d'accés autoritzat. </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10 1# $aEspanya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0 10 $aTractats, etc.$gGran Bretanya,$d1793 maig 25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710 1# $aGran Bretanya.$tTractats, etc.$gEspanya,$d1793</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 </a:t>
            </a:r>
            <a:r>
              <a:rPr b="1" lang="ca-ES" sz="1900" spc="-1" strike="noStrike">
                <a:solidFill>
                  <a:srgbClr val="376092"/>
                </a:solidFill>
                <a:latin typeface="Courier New"/>
                <a:ea typeface="Courier New"/>
              </a:rPr>
              <a:t>maig 25 </a:t>
            </a:r>
            <a:endParaRPr b="0" lang="en-US" sz="1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RDA;</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Tratado de Aranjuez$d(1793 maig 25)</a:t>
            </a:r>
            <a:endParaRPr b="0" lang="en-US" sz="19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Compilació de tractats:</a:t>
            </a:r>
            <a:r>
              <a:rPr b="0" lang="ca-ES" sz="2500" spc="-1" strike="noStrike">
                <a:solidFill>
                  <a:srgbClr val="000000"/>
                </a:solidFill>
                <a:latin typeface="Calibri"/>
              </a:rPr>
              <a:t> s'afegeix la data o les dates inclusives.</a:t>
            </a:r>
            <a:endParaRPr b="0" lang="en-US" sz="25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	</a:t>
            </a: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Tractat d’Utrecht$d(1713–1715)</a:t>
            </a:r>
            <a:endParaRPr b="0" lang="en-US" sz="20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6022-131C-426F-9007-DC1678B3671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Bíblia (RDA 6.23.2.9, RDA </a:t>
            </a:r>
            <a:r>
              <a:rPr b="1" lang="en-US" sz="3200" spc="-1" strike="noStrike">
                <a:solidFill>
                  <a:srgbClr val="000000"/>
                </a:solidFill>
                <a:latin typeface="Calibri"/>
              </a:rPr>
              <a:t>6.30.2.2</a:t>
            </a:r>
            <a:r>
              <a:rPr b="1" lang="ca-ES" sz="3200" spc="-1" strike="noStrike">
                <a:solidFill>
                  <a:srgbClr val="000000"/>
                </a:solidFill>
                <a:latin typeface="Calibri"/>
              </a:rPr>
              <a:t>)</a:t>
            </a:r>
            <a:endParaRPr b="0" lang="en-US" sz="32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Testaments </a:t>
            </a:r>
            <a:r>
              <a:rPr b="0" lang="ca-ES" sz="2700" spc="-1" strike="noStrike">
                <a:solidFill>
                  <a:srgbClr val="000000"/>
                </a:solidFill>
                <a:latin typeface="Calibri"/>
              </a:rPr>
              <a:t>(RDA 6.23.2.9.1)</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l’Antic Testament, enregistreu </a:t>
            </a:r>
            <a:r>
              <a:rPr b="1" i="1" lang="ca-ES" sz="2400" spc="-1" strike="noStrike">
                <a:solidFill>
                  <a:srgbClr val="376092"/>
                </a:solidFill>
                <a:latin typeface="Calibri"/>
              </a:rPr>
              <a:t>Antic Testament </a:t>
            </a:r>
            <a:r>
              <a:rPr b="0" i="1" lang="ca-ES" sz="2400" spc="-1" strike="noStrike">
                <a:solidFill>
                  <a:srgbClr val="000000"/>
                </a:solidFill>
                <a:latin typeface="Calibri"/>
              </a:rPr>
              <a:t>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l Nou Testament, enregistreu </a:t>
            </a:r>
            <a:r>
              <a:rPr b="1" i="1" lang="ca-ES" sz="2400" spc="-1" strike="noStrike">
                <a:solidFill>
                  <a:srgbClr val="376092"/>
                </a:solidFill>
                <a:latin typeface="Calibri"/>
              </a:rPr>
              <a:t>Nou Testament</a:t>
            </a:r>
            <a:r>
              <a:rPr b="0" i="1" lang="ca-ES" sz="2400" spc="-1" strike="noStrike">
                <a:solidFill>
                  <a:srgbClr val="000000"/>
                </a:solidFill>
                <a:latin typeface="Calibri"/>
              </a:rPr>
              <a:t> com a subdivisió del títol </a:t>
            </a:r>
            <a:r>
              <a:rPr b="0" lang="ca-ES" sz="2400" spc="-1" strike="noStrike">
                <a:solidFill>
                  <a:srgbClr val="000000"/>
                </a:solidFill>
                <a:latin typeface="Calibri"/>
              </a:rPr>
              <a:t>preferit de la Bíblia. (</a:t>
            </a:r>
            <a:r>
              <a:rPr b="0" i="1" lang="ca-ES" sz="2400" spc="-1" strike="noStrike">
                <a:solidFill>
                  <a:srgbClr val="000000"/>
                </a:solidFill>
                <a:latin typeface="Calibri"/>
              </a:rPr>
              <a:t>No "N.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Llibres i grups de llibres </a:t>
            </a:r>
            <a:r>
              <a:rPr b="0" lang="ca-ES" sz="2700" spc="-1" strike="noStrike">
                <a:solidFill>
                  <a:srgbClr val="000000"/>
                </a:solidFill>
                <a:latin typeface="Calibri"/>
              </a:rPr>
              <a:t>(RDA 6.23.2.9.2-6.23.2.9.3)</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un llibre (o grup) del cànon catòlic o protestant, enregistreu el títol preferit </a:t>
            </a:r>
            <a:r>
              <a:rPr b="0" lang="ca-ES" sz="2400" spc="-1" strike="noStrike" u="sng">
                <a:solidFill>
                  <a:srgbClr val="000000"/>
                </a:solidFill>
                <a:uFillTx/>
                <a:latin typeface="Calibri"/>
              </a:rPr>
              <a:t>en català* </a:t>
            </a:r>
            <a:r>
              <a:rPr b="0" lang="ca-ES" sz="2400" spc="-1" strike="noStrike">
                <a:solidFill>
                  <a:srgbClr val="000000"/>
                </a:solidFill>
                <a:latin typeface="Calibri"/>
              </a:rPr>
              <a:t>(vegeu </a:t>
            </a:r>
            <a:r>
              <a:rPr b="1" i="1" lang="ca-ES" sz="2400" spc="-1" strike="noStrike">
                <a:solidFill>
                  <a:srgbClr val="000000"/>
                </a:solidFill>
                <a:latin typeface="Calibri"/>
              </a:rPr>
              <a:t>Concreció 6.23.2.9.2</a:t>
            </a:r>
            <a:r>
              <a:rPr b="1" lang="ca-ES" sz="2400" spc="-1" strike="noStrike">
                <a:solidFill>
                  <a:srgbClr val="000000"/>
                </a:solidFill>
                <a:latin typeface="Calibri"/>
              </a:rPr>
              <a:t> i </a:t>
            </a:r>
            <a:r>
              <a:rPr b="1" i="1" lang="ca-ES" sz="2400" spc="-1" strike="noStrike">
                <a:solidFill>
                  <a:srgbClr val="000000"/>
                </a:solidFill>
                <a:latin typeface="Calibri"/>
              </a:rPr>
              <a:t>6.23.2.9.3</a:t>
            </a:r>
            <a:r>
              <a:rPr b="1" lang="ca-ES" sz="2400" spc="-1" strike="noStrike">
                <a:solidFill>
                  <a:srgbClr val="000000"/>
                </a:solidFill>
                <a:latin typeface="Calibri"/>
              </a:rPr>
              <a:t> </a:t>
            </a:r>
            <a:r>
              <a:rPr b="0" lang="ca-ES" sz="2400" spc="-1" strike="noStrike">
                <a:solidFill>
                  <a:srgbClr val="000000"/>
                </a:solidFill>
                <a:latin typeface="Calibri"/>
              </a:rPr>
              <a:t>la llista de llibres i grups de llibr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 </a:t>
            </a:r>
            <a:r>
              <a:rPr b="0" lang="ca-ES" sz="2400" spc="-1" strike="noStrike" u="sng">
                <a:solidFill>
                  <a:srgbClr val="000000"/>
                </a:solidFill>
                <a:uFillTx/>
                <a:latin typeface="Calibri"/>
              </a:rPr>
              <a:t>Enregistreu el títol com una subdivisió del títol preferit de la Bíblia.</a:t>
            </a:r>
            <a:endParaRPr b="0" lang="en-US" sz="2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t>
            </a:r>
            <a:r>
              <a:rPr b="0" i="1" lang="ca-ES" sz="2000" spc="-1" strike="noStrike">
                <a:solidFill>
                  <a:srgbClr val="000000"/>
                </a:solidFill>
                <a:latin typeface="Calibri"/>
              </a:rPr>
              <a:t>S'utilitza la forma de citació breu de la Bíblia catalana interconfessional.</a:t>
            </a:r>
            <a:endParaRPr b="0" lang="en-US" sz="2000" spc="-1" strike="noStrike">
              <a:solidFill>
                <a:srgbClr val="000000"/>
              </a:solidFill>
              <a:latin typeface="Calibri"/>
            </a:endParaRPr>
          </a:p>
        </p:txBody>
      </p:sp>
      <p:sp>
        <p:nvSpPr>
          <p:cNvPr id="2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629C1-1E3C-4DEF-98E0-F344FE0766B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6836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arts de la Bíblia </a:t>
            </a:r>
            <a:endParaRPr b="0" lang="en-US" sz="3200" spc="-1" strike="noStrike">
              <a:solidFill>
                <a:srgbClr val="000000"/>
              </a:solidFill>
              <a:latin typeface="Calibri"/>
            </a:endParaRPr>
          </a:p>
        </p:txBody>
      </p:sp>
      <p:sp>
        <p:nvSpPr>
          <p:cNvPr id="298" name="PlaceHolder 2"/>
          <p:cNvSpPr>
            <a:spLocks noGrp="1"/>
          </p:cNvSpPr>
          <p:nvPr>
            <p:ph/>
          </p:nvPr>
        </p:nvSpPr>
        <p:spPr>
          <a:xfrm>
            <a:off x="250920" y="980640"/>
            <a:ext cx="40399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ACR2 </a:t>
            </a:r>
            <a:endParaRPr b="0" lang="en-US" sz="2200" spc="-1" strike="noStrike">
              <a:solidFill>
                <a:srgbClr val="000000"/>
              </a:solidFill>
              <a:latin typeface="Calibri"/>
            </a:endParaRPr>
          </a:p>
        </p:txBody>
      </p:sp>
      <p:sp>
        <p:nvSpPr>
          <p:cNvPr id="299" name=""/>
          <p:cNvSpPr txBox="1"/>
          <p:nvPr/>
        </p:nvSpPr>
        <p:spPr>
          <a:xfrm>
            <a:off x="250560" y="1341360"/>
            <a:ext cx="4321080" cy="3743280"/>
          </a:xfrm>
          <a:prstGeom prst="rect">
            <a:avLst/>
          </a:prstGeom>
          <a:noFill/>
          <a:ln w="9360">
            <a:solidFill>
              <a:srgbClr val="000000"/>
            </a:solidFill>
            <a:miter/>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Corintis, 1a</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Gènesi XI, 26-XX, 18</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a:t>
            </a:r>
            <a:r>
              <a:rPr b="1" lang="en-US" sz="2200" spc="-1" strike="noStrike">
                <a:solidFill>
                  <a:srgbClr val="376092"/>
                </a:solidFill>
                <a:latin typeface="Calibri"/>
              </a:rPr>
              <a:t>.$pPentateuc</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N.T</a:t>
            </a:r>
            <a:r>
              <a:rPr b="1" lang="en-US" sz="2200" spc="-1" strike="noStrike">
                <a:solidFill>
                  <a:srgbClr val="376092"/>
                </a:solidFill>
                <a:latin typeface="Calibri"/>
              </a:rPr>
              <a:t>.$pEvangeli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1" lang="en-US" sz="2200" spc="-1" strike="noStrike" u="sng">
                <a:solidFill>
                  <a:srgbClr val="376092"/>
                </a:solidFill>
                <a:uFillTx/>
                <a:latin typeface="Calibri"/>
              </a:rPr>
              <a:t>A.T.$pDeuterocanònics</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a:t>
            </a:r>
            <a:r>
              <a:rPr b="1" lang="en-US" sz="2200" spc="-1" strike="noStrike">
                <a:solidFill>
                  <a:srgbClr val="376092"/>
                </a:solidFill>
                <a:latin typeface="Calibri"/>
              </a:rPr>
              <a:t>$p</a:t>
            </a:r>
            <a:r>
              <a:rPr b="1" lang="en-US" sz="2200" spc="-1" strike="noStrike" u="sng">
                <a:solidFill>
                  <a:srgbClr val="376092"/>
                </a:solidFill>
                <a:uFillTx/>
                <a:latin typeface="Calibri"/>
              </a:rPr>
              <a:t>A.T. pApòcrifs.$</a:t>
            </a:r>
            <a:r>
              <a:rPr b="1" lang="en-US" sz="2200" spc="-1" strike="noStrike">
                <a:solidFill>
                  <a:srgbClr val="376092"/>
                </a:solidFill>
                <a:latin typeface="Calibri"/>
              </a:rPr>
              <a:t>p </a:t>
            </a:r>
            <a:r>
              <a:rPr b="1" lang="ca-ES" sz="2200" spc="-1" strike="noStrike">
                <a:solidFill>
                  <a:srgbClr val="376092"/>
                </a:solidFill>
                <a:latin typeface="Calibri"/>
              </a:rPr>
              <a:t>Pregària de Manassés</a:t>
            </a:r>
            <a:endParaRPr b="0" lang="en-US" sz="2200" spc="-1" strike="noStrike">
              <a:solidFill>
                <a:srgbClr val="000000"/>
              </a:solidFill>
              <a:latin typeface="Calibri"/>
            </a:endParaRPr>
          </a:p>
        </p:txBody>
      </p:sp>
      <p:sp>
        <p:nvSpPr>
          <p:cNvPr id="300" name="PlaceHolder 3"/>
          <p:cNvSpPr>
            <a:spLocks noGrp="1"/>
          </p:cNvSpPr>
          <p:nvPr>
            <p:ph/>
          </p:nvPr>
        </p:nvSpPr>
        <p:spPr>
          <a:xfrm>
            <a:off x="4787640" y="907560"/>
            <a:ext cx="4041720" cy="381240"/>
          </a:xfrm>
          <a:prstGeom prst="rect">
            <a:avLst/>
          </a:prstGeom>
          <a:noFill/>
          <a:ln w="0">
            <a:noFill/>
          </a:ln>
        </p:spPr>
        <p:txBody>
          <a:bodyPr anchor="b">
            <a:norm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DA</a:t>
            </a:r>
            <a:endParaRPr b="0" lang="en-US" sz="2200" spc="-1" strike="noStrike">
              <a:solidFill>
                <a:srgbClr val="000000"/>
              </a:solidFill>
              <a:latin typeface="Calibri"/>
            </a:endParaRPr>
          </a:p>
        </p:txBody>
      </p:sp>
      <p:sp>
        <p:nvSpPr>
          <p:cNvPr id="301" name=""/>
          <p:cNvSpPr txBox="1"/>
          <p:nvPr/>
        </p:nvSpPr>
        <p:spPr>
          <a:xfrm>
            <a:off x="4716360" y="1341360"/>
            <a:ext cx="4184640" cy="3743280"/>
          </a:xfrm>
          <a:prstGeom prst="rect">
            <a:avLst/>
          </a:prstGeom>
          <a:noFill/>
          <a:ln w="9360">
            <a:solidFill>
              <a:srgbClr val="000000"/>
            </a:solidFill>
            <a:miter/>
          </a:ln>
        </p:spPr>
        <p:txBody>
          <a:bodyPr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 </a:t>
            </a:r>
            <a:r>
              <a:rPr b="0" lang="en-US" sz="2200" spc="-1" strike="noStrike">
                <a:solidFill>
                  <a:srgbClr val="953735"/>
                </a:solidFill>
                <a:latin typeface="Calibri"/>
              </a:rPr>
              <a:t>Antic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Nou Testament</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Corintis, 1a</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Gènesi, XI, 26-XX, 18</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Pentateuc</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Evangeli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76092"/>
                </a:solidFill>
                <a:latin typeface="Calibri"/>
              </a:rPr>
              <a:t>Bíblia.$p</a:t>
            </a:r>
            <a:r>
              <a:rPr b="0" lang="en-US" sz="2200" spc="-1" strike="noStrike">
                <a:solidFill>
                  <a:srgbClr val="953735"/>
                </a:solidFill>
                <a:latin typeface="Calibri"/>
              </a:rPr>
              <a:t>Llibres deuterocanònics</a:t>
            </a:r>
            <a:endParaRPr b="0" lang="en-US" sz="2200" spc="-1" strike="noStrike">
              <a:solidFill>
                <a:srgbClr val="000000"/>
              </a:solidFill>
              <a:latin typeface="Calibri"/>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alibri"/>
              </a:rPr>
              <a:t>Bíblia.$p</a:t>
            </a:r>
            <a:r>
              <a:rPr b="0" lang="ca-ES" sz="2200" spc="-1" strike="noStrike">
                <a:solidFill>
                  <a:srgbClr val="953735"/>
                </a:solidFill>
                <a:latin typeface="Calibri"/>
              </a:rPr>
              <a:t>Pregària de Manassés</a:t>
            </a:r>
            <a:endParaRPr b="0" lang="en-US" sz="2200" spc="-1" strike="noStrike">
              <a:solidFill>
                <a:srgbClr val="000000"/>
              </a:solidFill>
              <a:latin typeface="Calibri"/>
            </a:endParaRPr>
          </a:p>
        </p:txBody>
      </p:sp>
      <p:sp>
        <p:nvSpPr>
          <p:cNvPr id="30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934A-D6CD-4BEA-B38C-BACE942600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3" name="8 Rectángulo"/>
          <p:cNvSpPr/>
          <p:nvPr/>
        </p:nvSpPr>
        <p:spPr>
          <a:xfrm>
            <a:off x="395280" y="5300640"/>
            <a:ext cx="828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alibri"/>
              </a:rPr>
              <a:t>Concreció 6.23.2.6 Llibres apòcrif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s tria com a títol preferit un títol trobat normalment en fonts en catal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alibri"/>
              </a:rPr>
              <a:t>Ex.: </a:t>
            </a:r>
            <a:r>
              <a:rPr b="1" lang="ca-ES" sz="1800" spc="-1" strike="noStrike">
                <a:solidFill>
                  <a:srgbClr val="376092"/>
                </a:solidFill>
                <a:latin typeface="Calibri"/>
              </a:rPr>
              <a:t>Tercer llibre dels Macabe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seleccions de la Bíblia </a:t>
            </a:r>
            <a:br>
              <a:rPr sz="3200"/>
            </a:br>
            <a:r>
              <a:rPr b="1" lang="ca-ES" sz="3200" spc="-1" strike="noStrike">
                <a:solidFill>
                  <a:srgbClr val="000000"/>
                </a:solidFill>
                <a:latin typeface="Calibri"/>
              </a:rPr>
              <a:t>(RDA 6.23.2.9.7)</a:t>
            </a:r>
            <a:endParaRPr b="0" lang="en-US" sz="3200" spc="-1" strike="noStrike">
              <a:solidFill>
                <a:srgbClr val="000000"/>
              </a:solidFill>
              <a:latin typeface="Calibri"/>
            </a:endParaRPr>
          </a:p>
        </p:txBody>
      </p:sp>
      <p:sp>
        <p:nvSpPr>
          <p:cNvPr id="305" name=""/>
          <p:cNvSpPr txBox="1"/>
          <p:nvPr/>
        </p:nvSpPr>
        <p:spPr>
          <a:xfrm>
            <a:off x="394920" y="3141720"/>
            <a:ext cx="8373960" cy="2519280"/>
          </a:xfrm>
          <a:prstGeom prst="rect">
            <a:avLst/>
          </a:prstGeom>
          <a:no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AACR2: </a:t>
            </a:r>
            <a:r>
              <a:rPr b="0" i="1" lang="ca-ES" sz="2400" spc="-1" strike="noStrike">
                <a:solidFill>
                  <a:srgbClr val="000000"/>
                </a:solidFill>
                <a:latin typeface="Calibri"/>
              </a:rPr>
              <a:t>especifica afegir Seleccions a continuació de la llengua</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N.T.$pEvangelis.$l</a:t>
            </a:r>
            <a:r>
              <a:rPr b="1" lang="ca-ES" sz="2000" spc="-1" strike="noStrike" u="sng">
                <a:solidFill>
                  <a:srgbClr val="376092"/>
                </a:solidFill>
                <a:uFillTx/>
                <a:latin typeface="Courier New"/>
                <a:ea typeface="Courier New"/>
              </a:rPr>
              <a:t>Català.$</a:t>
            </a:r>
            <a:r>
              <a:rPr b="1" lang="ca-ES" sz="2000" spc="-1" strike="noStrike">
                <a:solidFill>
                  <a:srgbClr val="376092"/>
                </a:solidFill>
                <a:latin typeface="Courier New"/>
                <a:ea typeface="Courier New"/>
              </a:rPr>
              <a:t>k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Seleccion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u="sng">
                <a:solidFill>
                  <a:srgbClr val="000000"/>
                </a:solidFill>
                <a:uFillTx/>
                <a:latin typeface="Calibri"/>
              </a:rPr>
              <a:t>RDA:</a:t>
            </a:r>
            <a:r>
              <a:rPr b="1" lang="ca-ES" sz="2400" spc="-1" strike="noStrike">
                <a:solidFill>
                  <a:srgbClr val="000000"/>
                </a:solidFill>
                <a:latin typeface="Calibri"/>
              </a:rPr>
              <a:t> </a:t>
            </a:r>
            <a:r>
              <a:rPr b="0" i="1" lang="ca-ES" sz="2400" spc="-1" strike="noStrike">
                <a:solidFill>
                  <a:srgbClr val="000000"/>
                </a:solidFill>
                <a:latin typeface="Calibri"/>
              </a:rPr>
              <a:t>(l'ordre correcte dels subcamps és </a:t>
            </a:r>
            <a:r>
              <a:rPr b="1" i="1" lang="ca-ES" sz="2400" spc="-1" strike="noStrike">
                <a:solidFill>
                  <a:srgbClr val="000000"/>
                </a:solidFill>
                <a:latin typeface="Calibri"/>
              </a:rPr>
              <a:t>$a $k $l</a:t>
            </a:r>
            <a:r>
              <a:rPr b="0" i="1" lang="ca-E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376092"/>
                </a:solidFill>
                <a:latin typeface="Courier New"/>
                <a:ea typeface="Courier New"/>
              </a:rPr>
              <a:t>	</a:t>
            </a:r>
            <a:r>
              <a:rPr b="1" lang="ca-ES" sz="2400" spc="-1" strike="noStrike">
                <a:solidFill>
                  <a:srgbClr val="376092"/>
                </a:solidFill>
                <a:latin typeface="Courier New"/>
                <a:ea typeface="Courier New"/>
              </a:rPr>
              <a:t> </a:t>
            </a:r>
            <a:r>
              <a:rPr b="1" lang="ca-ES" sz="2000" spc="-1" strike="noStrike">
                <a:solidFill>
                  <a:srgbClr val="376092"/>
                </a:solidFill>
                <a:latin typeface="Courier New"/>
                <a:ea typeface="Courier New"/>
              </a:rPr>
              <a:t>130 0# $aBíblia.$pEvangelis.$</a:t>
            </a:r>
            <a:r>
              <a:rPr b="1" lang="ca-ES" sz="2000" spc="-1" strike="noStrike">
                <a:solidFill>
                  <a:srgbClr val="953735"/>
                </a:solidFill>
                <a:latin typeface="Courier New"/>
                <a:ea typeface="Courier New"/>
              </a:rPr>
              <a:t>kSeleccions.$lCata</a:t>
            </a:r>
            <a:r>
              <a:rPr b="1" lang="ca-ES" sz="2400" spc="-1" strike="noStrike">
                <a:solidFill>
                  <a:srgbClr val="953735"/>
                </a:solidFill>
                <a:latin typeface="Courier New"/>
                <a:ea typeface="Courier New"/>
              </a:rPr>
              <a:t>là</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6"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9A04-1552-4937-9B93-DC7AA6747F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7" name="9 Rectángulo"/>
          <p:cNvSpPr/>
          <p:nvPr/>
        </p:nvSpPr>
        <p:spPr>
          <a:xfrm>
            <a:off x="684360" y="148428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Arial"/>
              </a:rPr>
              <a:t>Enregistreu el títol més específic que sigui apropiat a les seleccions, seguit del títol col·lectiu convencional </a:t>
            </a:r>
            <a:r>
              <a:rPr b="1" i="1" lang="ca-ES" sz="2400" spc="-1" strike="noStrike">
                <a:solidFill>
                  <a:srgbClr val="376092"/>
                </a:solidFill>
                <a:latin typeface="Arial"/>
              </a:rPr>
              <a:t>Seleccions</a:t>
            </a:r>
            <a:r>
              <a:rPr b="0" lang="ca-ES" sz="2400" spc="-1" strike="noStrike">
                <a:solidFill>
                  <a:srgbClr val="000000"/>
                </a:solidFill>
                <a:latin typeface="Arial"/>
              </a:rPr>
              <a:t> (p. ex.: </a:t>
            </a:r>
            <a:r>
              <a:rPr b="0" lang="es-ES" sz="2400" spc="-1" strike="noStrike">
                <a:solidFill>
                  <a:srgbClr val="000000"/>
                </a:solidFill>
                <a:latin typeface="Arial"/>
              </a:rPr>
              <a:t>"</a:t>
            </a:r>
            <a:r>
              <a:rPr b="0" lang="ca-ES" sz="2400" spc="-1" strike="noStrike">
                <a:solidFill>
                  <a:srgbClr val="000000"/>
                </a:solidFill>
                <a:latin typeface="Arial"/>
              </a:rPr>
              <a:t>Bíblia. Evangelis.</a:t>
            </a:r>
            <a:r>
              <a:rPr b="0" lang="es-ES" sz="2400" spc="-1" strike="noStrike">
                <a:solidFill>
                  <a:srgbClr val="000000"/>
                </a:solidFill>
                <a:latin typeface="Arial"/>
              </a:rPr>
              <a:t> </a:t>
            </a:r>
            <a:r>
              <a:rPr b="0" lang="ca-ES" sz="2400" spc="-1" strike="noStrike">
                <a:solidFill>
                  <a:srgbClr val="000000"/>
                </a:solidFill>
                <a:latin typeface="Arial"/>
              </a:rPr>
              <a:t>Seleccion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MAC: </a:t>
            </a:r>
            <a:r>
              <a:rPr b="1" lang="ca-ES" sz="4400" spc="-1" strike="noStrike">
                <a:solidFill>
                  <a:srgbClr val="000000"/>
                </a:solidFill>
                <a:latin typeface="Calibri"/>
              </a:rPr>
              <a:t>Narracions bíbliques </a:t>
            </a:r>
            <a:endParaRPr b="0" lang="en-US" sz="4400" spc="-1" strike="noStrike">
              <a:solidFill>
                <a:srgbClr val="000000"/>
              </a:solidFill>
              <a:latin typeface="Calibri"/>
            </a:endParaRPr>
          </a:p>
        </p:txBody>
      </p:sp>
      <p:sp>
        <p:nvSpPr>
          <p:cNvPr id="309" name=""/>
          <p:cNvSpPr txBox="1"/>
          <p:nvPr/>
        </p:nvSpPr>
        <p:spPr>
          <a:xfrm>
            <a:off x="468360" y="1413000"/>
            <a:ext cx="8424720" cy="2332080"/>
          </a:xfrm>
          <a:prstGeom prst="rect">
            <a:avLst/>
          </a:prstGeom>
          <a:noFill/>
          <a:ln w="9360">
            <a:solidFill>
              <a:srgbClr val="000000"/>
            </a:solidFill>
            <a:miter/>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alibri"/>
              </a:rPr>
              <a:t>AACR2:</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2le</a:t>
            </a:r>
            <a:r>
              <a:rPr b="1" lang="ca-ES" sz="2000" spc="-1" strike="noStrike">
                <a:solidFill>
                  <a:srgbClr val="376092"/>
                </a:solidFill>
                <a:latin typeface="Calibri"/>
              </a:rPr>
              <a:t>mac</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x</a:t>
            </a:r>
            <a:r>
              <a:rPr b="1" lang="ca-ES" sz="2000" spc="-1" strike="noStrike">
                <a:solidFill>
                  <a:srgbClr val="953735"/>
                </a:solidFill>
                <a:latin typeface="Courier New"/>
                <a:ea typeface="Courier New"/>
              </a:rPr>
              <a:t>Antic Testament</a:t>
            </a:r>
            <a:r>
              <a:rPr b="1" lang="ca-ES" sz="2000" spc="-1" strike="noStrike">
                <a:solidFill>
                  <a:srgbClr val="376092"/>
                </a:solidFill>
                <a:latin typeface="Courier New"/>
                <a:ea typeface="Courier New"/>
              </a:rPr>
              <a:t>$2lemac</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0" name="6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46D9-4002-423F-A5C1-B68CF306DE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1" name="8 Marcador de contenido"/>
          <p:cNvSpPr/>
          <p:nvPr/>
        </p:nvSpPr>
        <p:spPr>
          <a:xfrm>
            <a:off x="468360" y="3933720"/>
            <a:ext cx="8424720" cy="2332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u="sng">
                <a:solidFill>
                  <a:srgbClr val="000000"/>
                </a:solidFill>
                <a:uFillTx/>
                <a:latin typeface="Calibri"/>
              </a:rPr>
              <a:t>AACR2:</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u="sng">
                <a:solidFill>
                  <a:srgbClr val="376092"/>
                </a:solidFill>
                <a:uFillTx/>
                <a:latin typeface="Courier New"/>
                <a:ea typeface="Courier New"/>
              </a:rPr>
              <a:t>A.T</a:t>
            </a:r>
            <a:r>
              <a:rPr b="1" lang="ca-ES" sz="2000" spc="-1" strike="noStrike">
                <a:solidFill>
                  <a:srgbClr val="376092"/>
                </a:solidFill>
                <a:latin typeface="Courier New"/>
                <a:ea typeface="Courier New"/>
              </a:rPr>
              <a:t>. </a:t>
            </a:r>
            <a:r>
              <a:rPr b="1" lang="ca-ES" sz="2000" spc="-1" strike="noStrike" u="sng">
                <a:solidFill>
                  <a:srgbClr val="376092"/>
                </a:solidFill>
                <a:uFillTx/>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u="sng">
                <a:solidFill>
                  <a:srgbClr val="000000"/>
                </a:solidFill>
                <a:uFillTx/>
                <a:latin typeface="Calibri"/>
              </a:rPr>
              <a:t>RDA: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650 #7 $aNarracions bíbliques catalanes$x</a:t>
            </a:r>
            <a:r>
              <a:rPr b="1" lang="ca-ES" sz="2000" spc="-1" strike="noStrike">
                <a:solidFill>
                  <a:srgbClr val="953735"/>
                </a:solidFill>
                <a:latin typeface="Courier New"/>
                <a:ea typeface="Courier New"/>
              </a:rPr>
              <a:t>Èxode</a:t>
            </a:r>
            <a:r>
              <a:rPr b="1" lang="ca-ES" sz="2000" spc="-1" strike="noStrike">
                <a:solidFill>
                  <a:srgbClr val="376092"/>
                </a:solidFill>
                <a:latin typeface="Courier New"/>
                <a:ea typeface="Courier New"/>
              </a:rPr>
              <a:t>$2lemac</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Obra musical (RDA 6.14, 6.28)</a:t>
            </a:r>
            <a:endParaRPr b="0" lang="en-US" sz="3200" spc="-1" strike="noStrike">
              <a:solidFill>
                <a:srgbClr val="000000"/>
              </a:solidFill>
              <a:latin typeface="Calibri"/>
            </a:endParaRPr>
          </a:p>
        </p:txBody>
      </p:sp>
      <p:sp>
        <p:nvSpPr>
          <p:cNvPr id="314" name=""/>
          <p:cNvSpPr txBox="1"/>
          <p:nvPr/>
        </p:nvSpPr>
        <p:spPr>
          <a:xfrm>
            <a:off x="456840" y="1599840"/>
            <a:ext cx="8435880" cy="4853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hi a "regla de tres</a:t>
            </a:r>
            <a:r>
              <a:rPr b="1" lang="ca-ES" sz="3000" spc="-1" strike="noStrike">
                <a:solidFill>
                  <a:srgbClr val="000000"/>
                </a:solidFill>
                <a:latin typeface="Calibri"/>
              </a:rPr>
              <a:t>"</a:t>
            </a:r>
            <a:r>
              <a:rPr b="0" lang="ca-ES" sz="3000" spc="-1" strike="noStrike">
                <a:solidFill>
                  <a:srgbClr val="000000"/>
                </a:solidFill>
                <a:latin typeface="Calibri"/>
              </a:rPr>
              <a:t> per enregistrar el repartiment de l’execució.</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mb RDA s’anomena cada instrument en lloc de fer una combinació estàndard d’instruments.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	</a:t>
            </a:r>
            <a:r>
              <a:rPr b="0" i="1" lang="ca-ES" sz="3000" spc="-1" strike="noStrike">
                <a:solidFill>
                  <a:srgbClr val="000000"/>
                </a:solidFill>
                <a:latin typeface="Calibri"/>
              </a:rPr>
              <a:t>Ex.: flauta, oboè, clarinet, trompa, fagot (no v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No s’utilitzen les abreviatures "acomp." i "arr.", enregistre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companyamen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ense acompanya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rranjament"</a:t>
            </a:r>
            <a:endParaRPr b="0" lang="en-US" sz="2600" spc="-1" strike="noStrike">
              <a:solidFill>
                <a:srgbClr val="000000"/>
              </a:solidFill>
              <a:latin typeface="Calibri"/>
            </a:endParaRPr>
          </a:p>
        </p:txBody>
      </p:sp>
      <p:sp>
        <p:nvSpPr>
          <p:cNvPr id="31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07158-5347-476F-9AF1-A8666D2804B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6"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01720" y="2276280"/>
            <a:ext cx="7772400" cy="1469880"/>
          </a:xfrm>
          <a:prstGeom prst="rect">
            <a:avLst/>
          </a:prstGeom>
          <a:noFill/>
          <a:ln w="9360">
            <a:solidFill>
              <a:srgbClr val="4f81bd"/>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ca-ES" sz="2400" spc="-1" strike="noStrike">
                <a:solidFill>
                  <a:srgbClr val="17375e"/>
                </a:solidFill>
                <a:latin typeface="Calibri"/>
              </a:rPr>
              <a:t>Identificació de les expressions </a:t>
            </a:r>
            <a:br>
              <a:rPr sz="2400"/>
            </a:br>
            <a:endParaRPr b="0" lang="en-US" sz="2400" spc="-1" strike="noStrike">
              <a:solidFill>
                <a:srgbClr val="000000"/>
              </a:solidFill>
              <a:latin typeface="Calibri"/>
            </a:endParaRPr>
          </a:p>
        </p:txBody>
      </p:sp>
      <p:sp>
        <p:nvSpPr>
          <p:cNvPr id="318" name="2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3E864-1BA2-47FD-BECA-89EAC8F345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pressió - Entitat FRBR</a:t>
            </a:r>
            <a:endParaRPr b="0" lang="en-US" sz="3200" spc="-1" strike="noStrike">
              <a:solidFill>
                <a:srgbClr val="000000"/>
              </a:solidFill>
              <a:latin typeface="Calibri"/>
            </a:endParaRPr>
          </a:p>
        </p:txBody>
      </p:sp>
      <p:sp>
        <p:nvSpPr>
          <p:cNvPr id="320"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 terme </a:t>
            </a:r>
            <a:r>
              <a:rPr b="1" lang="ca-ES" sz="3200" spc="-1" strike="noStrike">
                <a:solidFill>
                  <a:srgbClr val="000000"/>
                </a:solidFill>
                <a:latin typeface="Calibri"/>
              </a:rPr>
              <a:t>expressió </a:t>
            </a:r>
            <a:r>
              <a:rPr b="0" lang="ca-ES" sz="3200" spc="-1" strike="noStrike">
                <a:solidFill>
                  <a:srgbClr val="000000"/>
                </a:solidFill>
                <a:latin typeface="Calibri"/>
              </a:rPr>
              <a:t>fa referència a la realització intel·lectual o artística d’una obra en la forma de notació alfanumèrica, musical o coreogràfica, de so, d’imatge, d’objecte, de moviment, etc., o en qualsevol combinació d’aquestes for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u="sng">
                <a:solidFill>
                  <a:srgbClr val="000000"/>
                </a:solidFill>
                <a:uFillTx/>
                <a:latin typeface="Calibri"/>
              </a:rPr>
              <a:t>La forma en què una obra (la idea en la ment del creador) és expressad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D11E-E5EE-4AD2-8F10-4CC202187F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erminologia: Punts d'accés</a:t>
            </a:r>
            <a:endParaRPr b="0" lang="en-US" sz="3200" spc="-1" strike="noStrike">
              <a:solidFill>
                <a:srgbClr val="000000"/>
              </a:solidFill>
              <a:latin typeface="Calibri"/>
            </a:endParaRPr>
          </a:p>
        </p:txBody>
      </p:sp>
      <p:sp>
        <p:nvSpPr>
          <p:cNvPr id="82" name=""/>
          <p:cNvSpPr txBox="1"/>
          <p:nvPr/>
        </p:nvSpPr>
        <p:spPr>
          <a:xfrm>
            <a:off x="456840" y="1267920"/>
            <a:ext cx="8002440" cy="496908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Punt d’accés </a:t>
            </a:r>
            <a:r>
              <a:rPr b="0" lang="ca-ES" sz="2800" spc="-1" strike="noStrike">
                <a:solidFill>
                  <a:srgbClr val="000000"/>
                </a:solidFill>
                <a:latin typeface="Calibri"/>
              </a:rPr>
              <a:t>fa referència a un nom, un terme, etc., que representa una obra o una expressió concreta. Els punts d’accés </a:t>
            </a:r>
            <a:r>
              <a:rPr b="0" lang="ca-ES" sz="2800" spc="-1" strike="noStrike" u="sng">
                <a:solidFill>
                  <a:srgbClr val="000000"/>
                </a:solidFill>
                <a:uFillTx/>
                <a:latin typeface="Calibri"/>
              </a:rPr>
              <a:t>inclouen</a:t>
            </a:r>
            <a:r>
              <a:rPr b="0" lang="ca-ES" sz="2800" spc="-1" strike="noStrike">
                <a:solidFill>
                  <a:srgbClr val="000000"/>
                </a:solidFill>
                <a:latin typeface="Calibri"/>
              </a:rPr>
              <a:t>:</a:t>
            </a:r>
            <a:endParaRPr b="0" lang="en-US" sz="2800" spc="-1" strike="noStrike">
              <a:solidFill>
                <a:srgbClr val="000000"/>
              </a:solidFill>
              <a:latin typeface="Calibri"/>
            </a:endParaRPr>
          </a:p>
          <a:p>
            <a:pPr>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a:t>
            </a:r>
            <a:r>
              <a:rPr b="1" lang="ca-ES" sz="2800" spc="-1" strike="noStrike">
                <a:solidFill>
                  <a:srgbClr val="000000"/>
                </a:solidFill>
                <a:latin typeface="Calibri"/>
              </a:rPr>
              <a:t>punts d’accés autoritzats: </a:t>
            </a:r>
            <a:r>
              <a:rPr b="0" lang="ca-ES" sz="2800" spc="-1" strike="noStrike">
                <a:solidFill>
                  <a:srgbClr val="000000"/>
                </a:solidFill>
                <a:latin typeface="Calibri"/>
              </a:rPr>
              <a:t>fa referència al punt d’accés normalitz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	</a:t>
            </a:r>
            <a:r>
              <a:rPr b="0" lang="ca-ES" sz="2800" spc="-1" strike="noStrike" u="sng">
                <a:solidFill>
                  <a:srgbClr val="000000"/>
                </a:solidFill>
                <a:uFillTx/>
                <a:latin typeface="Calibri"/>
              </a:rPr>
              <a:t>Per a una obra o una expressió </a:t>
            </a:r>
            <a:r>
              <a:rPr b="0" lang="ca-ES" sz="2800" spc="-1" strike="noStrike">
                <a:solidFill>
                  <a:srgbClr val="000000"/>
                </a:solidFill>
                <a:latin typeface="Calibri"/>
              </a:rPr>
              <a:t>és la combinació:</a:t>
            </a:r>
            <a:endParaRPr b="0" lang="en-US" sz="28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1" lang="ca-ES" sz="2600" spc="-1" strike="noStrike">
                <a:solidFill>
                  <a:srgbClr val="376092"/>
                </a:solidFill>
                <a:latin typeface="Calibri"/>
              </a:rPr>
              <a:t>Títol preferit </a:t>
            </a:r>
            <a:r>
              <a:rPr b="0" lang="ca-ES" sz="2600" spc="-1" strike="noStrike">
                <a:solidFill>
                  <a:srgbClr val="000000"/>
                </a:solidFill>
                <a:latin typeface="Calibri"/>
              </a:rPr>
              <a:t>de l'obra.</a:t>
            </a:r>
            <a:endParaRPr b="0" lang="en-US" sz="2600" spc="-1" strike="noStrike">
              <a:solidFill>
                <a:srgbClr val="000000"/>
              </a:solidFill>
              <a:latin typeface="Calibri"/>
            </a:endParaRPr>
          </a:p>
          <a:p>
            <a:pPr lvl="1" marL="720720" indent="-27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l </a:t>
            </a:r>
            <a:r>
              <a:rPr b="1" lang="ca-ES" sz="2600" spc="-1" strike="noStrike">
                <a:solidFill>
                  <a:srgbClr val="376092"/>
                </a:solidFill>
                <a:latin typeface="Calibri"/>
              </a:rPr>
              <a:t>punt d'accés autoritzat del creador</a:t>
            </a:r>
            <a:r>
              <a:rPr b="0" lang="ca-ES" sz="2600" spc="-1" strike="noStrike">
                <a:solidFill>
                  <a:srgbClr val="000000"/>
                </a:solidFill>
                <a:latin typeface="Calibri"/>
              </a:rPr>
              <a:t>, que precedeix al títol preferit, sempre que sigui aplicable.</a:t>
            </a:r>
            <a:endParaRPr b="0" lang="en-US" sz="2600" spc="-1" strike="noStrike">
              <a:solidFill>
                <a:srgbClr val="000000"/>
              </a:solidFill>
              <a:latin typeface="Calibri"/>
            </a:endParaRPr>
          </a:p>
          <a:p>
            <a:pPr lvl="1" marL="720720" indent="-277200">
              <a:lnSpc>
                <a:spcPct val="80000"/>
              </a:lnSpc>
              <a:spcBef>
                <a:spcPts val="64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376092"/>
                </a:solidFill>
                <a:latin typeface="Calibri"/>
              </a:rPr>
              <a:t>Altres addicions</a:t>
            </a:r>
            <a:r>
              <a:rPr b="0" lang="ca-ES" sz="2600" spc="-1" strike="noStrike">
                <a:solidFill>
                  <a:srgbClr val="000000"/>
                </a:solidFill>
                <a:latin typeface="Calibri"/>
              </a:rPr>
              <a:t> al títol preferit (si cal).</a:t>
            </a:r>
            <a:endParaRPr b="0" lang="en-US" sz="2600" spc="-1" strike="noStrike">
              <a:solidFill>
                <a:srgbClr val="000000"/>
              </a:solidFill>
              <a:latin typeface="Calibri"/>
            </a:endParaRPr>
          </a:p>
          <a:p>
            <a:pPr lvl="1" marL="720720" indent="-27720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Les variants de punt d’accés: </a:t>
            </a:r>
            <a:r>
              <a:rPr b="0" lang="ca-ES" sz="2800" spc="-1" strike="noStrike">
                <a:solidFill>
                  <a:srgbClr val="000000"/>
                </a:solidFill>
                <a:latin typeface="Calibri"/>
              </a:rPr>
              <a:t>fan referència a una alternativa al punt d’accés autoritzat. </a:t>
            </a:r>
            <a:endParaRPr b="0" lang="en-US" sz="2800" spc="-1" strike="noStrike">
              <a:solidFill>
                <a:srgbClr val="000000"/>
              </a:solidFill>
              <a:latin typeface="Calibri"/>
            </a:endParaRPr>
          </a:p>
        </p:txBody>
      </p:sp>
      <p:sp>
        <p:nvSpPr>
          <p:cNvPr id="8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F6524-512A-454E-AFB6-3C5C01E5048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ció d'expressions</a:t>
            </a:r>
            <a:endParaRPr b="0" lang="en-US" sz="32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ls punts d'accés autoritzats d'un registre bibliogràfic s'utilitzen per identificar l'expressió que s'està cataloga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També es fan servir en els camps 6XX i 7XX per representar les relacions amb altres expression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elaboració dels punts d'accés autoritzats es fa d'acord al capítol 6 d'RD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 identificació es fa en dos passos:</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Identificació de </a:t>
            </a:r>
            <a:r>
              <a:rPr b="1" i="1" lang="ca-ES" sz="2700" spc="-1" strike="noStrike">
                <a:solidFill>
                  <a:srgbClr val="376092"/>
                </a:solidFill>
                <a:latin typeface="Calibri"/>
              </a:rPr>
              <a:t>l'obra.</a:t>
            </a:r>
            <a:endParaRPr b="0" lang="en-US" sz="2700" spc="-1" strike="noStrike">
              <a:solidFill>
                <a:srgbClr val="000000"/>
              </a:solidFill>
              <a:latin typeface="Calibri"/>
            </a:endParaRPr>
          </a:p>
          <a:p>
            <a:pPr marL="343080" indent="-343080">
              <a:lnSpc>
                <a:spcPct val="80000"/>
              </a:lnSpc>
              <a:spcBef>
                <a:spcPts val="675"/>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376092"/>
                </a:solidFill>
                <a:latin typeface="Calibri"/>
              </a:rPr>
              <a:t>Addició de la informació que identifica </a:t>
            </a:r>
            <a:r>
              <a:rPr b="1" i="1" lang="ca-ES" sz="2700" spc="-1" strike="noStrike">
                <a:solidFill>
                  <a:srgbClr val="376092"/>
                </a:solidFill>
                <a:latin typeface="Calibri"/>
              </a:rPr>
              <a:t>el nivell expressió.</a:t>
            </a:r>
            <a:endParaRPr b="0" lang="en-US" sz="2700" spc="-1" strike="noStrike">
              <a:solidFill>
                <a:srgbClr val="000000"/>
              </a:solidFill>
              <a:latin typeface="Calibri"/>
            </a:endParaRPr>
          </a:p>
        </p:txBody>
      </p:sp>
      <p:sp>
        <p:nvSpPr>
          <p:cNvPr id="3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E0F95-DDEA-4B17-8D39-6F4C49E791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6" name=""/>
          <p:cNvSpPr txBox="1"/>
          <p:nvPr/>
        </p:nvSpPr>
        <p:spPr>
          <a:xfrm>
            <a:off x="468360" y="1268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Per identificar les expressions </a:t>
            </a:r>
            <a:r>
              <a:rPr b="0" lang="ca-ES" sz="3200" spc="-1" strike="noStrike" u="sng">
                <a:solidFill>
                  <a:srgbClr val="000000"/>
                </a:solidFill>
                <a:uFillTx/>
                <a:latin typeface="Calibri"/>
              </a:rPr>
              <a:t>s'afegeixen elements diferenciadors addicionals </a:t>
            </a:r>
            <a:r>
              <a:rPr b="0" lang="ca-ES" sz="3200" spc="-1" strike="noStrike">
                <a:solidFill>
                  <a:srgbClr val="000000"/>
                </a:solidFill>
                <a:latin typeface="Calibri"/>
              </a:rPr>
              <a:t>al punt d'accés autoritzat d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musicals</a:t>
            </a:r>
            <a:r>
              <a:rPr b="0" lang="ca-ES" sz="2800" spc="-1" strike="noStrike">
                <a:solidFill>
                  <a:srgbClr val="000000"/>
                </a:solidFill>
                <a:latin typeface="Calibri"/>
              </a:rPr>
              <a:t> (RDA 6.28.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agrades escriptures</a:t>
            </a:r>
            <a:r>
              <a:rPr b="0" lang="ca-ES" sz="2800" spc="-1" strike="noStrike">
                <a:solidFill>
                  <a:srgbClr val="000000"/>
                </a:solidFill>
                <a:latin typeface="Calibri"/>
              </a:rPr>
              <a:t> (RDA 6.30.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Traduccions </a:t>
            </a:r>
            <a:r>
              <a:rPr b="0" lang="ca-ES" sz="2800" spc="-1" strike="noStrike">
                <a:solidFill>
                  <a:srgbClr val="000000"/>
                </a:solidFill>
                <a:latin typeface="Calibri"/>
              </a:rPr>
              <a:t>(RDA 6.27.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cions en altres llengües </a:t>
            </a:r>
            <a:r>
              <a:rPr b="0" lang="ca-ES" sz="2800" spc="-1" strike="noStrike">
                <a:solidFill>
                  <a:srgbClr val="000000"/>
                </a:solidFill>
                <a:latin typeface="Calibri"/>
              </a:rPr>
              <a:t>(RDA 6.27.3)</a:t>
            </a:r>
            <a:endParaRPr b="0" lang="en-US" sz="2800" spc="-1" strike="noStrike">
              <a:solidFill>
                <a:srgbClr val="000000"/>
              </a:solidFill>
              <a:latin typeface="Calibri"/>
            </a:endParaRPr>
          </a:p>
        </p:txBody>
      </p:sp>
      <p:sp>
        <p:nvSpPr>
          <p:cNvPr id="32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AC41-11C9-4957-9F5C-A44D8F7E9CA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 identificar expressions</a:t>
            </a:r>
            <a:br>
              <a:rPr sz="3200"/>
            </a:br>
            <a:r>
              <a:rPr b="1" i="1" lang="ca-ES" sz="3200" spc="-1" strike="noStrike">
                <a:solidFill>
                  <a:srgbClr val="000000"/>
                </a:solidFill>
                <a:latin typeface="Calibri"/>
              </a:rPr>
              <a:t>Concreció 0.6.6</a:t>
            </a:r>
            <a:endParaRPr b="0" lang="en-US" sz="3200" spc="-1" strike="noStrike">
              <a:solidFill>
                <a:srgbClr val="000000"/>
              </a:solidFill>
              <a:latin typeface="Calibri"/>
            </a:endParaRPr>
          </a:p>
        </p:txBody>
      </p:sp>
      <p:sp>
        <p:nvSpPr>
          <p:cNvPr id="329" name=""/>
          <p:cNvSpPr txBox="1"/>
          <p:nvPr/>
        </p:nvSpPr>
        <p:spPr>
          <a:xfrm>
            <a:off x="457200" y="1599840"/>
            <a:ext cx="8229600" cy="48531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u="sng">
                <a:solidFill>
                  <a:srgbClr val="000000"/>
                </a:solidFill>
                <a:uFillTx/>
                <a:latin typeface="Calibri"/>
              </a:rPr>
              <a:t>No s'afegeix cap altra característica </a:t>
            </a:r>
            <a:r>
              <a:rPr b="0" lang="ca-ES" sz="3000" spc="-1" strike="noStrike">
                <a:solidFill>
                  <a:srgbClr val="000000"/>
                </a:solidFill>
                <a:latin typeface="Calibri"/>
              </a:rPr>
              <a:t>per diferenciar una expressió d'una altra expressió. </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a traducció en francès del </a:t>
            </a:r>
            <a:r>
              <a:rPr b="0" i="1" lang="ca-ES" sz="2600" spc="-1" strike="noStrike">
                <a:solidFill>
                  <a:srgbClr val="000000"/>
                </a:solidFill>
                <a:latin typeface="Calibri"/>
              </a:rPr>
              <a:t>Hamlet</a:t>
            </a:r>
            <a:r>
              <a:rPr b="0" lang="ca-ES" sz="2600" spc="-1" strike="noStrike">
                <a:solidFill>
                  <a:srgbClr val="000000"/>
                </a:solidFill>
                <a:latin typeface="Calibri"/>
              </a:rPr>
              <a:t> de Shakespeare d'una altra traducció en francè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x., no es diferencia un arranjament del </a:t>
            </a:r>
            <a:r>
              <a:rPr b="0" i="1" lang="ca-ES" sz="2600" spc="-1" strike="noStrike">
                <a:solidFill>
                  <a:srgbClr val="000000"/>
                </a:solidFill>
                <a:latin typeface="Calibri"/>
              </a:rPr>
              <a:t>Corsaire</a:t>
            </a:r>
            <a:r>
              <a:rPr b="0" lang="ca-ES" sz="2600" spc="-1" strike="noStrike">
                <a:solidFill>
                  <a:srgbClr val="000000"/>
                </a:solidFill>
                <a:latin typeface="Calibri"/>
              </a:rPr>
              <a:t> de Berlioz d'un altre arranjament.</a:t>
            </a:r>
            <a:endParaRPr b="0" lang="en-US" sz="26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Hi ha altres elements en el registre bibliogràfic, per exemple, el traductor, la data, el repartiment de l'execució musical, disponibles perquè l'usuari, quan vulgui, seleccioni una expressió determinada.)</a:t>
            </a:r>
            <a:r>
              <a:rPr b="0" i="1" lang="ca-ES" sz="3000" spc="-1" strike="noStrike">
                <a:solidFill>
                  <a:srgbClr val="000000"/>
                </a:solidFill>
                <a:latin typeface="Calibri"/>
              </a:rPr>
              <a:t> </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811B-4B8C-448B-A56B-549231BA3F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ntribuïdors (RDA 20.2)</a:t>
            </a:r>
            <a:endParaRPr b="0" lang="en-US" sz="3200" spc="-1" strike="noStrike">
              <a:solidFill>
                <a:srgbClr val="000000"/>
              </a:solidFill>
              <a:latin typeface="Calibri"/>
            </a:endParaRPr>
          </a:p>
        </p:txBody>
      </p:sp>
      <p:sp>
        <p:nvSpPr>
          <p:cNvPr id="332" name=""/>
          <p:cNvSpPr txBox="1"/>
          <p:nvPr/>
        </p:nvSpPr>
        <p:spPr>
          <a:xfrm>
            <a:off x="457200" y="1413000"/>
            <a:ext cx="8229600" cy="4713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 </a:t>
            </a:r>
            <a:r>
              <a:rPr b="0" i="1" lang="ca-ES" sz="3000" spc="-1" strike="noStrike">
                <a:solidFill>
                  <a:srgbClr val="000000"/>
                </a:solidFill>
                <a:latin typeface="Calibri"/>
              </a:rPr>
              <a:t>en el cas que es consideri important per a la identificac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persona, una família o una entitat corporativa que fa una contribució a una </a:t>
            </a:r>
            <a:r>
              <a:rPr b="0" i="1" lang="ca-ES" sz="3000" spc="-1" strike="noStrike">
                <a:solidFill>
                  <a:srgbClr val="000000"/>
                </a:solidFill>
                <a:latin typeface="Calibri"/>
              </a:rPr>
              <a:t>expressió</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ls contribuïdors inclouen els editors literaris, els traductors, els arranjadors de música, els intèrprets, etc.</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apèndix I.3.1 per designadors de relacions.</a:t>
            </a:r>
            <a:endParaRPr b="0" lang="en-US" sz="3000" spc="-1" strike="noStrike">
              <a:solidFill>
                <a:srgbClr val="000000"/>
              </a:solidFill>
              <a:latin typeface="Calibri"/>
            </a:endParaRPr>
          </a:p>
        </p:txBody>
      </p:sp>
      <p:sp>
        <p:nvSpPr>
          <p:cNvPr id="33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E8E4-42FB-4DE2-BADB-C1F35D7A6C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unt d'accés autoritzat que representa una expressió (RDA 6.27.3)</a:t>
            </a:r>
            <a:endParaRPr b="0" lang="en-US" sz="3200" spc="-1" strike="noStrike">
              <a:solidFill>
                <a:srgbClr val="000000"/>
              </a:solidFill>
              <a:latin typeface="Calibri"/>
            </a:endParaRPr>
          </a:p>
        </p:txBody>
      </p:sp>
      <p:sp>
        <p:nvSpPr>
          <p:cNvPr id="335" name=""/>
          <p:cNvSpPr txBox="1"/>
          <p:nvPr/>
        </p:nvSpPr>
        <p:spPr>
          <a:xfrm>
            <a:off x="457200" y="1484280"/>
            <a:ext cx="8291520" cy="5113440"/>
          </a:xfrm>
          <a:prstGeom prst="rect">
            <a:avLst/>
          </a:prstGeom>
          <a:noFill/>
          <a:ln w="0">
            <a:noFill/>
          </a:ln>
        </p:spPr>
        <p:txBody>
          <a:bodyPr anchor="t">
            <a:normAutofit fontScale="98000"/>
          </a:bodyPr>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laboreu un punt d’accés que representa una expressió combinant: </a:t>
            </a:r>
            <a:endParaRPr b="0" lang="en-US" sz="2500" spc="-1" strike="noStrike">
              <a:solidFill>
                <a:srgbClr val="000000"/>
              </a:solidFill>
              <a:latin typeface="Calibri"/>
            </a:endParaRPr>
          </a:p>
          <a:p>
            <a:pPr marL="335880" indent="-3358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5880" indent="-335880">
              <a:lnSpc>
                <a:spcPct val="80000"/>
              </a:lnSpc>
              <a:spcBef>
                <a:spcPts val="624"/>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El punt d’accés autoritzat que representa l’obra </a:t>
            </a:r>
            <a:endParaRPr b="0" lang="en-US" sz="2500" spc="-1" strike="noStrike">
              <a:solidFill>
                <a:srgbClr val="000000"/>
              </a:solidFill>
              <a:latin typeface="Calibri"/>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376092"/>
                </a:solidFill>
                <a:latin typeface="Calibri"/>
              </a:rPr>
              <a:t>(part o parts) + una (o més) addicions. </a:t>
            </a: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5880" indent="-3358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tre addicions possibles: </a:t>
            </a:r>
            <a:endParaRPr b="0" lang="en-US" sz="2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 tipus de contingut (RDA 6.9)</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data de l’expressió (RDA 6.10)</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llengua de l’expressió (RDA 6.11)</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altra característica distintiva de l’expressió (RDA 612)</a:t>
            </a:r>
            <a:endParaRPr b="0" lang="en-US" sz="22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a:t>
            </a:r>
            <a:r>
              <a:rPr b="1" lang="ca-ES" sz="2200" spc="-1" strike="noStrike" u="sng">
                <a:solidFill>
                  <a:srgbClr val="953735"/>
                </a:solidFill>
                <a:uFillTx/>
                <a:latin typeface="Courier New"/>
                <a:ea typeface="Courier New"/>
              </a:rPr>
              <a:t>.$lCatalà</a:t>
            </a:r>
            <a:endParaRPr b="0" lang="en-US" sz="2200" spc="-1" strike="noStrike">
              <a:solidFill>
                <a:srgbClr val="000000"/>
              </a:solidFill>
              <a:latin typeface="Calibri"/>
            </a:endParaRPr>
          </a:p>
          <a:p>
            <a:pPr marL="335880" indent="-33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5 13 $aEl Nom de la rosa /$cUmberto Eco</a:t>
            </a:r>
            <a:endParaRPr b="0" lang="en-US" sz="2200" spc="-1" strike="noStrike">
              <a:solidFill>
                <a:srgbClr val="000000"/>
              </a:solidFill>
              <a:latin typeface="Calibri"/>
            </a:endParaRPr>
          </a:p>
        </p:txBody>
      </p:sp>
      <p:sp>
        <p:nvSpPr>
          <p:cNvPr id="3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3AC02-92A6-4D43-A585-701C64437C1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Tipus de contingut </a:t>
            </a:r>
            <a:r>
              <a:rPr b="1" lang="ca-ES" sz="3200" spc="-1" strike="noStrike">
                <a:solidFill>
                  <a:srgbClr val="000000"/>
                </a:solidFill>
                <a:latin typeface="Calibri"/>
              </a:rPr>
              <a:t>(RDA 6.9)</a:t>
            </a:r>
            <a:endParaRPr b="0" lang="en-US" sz="3200" spc="-1" strike="noStrike">
              <a:solidFill>
                <a:srgbClr val="000000"/>
              </a:solidFill>
              <a:latin typeface="Calibri"/>
            </a:endParaRPr>
          </a:p>
        </p:txBody>
      </p:sp>
      <p:sp>
        <p:nvSpPr>
          <p:cNvPr id="338"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a:t>
            </a:r>
            <a:r>
              <a:rPr b="0" lang="ca-ES" sz="2500" spc="-1" strike="noStrike">
                <a:solidFill>
                  <a:srgbClr val="000000"/>
                </a:solidFill>
                <a:latin typeface="Calibri"/>
              </a:rPr>
              <a:t> </a:t>
            </a:r>
            <a:r>
              <a:rPr b="0" i="1" lang="ca-ES" sz="2500" spc="-1" strike="noStrike">
                <a:solidFill>
                  <a:srgbClr val="000000"/>
                </a:solidFill>
                <a:latin typeface="Calibri"/>
              </a:rPr>
              <a:t>quan és necessari per diferenciar.</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és una categorització que reflecteix la forma fonamental de comunicació en què s’expressa el contingut i el sentit humà per mitjà del qual s’ha de percebre".</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 qualsevol fon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tipus de contingut usant un o més dels termes llistats a la taula d'RDA 6.9.1.3 (=vocabulari controlat).</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Punt d'accés: subcamp $h*. </a:t>
            </a:r>
            <a:endParaRPr b="0" lang="en-US" sz="2500" spc="-1" strike="noStrike">
              <a:solidFill>
                <a:srgbClr val="000000"/>
              </a:solidFill>
              <a:latin typeface="Calibri"/>
            </a:endParaRPr>
          </a:p>
          <a:p>
            <a:pPr marL="339480" indent="-3394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a:t>
            </a:r>
            <a:r>
              <a:rPr b="1" lang="ca-ES" sz="2200" spc="-1" strike="noStrike">
                <a:solidFill>
                  <a:srgbClr val="376092"/>
                </a:solidFill>
                <a:latin typeface="Courier New"/>
                <a:ea typeface="Courier New"/>
              </a:rPr>
              <a:t>100 1# $aEco, Umberto</a:t>
            </a:r>
            <a:endParaRPr b="0" lang="en-US" sz="22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240 10 $aNome della rosa.$lCatalà</a:t>
            </a:r>
            <a:r>
              <a:rPr b="1" lang="ca-ES" sz="2200" spc="-1" strike="noStrike" u="sng">
                <a:solidFill>
                  <a:srgbClr val="953735"/>
                </a:solidFill>
                <a:uFillTx/>
                <a:latin typeface="Courier New"/>
                <a:ea typeface="Courier New"/>
              </a:rPr>
              <a:t>.$hParaula parlada</a:t>
            </a:r>
            <a:r>
              <a:rPr b="1" lang="ca-ES" sz="2200" spc="-1" strike="noStrike">
                <a:solidFill>
                  <a:srgbClr val="953735"/>
                </a:solidFill>
                <a:latin typeface="Courier New"/>
                <a:ea typeface="Courier New"/>
              </a:rPr>
              <a:t> </a:t>
            </a:r>
            <a:r>
              <a:rPr b="0" i="1" lang="ca-ES" sz="2000" spc="-1" strike="noStrike">
                <a:solidFill>
                  <a:srgbClr val="000000"/>
                </a:solidFill>
                <a:latin typeface="Calibri"/>
              </a:rPr>
              <a:t>(audiollibre de la traducció catalana)</a:t>
            </a:r>
            <a:endParaRPr b="0" lang="en-US" sz="20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9480" indent="-33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600" spc="-1" strike="noStrike">
                <a:solidFill>
                  <a:srgbClr val="000000"/>
                </a:solidFill>
                <a:latin typeface="Calibri"/>
              </a:rPr>
              <a:t>(*la LC utilitza actualment $s)</a:t>
            </a:r>
            <a:endParaRPr b="0" lang="en-US" sz="1600" spc="-1" strike="noStrike">
              <a:solidFill>
                <a:srgbClr val="000000"/>
              </a:solidFill>
              <a:latin typeface="Calibri"/>
            </a:endParaRPr>
          </a:p>
        </p:txBody>
      </p:sp>
      <p:sp>
        <p:nvSpPr>
          <p:cNvPr id="3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D834-79F5-4CBC-A3CF-59405B48D2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0" name="4 CuadroTexto"/>
          <p:cNvSpPr/>
          <p:nvPr/>
        </p:nvSpPr>
        <p:spPr>
          <a:xfrm>
            <a:off x="7072200" y="642924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Data de l'expressió </a:t>
            </a:r>
            <a:r>
              <a:rPr b="1" lang="ca-ES" sz="3200" spc="-1" strike="noStrike">
                <a:solidFill>
                  <a:srgbClr val="000000"/>
                </a:solidFill>
                <a:latin typeface="Calibri"/>
              </a:rPr>
              <a:t>(RDA 6.10)</a:t>
            </a:r>
            <a:endParaRPr b="0" lang="en-US" sz="32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i="1" lang="ca-ES" sz="2800" spc="-1" strike="noStrike">
                <a:solidFill>
                  <a:srgbClr val="000000"/>
                </a:solidFill>
                <a:latin typeface="Calibri"/>
              </a:rPr>
              <a:t>, si cal diferenciar una expressió d'una alt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la data més antiga associada amb una express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e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f.</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Ex.: 130 0# Bíblia.$lCatalà.$sMontserrat</a:t>
            </a:r>
            <a:r>
              <a:rPr b="1" lang="ca-ES" sz="2200" spc="-1" strike="noStrike" u="sng">
                <a:solidFill>
                  <a:srgbClr val="953735"/>
                </a:solidFill>
                <a:uFillTx/>
                <a:latin typeface="Courier New"/>
                <a:ea typeface="Courier New"/>
              </a:rPr>
              <a:t>.$f1970</a:t>
            </a:r>
            <a:endParaRPr b="0" lang="en-US" sz="2200" spc="-1" strike="noStrike">
              <a:solidFill>
                <a:srgbClr val="000000"/>
              </a:solidFill>
              <a:latin typeface="Calibri"/>
            </a:endParaRPr>
          </a:p>
        </p:txBody>
      </p:sp>
      <p:sp>
        <p:nvSpPr>
          <p:cNvPr id="34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2D650-F46D-4CC3-A0A6-7A0A6B386AE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ddicions als punts d'accés per a les expressions - </a:t>
            </a:r>
            <a:r>
              <a:rPr b="1" lang="ca-ES" sz="3200" spc="-1" strike="noStrike" u="sng">
                <a:solidFill>
                  <a:srgbClr val="000000"/>
                </a:solidFill>
                <a:uFillTx/>
                <a:latin typeface="Calibri"/>
              </a:rPr>
              <a:t>Llengua de l'expressió </a:t>
            </a:r>
            <a:r>
              <a:rPr b="1" lang="ca-ES" sz="3200" spc="-1" strike="noStrike">
                <a:solidFill>
                  <a:srgbClr val="000000"/>
                </a:solidFill>
                <a:latin typeface="Calibri"/>
              </a:rPr>
              <a:t>(RDA 6.11)</a:t>
            </a:r>
            <a:endParaRPr b="0" lang="en-US" sz="3200" spc="-1" strike="noStrike">
              <a:solidFill>
                <a:srgbClr val="000000"/>
              </a:solidFill>
              <a:latin typeface="Calibri"/>
            </a:endParaRPr>
          </a:p>
        </p:txBody>
      </p:sp>
      <p:sp>
        <p:nvSpPr>
          <p:cNvPr id="3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a:t>
            </a:r>
            <a:r>
              <a:rPr b="0" lang="ca-ES" sz="2800" spc="-1" strike="noStrike">
                <a:solidFill>
                  <a:srgbClr val="000000"/>
                </a:solidFill>
                <a:latin typeface="Calibri"/>
              </a:rPr>
              <a:t> </a:t>
            </a:r>
            <a:r>
              <a:rPr b="0" i="1" lang="ca-ES" sz="2800" spc="-1" strike="noStrike">
                <a:solidFill>
                  <a:srgbClr val="000000"/>
                </a:solidFill>
                <a:latin typeface="Calibri"/>
              </a:rPr>
              <a:t>quan és necessari per diferencia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llengua en la qual s’expressa una obr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qualsevol fo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nt d'accés: subcamp $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u="sng">
                <a:solidFill>
                  <a:srgbClr val="000000"/>
                </a:solidFill>
                <a:uFillTx/>
                <a:latin typeface="Calibri"/>
              </a:rPr>
              <a:t>Cal distingir ent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expressió en més d'una llengu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Dues o més expressions.</a:t>
            </a:r>
            <a:endParaRPr b="0" lang="en-US" sz="2800" spc="-1" strike="noStrike">
              <a:solidFill>
                <a:srgbClr val="000000"/>
              </a:solidFill>
              <a:latin typeface="Calibri"/>
            </a:endParaRPr>
          </a:p>
        </p:txBody>
      </p:sp>
      <p:sp>
        <p:nvSpPr>
          <p:cNvPr id="34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B74C4-28A7-41EA-A16D-E5B07ECBBF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1 </a:t>
            </a:r>
            <a:br>
              <a:rPr sz="3200"/>
            </a:br>
            <a:r>
              <a:rPr b="0" lang="ca-ES" sz="3200" spc="-1" strike="noStrike" u="sng">
                <a:solidFill>
                  <a:srgbClr val="000000"/>
                </a:solidFill>
                <a:uFillTx/>
                <a:latin typeface="Calibri"/>
              </a:rPr>
              <a:t>Una expressió </a:t>
            </a:r>
            <a:endParaRPr b="0" lang="en-US" sz="3200" spc="-1" strike="noStrike">
              <a:solidFill>
                <a:srgbClr val="000000"/>
              </a:solidFill>
              <a:latin typeface="Calibri"/>
            </a:endParaRPr>
          </a:p>
        </p:txBody>
      </p:sp>
      <p:sp>
        <p:nvSpPr>
          <p:cNvPr id="348" name=""/>
          <p:cNvSpPr txBox="1"/>
          <p:nvPr/>
        </p:nvSpPr>
        <p:spPr>
          <a:xfrm>
            <a:off x="457200" y="1484280"/>
            <a:ext cx="8229600" cy="4641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una llengua: enregistreu-la en un </a:t>
            </a:r>
            <a:r>
              <a:rPr b="1" lang="ca-ES" sz="3200" spc="-1" strike="noStrike">
                <a:solidFill>
                  <a:srgbClr val="000000"/>
                </a:solidFill>
                <a:latin typeface="Calibri"/>
              </a:rPr>
              <a:t>$l</a:t>
            </a:r>
            <a:r>
              <a:rPr b="0" lang="ca-ES" sz="3200" spc="-1" strike="noStrike">
                <a:solidFill>
                  <a:srgbClr val="000000"/>
                </a:solidFill>
                <a:latin typeface="Calibri"/>
              </a:rPr>
              <a:t> si és una traducció.</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urier New"/>
                <a:ea typeface="Courier New"/>
              </a:rPr>
              <a:t>Ex.: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100 1# $aBrunhoff, Jean de,$d1899-1937</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0 10 $a</a:t>
            </a:r>
            <a:r>
              <a:rPr b="1" lang="en-US" sz="2400" spc="-1" strike="noStrike">
                <a:solidFill>
                  <a:srgbClr val="376092"/>
                </a:solidFill>
                <a:latin typeface="Courier New"/>
                <a:ea typeface="Courier New"/>
              </a:rPr>
              <a:t>Babar en famille</a:t>
            </a:r>
            <a:r>
              <a:rPr b="1" lang="en-US" sz="2400" spc="-1" strike="noStrike" u="sng">
                <a:solidFill>
                  <a:srgbClr val="953735"/>
                </a:solidFill>
                <a:uFillTx/>
                <a:latin typeface="Courier New"/>
                <a:ea typeface="MS PGothic"/>
              </a:rPr>
              <a:t>.</a:t>
            </a:r>
            <a:r>
              <a:rPr b="1" lang="ca-ES" sz="2400" spc="-1" strike="noStrike" u="sng">
                <a:solidFill>
                  <a:srgbClr val="953735"/>
                </a:solidFill>
                <a:uFillTx/>
                <a:latin typeface="Courier New"/>
                <a:ea typeface="Courier New"/>
              </a:rPr>
              <a:t>$lCatalà</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ourier New"/>
                <a:ea typeface="Courier New"/>
              </a:rPr>
              <a:t>245 10 $aBabar en família</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més d'una llengua (p. ex., </a:t>
            </a:r>
            <a:r>
              <a:rPr b="0" i="1" lang="ca-ES" sz="3200" spc="-1" strike="noStrike">
                <a:solidFill>
                  <a:srgbClr val="000000"/>
                </a:solidFill>
                <a:latin typeface="Calibri"/>
              </a:rPr>
              <a:t>Guerra i pau de</a:t>
            </a:r>
            <a:r>
              <a:rPr b="0" lang="ca-ES" sz="3200" spc="-1" strike="noStrike">
                <a:solidFill>
                  <a:srgbClr val="000000"/>
                </a:solidFill>
                <a:latin typeface="Calibri"/>
              </a:rPr>
              <a:t> Tolstoi): No s'ha d'enregistrar, llevat que sigui una traducció.</a:t>
            </a:r>
            <a:endParaRPr b="0" lang="en-US" sz="3200" spc="-1" strike="noStrike">
              <a:solidFill>
                <a:srgbClr val="000000"/>
              </a:solidFill>
              <a:latin typeface="Calibri"/>
            </a:endParaRPr>
          </a:p>
        </p:txBody>
      </p:sp>
      <p:sp>
        <p:nvSpPr>
          <p:cNvPr id="3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9886-54BD-4FCB-ABF1-EDD07A8741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2</a:t>
            </a:r>
            <a:br>
              <a:rPr sz="3200"/>
            </a:br>
            <a:r>
              <a:rPr b="0" lang="ca-ES" sz="3200" spc="-1" strike="noStrike" u="sng">
                <a:solidFill>
                  <a:srgbClr val="000000"/>
                </a:solidFill>
                <a:uFillTx/>
                <a:latin typeface="Calibri"/>
              </a:rPr>
              <a:t>Dues expressions:</a:t>
            </a:r>
            <a:r>
              <a:rPr b="1" i="1" lang="ca-ES" sz="3200" spc="-1" strike="noStrike">
                <a:solidFill>
                  <a:srgbClr val="000000"/>
                </a:solidFill>
                <a:latin typeface="Calibri"/>
              </a:rPr>
              <a:t> </a:t>
            </a:r>
            <a:r>
              <a:rPr b="0" i="1" lang="ca-ES" sz="3200" spc="-1" strike="noStrike">
                <a:solidFill>
                  <a:srgbClr val="000000"/>
                </a:solidFill>
                <a:latin typeface="Calibri"/>
              </a:rPr>
              <a:t>Original i una traducció</a:t>
            </a:r>
            <a:endParaRPr b="0" lang="en-US" sz="3200" spc="-1" strike="noStrike">
              <a:solidFill>
                <a:srgbClr val="000000"/>
              </a:solidFill>
              <a:latin typeface="Calibri"/>
            </a:endParaRPr>
          </a:p>
        </p:txBody>
      </p:sp>
      <p:sp>
        <p:nvSpPr>
          <p:cNvPr id="351" name=""/>
          <p:cNvSpPr txBox="1"/>
          <p:nvPr/>
        </p:nvSpPr>
        <p:spPr>
          <a:xfrm>
            <a:off x="457200" y="1599840"/>
            <a:ext cx="8229600" cy="4205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la manifestació és una compilació de l'original i d'una</a:t>
            </a:r>
            <a:r>
              <a:rPr b="0" i="1" lang="ca-ES" sz="3200" spc="-1" strike="noStrike">
                <a:solidFill>
                  <a:srgbClr val="000000"/>
                </a:solidFill>
                <a:latin typeface="Calibri"/>
              </a:rPr>
              <a:t> traducció</a:t>
            </a:r>
            <a:r>
              <a:rPr b="0" lang="ca-ES" sz="3200" spc="-1" strike="noStrike">
                <a:solidFill>
                  <a:srgbClr val="000000"/>
                </a:solidFill>
                <a:latin typeface="Calibri"/>
              </a:rPr>
              <a:t> de la mateixa obra</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punt d'accés autoritzat analític per l'</a:t>
            </a:r>
            <a:r>
              <a:rPr b="1" i="1" lang="ca-ES" sz="3200" spc="-1" strike="noStrike" u="sng">
                <a:solidFill>
                  <a:srgbClr val="376092"/>
                </a:solidFill>
                <a:uFillTx/>
                <a:latin typeface="Calibri"/>
              </a:rPr>
              <a:t>original</a:t>
            </a:r>
            <a:r>
              <a:rPr b="1" lang="ca-ES" sz="3200" spc="-1" strike="noStrike">
                <a:solidFill>
                  <a:srgbClr val="376092"/>
                </a:solidFill>
                <a:latin typeface="Calibri"/>
              </a:rPr>
              <a:t> </a:t>
            </a:r>
            <a:r>
              <a:rPr b="1" i="1" lang="ca-ES" sz="3200" spc="-1" strike="noStrike">
                <a:solidFill>
                  <a:srgbClr val="376092"/>
                </a:solidFill>
                <a:latin typeface="Calibri"/>
              </a:rPr>
              <a:t>(sense $l) </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76092"/>
                </a:solidFill>
                <a:latin typeface="Calibri"/>
              </a:rPr>
              <a:t>+</a:t>
            </a:r>
            <a:endParaRPr b="0" lang="en-US" sz="3200" spc="-1" strike="noStrike">
              <a:solidFill>
                <a:srgbClr val="000000"/>
              </a:solidFill>
              <a:latin typeface="Calibri"/>
            </a:endParaRPr>
          </a:p>
          <a:p>
            <a:pPr marL="343080" indent="-343080">
              <a:spcBef>
                <a:spcPts val="7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Enregistreu un altre punt d'accés autoritzat analític per a la </a:t>
            </a:r>
            <a:r>
              <a:rPr b="1" i="1" lang="ca-ES" sz="3200" spc="-1" strike="noStrike" u="sng">
                <a:solidFill>
                  <a:srgbClr val="376092"/>
                </a:solidFill>
                <a:uFillTx/>
                <a:latin typeface="Calibri"/>
              </a:rPr>
              <a:t>traducció</a:t>
            </a:r>
            <a:r>
              <a:rPr b="1" lang="ca-ES" sz="3200" spc="-1" strike="noStrike" u="sng">
                <a:solidFill>
                  <a:srgbClr val="376092"/>
                </a:solidFill>
                <a:uFillTx/>
                <a:latin typeface="Calibri"/>
              </a:rPr>
              <a:t> </a:t>
            </a:r>
            <a:r>
              <a:rPr b="1" i="1" lang="ca-ES" sz="3200" spc="-1" strike="noStrike">
                <a:solidFill>
                  <a:srgbClr val="376092"/>
                </a:solidFill>
                <a:latin typeface="Calibri"/>
              </a:rPr>
              <a:t>(amb</a:t>
            </a:r>
            <a:r>
              <a:rPr b="1" lang="ca-ES" sz="3200" spc="-1" strike="noStrike">
                <a:solidFill>
                  <a:srgbClr val="376092"/>
                </a:solidFill>
                <a:latin typeface="Calibri"/>
              </a:rPr>
              <a:t> </a:t>
            </a:r>
            <a:r>
              <a:rPr b="1" i="1" lang="ca-ES" sz="3200" spc="-1" strike="noStrike">
                <a:solidFill>
                  <a:srgbClr val="376092"/>
                </a:solidFill>
                <a:latin typeface="Calibri"/>
              </a:rPr>
              <a:t>$l</a:t>
            </a:r>
            <a:r>
              <a:rPr b="1" lang="ca-ES" sz="3200" spc="-1" strike="noStrike">
                <a:solidFill>
                  <a:srgbClr val="376092"/>
                </a:solidFill>
                <a:latin typeface="Calibri"/>
              </a:rPr>
              <a:t>)</a:t>
            </a:r>
            <a:endParaRPr b="0" lang="en-US" sz="3200" spc="-1" strike="noStrike">
              <a:solidFill>
                <a:srgbClr val="000000"/>
              </a:solidFill>
              <a:latin typeface="Calibri"/>
            </a:endParaRPr>
          </a:p>
        </p:txBody>
      </p:sp>
      <p:sp>
        <p:nvSpPr>
          <p:cNvPr id="35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497BC-5418-463F-A21F-A1CE7408EA5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3" name="4 CuadroTexto"/>
          <p:cNvSpPr/>
          <p:nvPr/>
        </p:nvSpPr>
        <p:spPr>
          <a:xfrm>
            <a:off x="755640" y="6021360"/>
            <a:ext cx="669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Arial"/>
              </a:rPr>
              <a:t>(Concreció 26.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Política: P</a:t>
            </a:r>
            <a:r>
              <a:rPr b="1" lang="ca-ES" sz="3200" spc="-1" strike="noStrike">
                <a:solidFill>
                  <a:srgbClr val="000000"/>
                </a:solidFill>
                <a:latin typeface="Calibri"/>
              </a:rPr>
              <a:t>unts d’accés autoritzats</a:t>
            </a:r>
            <a:endParaRPr b="0" lang="en-US" sz="3200" spc="-1" strike="noStrike">
              <a:solidFill>
                <a:srgbClr val="000000"/>
              </a:solidFill>
              <a:latin typeface="Calibri"/>
            </a:endParaRPr>
          </a:p>
        </p:txBody>
      </p:sp>
      <p:sp>
        <p:nvSpPr>
          <p:cNvPr id="85" name=""/>
          <p:cNvSpPr txBox="1"/>
          <p:nvPr/>
        </p:nvSpPr>
        <p:spPr>
          <a:xfrm>
            <a:off x="457200" y="1341000"/>
            <a:ext cx="8229600" cy="4784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faran punts d'accés autoritzats per:</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grupar totes les descripcions dels recursos que materialitzen una obra quan diverses manifestacions han aparegut amb títols diferent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dentificar una obra quan el títol pel qual se la coneix difereix del títol propi del recurs que es descriu.</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Diferenciar entre dues o més obres amb el mateix títo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ar una relació a una obra relacionada o a una expressió relacionada.</a:t>
            </a:r>
            <a:endParaRPr b="0" lang="en-US" sz="3000" spc="-1" strike="noStrike">
              <a:solidFill>
                <a:srgbClr val="000000"/>
              </a:solidFill>
              <a:latin typeface="Calibri"/>
            </a:endParaRPr>
          </a:p>
        </p:txBody>
      </p:sp>
      <p:sp>
        <p:nvSpPr>
          <p:cNvPr id="8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A86F-5109-4FAB-955D-BEA26CFE7F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600" spc="-1" strike="noStrike">
                <a:solidFill>
                  <a:srgbClr val="000000"/>
                </a:solidFill>
                <a:latin typeface="Calibri"/>
              </a:rPr>
              <a:t>Exemples: </a:t>
            </a:r>
            <a:r>
              <a:rPr b="0" i="1" lang="ca-ES" sz="3600" spc="-1" strike="noStrike">
                <a:solidFill>
                  <a:srgbClr val="000000"/>
                </a:solidFill>
                <a:latin typeface="Calibri"/>
              </a:rPr>
              <a:t>original i </a:t>
            </a:r>
            <a:r>
              <a:rPr b="0" i="1" lang="ca-ES" sz="3600" spc="-1" strike="noStrike" u="sng">
                <a:solidFill>
                  <a:srgbClr val="000000"/>
                </a:solidFill>
                <a:uFillTx/>
                <a:latin typeface="Calibri"/>
              </a:rPr>
              <a:t>una</a:t>
            </a:r>
            <a:r>
              <a:rPr b="0" i="1" lang="ca-ES" sz="3600" spc="-1" strike="noStrike">
                <a:solidFill>
                  <a:srgbClr val="000000"/>
                </a:solidFill>
                <a:latin typeface="Calibri"/>
              </a:rPr>
              <a:t> traducció</a:t>
            </a:r>
            <a:endParaRPr b="0" lang="en-US" sz="3600" spc="-1" strike="noStrike">
              <a:solidFill>
                <a:srgbClr val="000000"/>
              </a:solidFill>
              <a:latin typeface="Calibri"/>
            </a:endParaRPr>
          </a:p>
        </p:txBody>
      </p:sp>
      <p:sp>
        <p:nvSpPr>
          <p:cNvPr id="355" name=""/>
          <p:cNvSpPr txBox="1"/>
          <p:nvPr/>
        </p:nvSpPr>
        <p:spPr>
          <a:xfrm>
            <a:off x="468360" y="1125000"/>
            <a:ext cx="8229600" cy="2590920"/>
          </a:xfrm>
          <a:prstGeom prst="rect">
            <a:avLst/>
          </a:prstGeom>
          <a:noFill/>
          <a:ln w="9360">
            <a:solidFill>
              <a:srgbClr val="000000"/>
            </a:solidFill>
            <a:miter/>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AACR2: Original + traducció al castellà en el mateix recurs</a:t>
            </a:r>
            <a:endParaRPr b="0" lang="en-US" sz="24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41 1# $aeng$aspa$heng</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Macken, JoAnn Early,$d1953-</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240 10 $aMail carrier.$</a:t>
            </a:r>
            <a:r>
              <a:rPr b="1" lang="ca-ES" sz="2000" spc="-1" strike="noStrike" u="sng">
                <a:solidFill>
                  <a:srgbClr val="953735"/>
                </a:solidFill>
                <a:uFillTx/>
                <a:latin typeface="Courier New"/>
                <a:ea typeface="Courier New"/>
              </a:rPr>
              <a:t>lCastellà i anglès</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Mail carrier =$bEl cartero /$cJoAnn Early Macken</a:t>
            </a: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546 ## $aText en anglès i castellà</a:t>
            </a:r>
            <a:endParaRPr b="0" lang="en-US" sz="2000" spc="-1" strike="noStrike">
              <a:solidFill>
                <a:srgbClr val="000000"/>
              </a:solidFill>
              <a:latin typeface="Calibri"/>
            </a:endParaRPr>
          </a:p>
        </p:txBody>
      </p:sp>
      <p:sp>
        <p:nvSpPr>
          <p:cNvPr id="356" name="2 Marcador de contenido"/>
          <p:cNvSpPr/>
          <p:nvPr/>
        </p:nvSpPr>
        <p:spPr>
          <a:xfrm>
            <a:off x="468360" y="3933720"/>
            <a:ext cx="8229600" cy="2664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a:solidFill>
                  <a:srgbClr val="000000"/>
                </a:solidFill>
                <a:latin typeface="Calibri"/>
              </a:rPr>
              <a:t>RDA: Original + traducció al castellà en el mateix recurs</a:t>
            </a:r>
            <a:endParaRPr b="0" lang="en-US" sz="22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41 1# $aeng$aspa$he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Macken, JoAnn Early,$d1953-</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Mail carrier = $bEl cartero /$cJoAnn Early Macke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46 ## $aText en anglès i castellà</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Macken, JoAnn Early,$d1953-</a:t>
            </a:r>
            <a:r>
              <a:rPr b="1" lang="ca-ES" sz="1800" spc="-1" strike="noStrike" u="sng">
                <a:solidFill>
                  <a:srgbClr val="953735"/>
                </a:solidFill>
                <a:uFillTx/>
                <a:latin typeface="Courier New"/>
                <a:ea typeface="Courier New"/>
              </a:rPr>
              <a:t>$tMail carrier.$lCastellà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6F5B1-5841-48B1-BB33-6F2D7E6145F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60" y="259920"/>
            <a:ext cx="88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3</a:t>
            </a:r>
            <a:br>
              <a:rPr sz="3200"/>
            </a:br>
            <a:r>
              <a:rPr b="0" lang="ca-ES" sz="3200" spc="-1" strike="noStrike" u="sng">
                <a:solidFill>
                  <a:srgbClr val="000000"/>
                </a:solidFill>
                <a:uFillTx/>
                <a:latin typeface="Calibri"/>
              </a:rPr>
              <a:t>Més de dues expressions</a:t>
            </a:r>
            <a:r>
              <a:rPr b="0" lang="ca-ES" sz="3200" spc="-1" strike="noStrike">
                <a:solidFill>
                  <a:srgbClr val="000000"/>
                </a:solidFill>
                <a:latin typeface="Calibri"/>
              </a:rPr>
              <a:t>: </a:t>
            </a:r>
            <a:br>
              <a:rPr sz="3200"/>
            </a:br>
            <a:r>
              <a:rPr b="0" i="1" lang="ca-ES" sz="3200" spc="-1" strike="noStrike">
                <a:solidFill>
                  <a:srgbClr val="000000"/>
                </a:solidFill>
                <a:latin typeface="Calibri"/>
              </a:rPr>
              <a:t>original i </a:t>
            </a:r>
            <a:r>
              <a:rPr b="0" i="1" lang="ca-ES" sz="3200" spc="-1" strike="noStrike" u="sng">
                <a:solidFill>
                  <a:srgbClr val="000000"/>
                </a:solidFill>
                <a:uFillTx/>
                <a:latin typeface="Calibri"/>
              </a:rPr>
              <a:t>més d'una </a:t>
            </a:r>
            <a:r>
              <a:rPr b="0" i="1"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59" name=""/>
          <p:cNvSpPr txBox="1"/>
          <p:nvPr/>
        </p:nvSpPr>
        <p:spPr>
          <a:xfrm>
            <a:off x="457200" y="1773000"/>
            <a:ext cx="8362800" cy="4352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la compilació conté l'expressió original i </a:t>
            </a:r>
            <a:r>
              <a:rPr b="0" i="1" lang="ca-ES" sz="3000" spc="-1" strike="noStrike">
                <a:solidFill>
                  <a:srgbClr val="000000"/>
                </a:solidFill>
                <a:latin typeface="Calibri"/>
              </a:rPr>
              <a:t>més d'una traducció:</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per a l'expressió </a:t>
            </a:r>
            <a:r>
              <a:rPr b="1" i="1" lang="ca-ES" sz="3000" spc="-1" strike="noStrike" u="sng">
                <a:solidFill>
                  <a:srgbClr val="376092"/>
                </a:solidFill>
                <a:uFillTx/>
                <a:latin typeface="Calibri"/>
              </a:rPr>
              <a:t>original</a:t>
            </a:r>
            <a:r>
              <a:rPr b="1" lang="ca-ES" sz="3000" spc="-1" strike="noStrike">
                <a:solidFill>
                  <a:srgbClr val="376092"/>
                </a:solidFill>
                <a:latin typeface="Calibri"/>
              </a:rPr>
              <a:t> </a:t>
            </a:r>
            <a:r>
              <a:rPr b="1" i="1" lang="ca-ES" sz="3000" spc="-1" strike="noStrike">
                <a:solidFill>
                  <a:srgbClr val="376092"/>
                </a:solidFill>
                <a:latin typeface="Calibri"/>
              </a:rPr>
              <a:t>(sense $l)</a:t>
            </a:r>
            <a:endParaRPr b="0" lang="en-US" sz="3000" spc="-1" strike="noStrike">
              <a:solidFill>
                <a:srgbClr val="000000"/>
              </a:solidFill>
              <a:latin typeface="Calibri"/>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376092"/>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376092"/>
                </a:solidFill>
                <a:latin typeface="Calibri"/>
              </a:rPr>
              <a:t>Enregistreu un punt d'accés autoritzat analític </a:t>
            </a:r>
            <a:r>
              <a:rPr b="1" i="1" lang="ca-ES" sz="3000" spc="-1" strike="noStrike">
                <a:solidFill>
                  <a:srgbClr val="376092"/>
                </a:solidFill>
                <a:latin typeface="Calibri"/>
              </a:rPr>
              <a:t>almenys per a </a:t>
            </a:r>
            <a:r>
              <a:rPr b="1" i="1" lang="ca-ES" sz="3000" spc="-1" strike="noStrike" u="sng">
                <a:solidFill>
                  <a:srgbClr val="376092"/>
                </a:solidFill>
                <a:uFillTx/>
                <a:latin typeface="Calibri"/>
              </a:rPr>
              <a:t>una de les traduccions</a:t>
            </a:r>
            <a:r>
              <a:rPr b="1" lang="ca-ES" sz="3000" spc="-1" strike="noStrike">
                <a:solidFill>
                  <a:srgbClr val="376092"/>
                </a:solidFill>
                <a:latin typeface="Calibri"/>
              </a:rPr>
              <a:t> </a:t>
            </a:r>
            <a:r>
              <a:rPr b="1" i="1" lang="ca-ES" sz="3000" spc="-1" strike="noStrike">
                <a:solidFill>
                  <a:srgbClr val="376092"/>
                </a:solidFill>
                <a:latin typeface="Calibri"/>
              </a:rPr>
              <a:t>(amb $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000" spc="-1" strike="noStrike">
                <a:solidFill>
                  <a:srgbClr val="000000"/>
                </a:solidFill>
                <a:latin typeface="Calibri"/>
              </a:rPr>
              <a:t>Queda a criteri del catalogador enregistrar punts d'accés analítics addicionals.</a:t>
            </a:r>
            <a:endParaRPr b="0" lang="en-US" sz="3000" spc="-1" strike="noStrike">
              <a:solidFill>
                <a:srgbClr val="000000"/>
              </a:solidFill>
              <a:latin typeface="Calibri"/>
            </a:endParaRPr>
          </a:p>
        </p:txBody>
      </p:sp>
      <p:sp>
        <p:nvSpPr>
          <p:cNvPr id="3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AE10-97D2-4275-BA82-3FA13BE89F7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xemple:</a:t>
            </a:r>
            <a:br>
              <a:rPr sz="3200"/>
            </a:br>
            <a:r>
              <a:rPr b="0" lang="ca-ES" sz="3200" spc="-1" strike="noStrike">
                <a:solidFill>
                  <a:srgbClr val="000000"/>
                </a:solidFill>
                <a:latin typeface="Calibri"/>
              </a:rPr>
              <a:t>original i </a:t>
            </a:r>
            <a:r>
              <a:rPr b="0" lang="ca-ES" sz="3200" spc="-1" strike="noStrike" u="sng">
                <a:solidFill>
                  <a:srgbClr val="000000"/>
                </a:solidFill>
                <a:uFillTx/>
                <a:latin typeface="Calibri"/>
              </a:rPr>
              <a:t>més d'una </a:t>
            </a:r>
            <a:r>
              <a:rPr b="0" lang="ca-ES" sz="3200" spc="-1" strike="noStrike">
                <a:solidFill>
                  <a:srgbClr val="000000"/>
                </a:solidFill>
                <a:latin typeface="Calibri"/>
              </a:rPr>
              <a:t>traducció</a:t>
            </a:r>
            <a:endParaRPr b="0" lang="en-US" sz="32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9360">
            <a:solidFill>
              <a:srgbClr val="000000"/>
            </a:solidFill>
            <a:miter/>
          </a:ln>
        </p:spPr>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100 1# $aShakespeare, William,$d1564-1616</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245 10 $aRomeo and Juliet =$bRomeo y Julieta = Romeo und Julia /$cWilliam Shakespear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tRomeo and Julie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953735"/>
                </a:solidFill>
                <a:latin typeface="Courier New"/>
                <a:ea typeface="Courier New"/>
              </a:rPr>
              <a:t>700 12 $aShakespeare, William,$d1564-1616. </a:t>
            </a:r>
            <a:r>
              <a:rPr b="1" lang="ca-ES" sz="2000" spc="-1" strike="noStrike">
                <a:solidFill>
                  <a:srgbClr val="953735"/>
                </a:solidFill>
                <a:latin typeface="Courier New"/>
                <a:ea typeface="Courier New"/>
              </a:rPr>
              <a:t>	</a:t>
            </a:r>
            <a:r>
              <a:rPr b="1" lang="ca-ES" sz="2000" spc="-1" strike="noStrike">
                <a:solidFill>
                  <a:srgbClr val="953735"/>
                </a:solidFill>
                <a:latin typeface="Courier New"/>
                <a:ea typeface="Courier New"/>
              </a:rPr>
              <a:t>  $tRomeo and Juliet</a:t>
            </a:r>
            <a:r>
              <a:rPr b="1" lang="ca-ES" sz="2000" spc="-1" strike="noStrike" u="sng">
                <a:solidFill>
                  <a:srgbClr val="953735"/>
                </a:solidFill>
                <a:uFillTx/>
                <a:latin typeface="Courier New"/>
                <a:ea typeface="Courier New"/>
              </a:rPr>
              <a:t>.$lCastellà</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376092"/>
                </a:solidFill>
                <a:latin typeface="Courier New"/>
                <a:ea typeface="Courier New"/>
              </a:rPr>
              <a:t>*</a:t>
            </a:r>
            <a:r>
              <a:rPr b="1" lang="ca-ES" sz="2000" spc="-1" strike="noStrike">
                <a:solidFill>
                  <a:srgbClr val="376092"/>
                </a:solidFill>
                <a:latin typeface="Courier New"/>
                <a:ea typeface="Courier New"/>
              </a:rPr>
              <a:t>700 12 $aShakespeare, William,$d1564-1616. </a:t>
            </a:r>
            <a:r>
              <a:rPr b="1" lang="ca-ES" sz="2000" spc="-1" strike="noStrike">
                <a:solidFill>
                  <a:srgbClr val="376092"/>
                </a:solidFill>
                <a:latin typeface="Courier New"/>
                <a:ea typeface="Courier New"/>
              </a:rPr>
              <a:t>	</a:t>
            </a:r>
            <a:r>
              <a:rPr b="1" lang="ca-ES" sz="2000" spc="-1" strike="noStrike">
                <a:solidFill>
                  <a:srgbClr val="376092"/>
                </a:solidFill>
                <a:latin typeface="Courier New"/>
                <a:ea typeface="Courier New"/>
              </a:rPr>
              <a:t>  $tRomeo and Juliet.$lAleman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Calibri"/>
            </a:endParaRPr>
          </a:p>
        </p:txBody>
      </p:sp>
      <p:sp>
        <p:nvSpPr>
          <p:cNvPr id="363"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4086-6B79-48DF-A422-539822336EF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4</a:t>
            </a:r>
            <a:br>
              <a:rPr sz="3200"/>
            </a:br>
            <a:r>
              <a:rPr b="0" lang="ca-ES" sz="3200" spc="-1" strike="noStrike" u="sng">
                <a:solidFill>
                  <a:srgbClr val="000000"/>
                </a:solidFill>
                <a:uFillTx/>
                <a:latin typeface="Calibri"/>
              </a:rPr>
              <a:t>Més d'una una traducció</a:t>
            </a:r>
            <a:r>
              <a:rPr b="0" lang="ca-ES" sz="3200" spc="-1" strike="noStrike">
                <a:solidFill>
                  <a:srgbClr val="000000"/>
                </a:solidFill>
                <a:latin typeface="Calibri"/>
              </a:rPr>
              <a:t>, </a:t>
            </a:r>
            <a:r>
              <a:rPr b="0" lang="ca-ES" sz="3200" spc="-1" strike="noStrike" u="sng">
                <a:solidFill>
                  <a:srgbClr val="000000"/>
                </a:solidFill>
                <a:uFillTx/>
                <a:latin typeface="Calibri"/>
              </a:rPr>
              <a:t>no hi ha l'original </a:t>
            </a:r>
            <a:endParaRPr b="0" lang="en-US" sz="3200" spc="-1" strike="noStrike">
              <a:solidFill>
                <a:srgbClr val="000000"/>
              </a:solidFill>
              <a:latin typeface="Calibri"/>
            </a:endParaRPr>
          </a:p>
        </p:txBody>
      </p:sp>
      <p:sp>
        <p:nvSpPr>
          <p:cNvPr id="365" name=""/>
          <p:cNvSpPr txBox="1"/>
          <p:nvPr/>
        </p:nvSpPr>
        <p:spPr>
          <a:xfrm>
            <a:off x="457200" y="1412640"/>
            <a:ext cx="8229600" cy="187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es o més expressions en diferents llengües i no hi ha l'expressió</a:t>
            </a:r>
            <a:r>
              <a:rPr b="0" i="1" lang="ca-ES" sz="2400" spc="-1" strike="noStrike">
                <a:solidFill>
                  <a:srgbClr val="000000"/>
                </a:solidFill>
                <a:latin typeface="Calibri"/>
              </a:rPr>
              <a:t> original:</a:t>
            </a:r>
            <a:endParaRPr b="0" lang="en-US" sz="2400" spc="-1" strike="noStrike">
              <a:solidFill>
                <a:srgbClr val="000000"/>
              </a:solidFill>
              <a:latin typeface="Calibri"/>
            </a:endParaRPr>
          </a:p>
          <a:p>
            <a:pPr marL="343080" indent="-343080">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Enregistreu almenys una de les expressions en un punt d'accés autoritzat analític.</a:t>
            </a:r>
            <a:endParaRPr b="0" lang="en-US" sz="2400" spc="-1" strike="noStrike">
              <a:solidFill>
                <a:srgbClr val="000000"/>
              </a:solidFill>
              <a:latin typeface="Calibri"/>
            </a:endParaRPr>
          </a:p>
        </p:txBody>
      </p:sp>
      <p:sp>
        <p:nvSpPr>
          <p:cNvPr id="366" name="2 Marcador de contenido"/>
          <p:cNvSpPr/>
          <p:nvPr/>
        </p:nvSpPr>
        <p:spPr>
          <a:xfrm>
            <a:off x="468360" y="3357720"/>
            <a:ext cx="8291520" cy="29509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Shakespeare, William,‡d1564-16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Romeo et Juliette = $bRomeo und Julia /$c William Shakespe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00 12 $aShakespeare, William,‡d1564-1616.$tRomeo and Juliet</a:t>
            </a:r>
            <a:r>
              <a:rPr b="1" lang="ca-ES" sz="1800" spc="-1" strike="noStrike" u="sng">
                <a:solidFill>
                  <a:srgbClr val="953735"/>
                </a:solidFill>
                <a:uFillTx/>
                <a:latin typeface="Courier New"/>
                <a:ea typeface="Courier New"/>
              </a:rPr>
              <a:t>.$lFrancè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700 12 $aShakespeare, William,‡d1564-1616.$tRomeo and Juliet.$lAleman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t>
            </a:r>
            <a:r>
              <a:rPr b="1" i="1" lang="ca-ES" sz="1800" spc="-1" strike="noStrike">
                <a:solidFill>
                  <a:srgbClr val="000000"/>
                </a:solidFill>
                <a:latin typeface="Calibri"/>
              </a:rPr>
              <a:t>Queda a criteri del catalogador enregistrar punts d'accés analítics addicionals.</a:t>
            </a:r>
            <a:endParaRPr b="0" lang="en-US" sz="1800" spc="-1" strike="noStrike">
              <a:solidFill>
                <a:srgbClr val="000000"/>
              </a:solidFill>
              <a:latin typeface="Arial"/>
            </a:endParaRPr>
          </a:p>
        </p:txBody>
      </p:sp>
      <p:sp>
        <p:nvSpPr>
          <p:cNvPr id="367" name="4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F5B9-9A2C-45F7-9ADF-06E23324D90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asuística: 5</a:t>
            </a:r>
            <a:br>
              <a:rPr sz="2800"/>
            </a:br>
            <a:r>
              <a:rPr b="0" lang="ca-ES" sz="2800" spc="-1" strike="noStrike">
                <a:solidFill>
                  <a:srgbClr val="000000"/>
                </a:solidFill>
                <a:latin typeface="Calibri"/>
              </a:rPr>
              <a:t>L’obra </a:t>
            </a:r>
            <a:r>
              <a:rPr b="0" lang="ca-ES" sz="2800" spc="-1" strike="noStrike" u="sng">
                <a:solidFill>
                  <a:srgbClr val="000000"/>
                </a:solidFill>
                <a:uFillTx/>
                <a:latin typeface="Calibri"/>
              </a:rPr>
              <a:t>es publica simultàniament en diferents llengües </a:t>
            </a:r>
            <a:r>
              <a:rPr b="0" lang="ca-ES" sz="2800" spc="-1" strike="noStrike">
                <a:solidFill>
                  <a:srgbClr val="000000"/>
                </a:solidFill>
                <a:latin typeface="Calibri"/>
              </a:rPr>
              <a:t>i la </a:t>
            </a:r>
            <a:r>
              <a:rPr b="0" lang="ca-ES" sz="2800" spc="-1" strike="noStrike" u="sng">
                <a:solidFill>
                  <a:srgbClr val="000000"/>
                </a:solidFill>
                <a:uFillTx/>
                <a:latin typeface="Calibri"/>
              </a:rPr>
              <a:t>llengua original no es pot determinar</a:t>
            </a:r>
            <a:endParaRPr b="0" lang="en-US" sz="2800" spc="-1" strike="noStrike">
              <a:solidFill>
                <a:srgbClr val="000000"/>
              </a:solidFill>
              <a:latin typeface="Calibri"/>
            </a:endParaRPr>
          </a:p>
        </p:txBody>
      </p:sp>
      <p:sp>
        <p:nvSpPr>
          <p:cNvPr id="369" name=""/>
          <p:cNvSpPr txBox="1"/>
          <p:nvPr/>
        </p:nvSpPr>
        <p:spPr>
          <a:xfrm>
            <a:off x="468360" y="1557360"/>
            <a:ext cx="8229600" cy="45259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Quan una obra es publica simultàniament en diferents llengües però en edicions separades per a cadascuna i res no evidencia quina és la llengua original, es tria la primera rebuda com a original i les altres es tracten com a traduccions. </a:t>
            </a:r>
            <a:endParaRPr b="0" lang="en-US" sz="25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Primera edició rebuda:</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00 $aData on petroleum and economy of Venezuela</a:t>
            </a:r>
            <a:endParaRPr b="0" lang="en-US" sz="1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376092"/>
                </a:solidFill>
                <a:latin typeface="Courier New"/>
                <a:ea typeface="Courier New"/>
              </a:rPr>
              <a:t> </a:t>
            </a:r>
            <a:endParaRPr b="0" lang="en-US" sz="22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Edició en castellà rebuda posteriorment:</a:t>
            </a:r>
            <a:endParaRPr b="0" lang="en-US" sz="22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130 0# $aData on petroleum and economy of Venezuela. $lCastellà</a:t>
            </a: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900" spc="-1" strike="noStrike">
                <a:solidFill>
                  <a:srgbClr val="376092"/>
                </a:solidFill>
                <a:latin typeface="Courier New"/>
                <a:ea typeface="Courier New"/>
              </a:rPr>
              <a:t>245 10 $aDatos básicos sobre la industria petrolera y la economía venezolana </a:t>
            </a:r>
            <a:endParaRPr b="0" lang="en-US" sz="1900" spc="-1" strike="noStrike">
              <a:solidFill>
                <a:srgbClr val="000000"/>
              </a:solidFill>
              <a:latin typeface="Calibri"/>
            </a:endParaRPr>
          </a:p>
        </p:txBody>
      </p:sp>
      <p:sp>
        <p:nvSpPr>
          <p:cNvPr id="37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809B-8D5C-4491-B910-B0FE0BC8CB7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suística: 6</a:t>
            </a:r>
            <a:br>
              <a:rPr sz="3200"/>
            </a:br>
            <a:r>
              <a:rPr b="0" lang="ca-ES" sz="3200" spc="-1" strike="noStrike">
                <a:solidFill>
                  <a:srgbClr val="000000"/>
                </a:solidFill>
                <a:latin typeface="Calibri"/>
              </a:rPr>
              <a:t>En el mateix recurs hi ha edicions </a:t>
            </a:r>
            <a:br>
              <a:rPr sz="3200"/>
            </a:br>
            <a:r>
              <a:rPr b="0" lang="ca-ES" sz="3200" spc="-1" strike="noStrike">
                <a:solidFill>
                  <a:srgbClr val="000000"/>
                </a:solidFill>
                <a:latin typeface="Calibri"/>
              </a:rPr>
              <a:t>en diverses llengües</a:t>
            </a:r>
            <a:endParaRPr b="0" lang="en-US" sz="32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 seria el cas d'alguns documents d'organismes internacionals en els quals el mateix text apareix en les diferents llengües oficials de l'entitat en la seva edició original.</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dues llengües diferents, feu un punt d'accés autoritzat analític per a cadascuna.</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són més de du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eterminar l'edició original, trieu la primera de la compilació com a original. Feu un punt d'accés analític per a l'original i almenys un altre per a una de les altres llengü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77E65-9465-494A-A499-A20475E66F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a:t>
            </a:r>
            <a:br>
              <a:rPr sz="2800"/>
            </a:br>
            <a:r>
              <a:rPr b="0" lang="ca-ES" sz="2800" spc="-1" strike="noStrike">
                <a:solidFill>
                  <a:srgbClr val="000000"/>
                </a:solidFill>
                <a:latin typeface="Calibri"/>
              </a:rPr>
              <a:t>En el mateix recurs hi ha edicions </a:t>
            </a:r>
            <a:br>
              <a:rPr sz="2800"/>
            </a:br>
            <a:r>
              <a:rPr b="0" lang="ca-ES" sz="2800" spc="-1" strike="noStrike">
                <a:solidFill>
                  <a:srgbClr val="000000"/>
                </a:solidFill>
                <a:latin typeface="Calibri"/>
              </a:rPr>
              <a:t>en diverses llengü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00$aDiplôme international de l'OIV en management du secteur de la vigne et du vin :$bOIV MSc in wine management = International diploma of the OIV in management of the vine and wine sector = Internationales Diplom der OIV im Fachberich Management im Weinbausektor = Diploma internazionale dell'OIV in getion del settore della vigna e del vino = Diploma internacional de la OIV de management del sector la viña y el vino</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953735"/>
                </a:solidFill>
                <a:latin typeface="Courier New"/>
                <a:ea typeface="Courier New"/>
              </a:rPr>
              <a:t>730 02$aDiplôme international de l'OIV en management du secteur de la vigne et du vin.$lAnglès</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L'edició francesa es tria com a original per ser la primera anomenada en la compilació i no se n'ha rebut cap altra amb anterioritat.</a:t>
            </a:r>
            <a:endParaRPr b="0" lang="en-US" sz="1800" spc="-1" strike="noStrike">
              <a:solidFill>
                <a:srgbClr val="000000"/>
              </a:solidFill>
              <a:latin typeface="Calibri"/>
            </a:endParaRPr>
          </a:p>
          <a:p>
            <a:pPr marL="800280" indent="-8002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5AF6-7A2E-484E-8681-248BE21BF6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anvis sobre les llengües</a:t>
            </a:r>
            <a:endParaRPr b="0" lang="en-US" sz="32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t utilitzar "Poliglot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 es poden utilitzar en un sol subcamp $l diverses llengües (p. ex., "Francès i anglès"). Enregistreu la informació específica sobre la llengua a </a:t>
            </a:r>
            <a:r>
              <a:rPr b="0" i="1" lang="ca-ES" sz="3200" spc="-1" strike="noStrike">
                <a:solidFill>
                  <a:srgbClr val="000000"/>
                </a:solidFill>
                <a:latin typeface="Calibri"/>
              </a:rPr>
              <a:t>cada</a:t>
            </a:r>
            <a:r>
              <a:rPr b="0" lang="ca-ES" sz="3200" spc="-1" strike="noStrike">
                <a:solidFill>
                  <a:srgbClr val="000000"/>
                </a:solidFill>
                <a:latin typeface="Calibri"/>
              </a:rPr>
              <a:t> expressió.</a:t>
            </a:r>
            <a:endParaRPr b="0" lang="en-US" sz="3200" spc="-1" strike="noStrike">
              <a:solidFill>
                <a:srgbClr val="000000"/>
              </a:solidFill>
              <a:latin typeface="Calibri"/>
            </a:endParaRPr>
          </a:p>
        </p:txBody>
      </p:sp>
      <p:sp>
        <p:nvSpPr>
          <p:cNvPr id="3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A272-7463-4D51-9A0A-15AF3BD60D8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Addicions als Punts d'Accés per a les Expressions -</a:t>
            </a:r>
            <a:r>
              <a:rPr b="1" lang="ca-ES" sz="2900" spc="-1" strike="noStrike" u="sng">
                <a:solidFill>
                  <a:srgbClr val="000000"/>
                </a:solidFill>
                <a:uFillTx/>
                <a:latin typeface="Calibri"/>
              </a:rPr>
              <a:t>Altra característica distintiva </a:t>
            </a:r>
            <a:r>
              <a:rPr b="1" lang="ca-ES" sz="2900" spc="-1" strike="noStrike">
                <a:solidFill>
                  <a:srgbClr val="000000"/>
                </a:solidFill>
                <a:latin typeface="Calibri"/>
              </a:rPr>
              <a:t>(RDA 6.12)</a:t>
            </a:r>
            <a:endParaRPr b="0" lang="en-US" sz="2900" spc="-1" strike="noStrike">
              <a:solidFill>
                <a:srgbClr val="000000"/>
              </a:solidFill>
              <a:latin typeface="Calibri"/>
            </a:endParaRPr>
          </a:p>
        </p:txBody>
      </p:sp>
      <p:sp>
        <p:nvSpPr>
          <p:cNvPr id="381" name=""/>
          <p:cNvSpPr txBox="1"/>
          <p:nvPr/>
        </p:nvSpPr>
        <p:spPr>
          <a:xfrm>
            <a:off x="457200" y="1600200"/>
            <a:ext cx="8229600" cy="47815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a:t>
            </a:r>
            <a:r>
              <a:rPr b="0" lang="ca-ES" sz="2700" spc="-1" strike="noStrike">
                <a:solidFill>
                  <a:srgbClr val="000000"/>
                </a:solidFill>
                <a:latin typeface="Calibri"/>
              </a:rPr>
              <a:t> </a:t>
            </a:r>
            <a:r>
              <a:rPr b="0" i="1" lang="ca-ES" sz="2700" spc="-1" strike="noStrike">
                <a:solidFill>
                  <a:srgbClr val="000000"/>
                </a:solidFill>
                <a:latin typeface="Calibri"/>
              </a:rPr>
              <a:t>quan és necessari per diferenciar</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una característica diferent del tipus de contingut, la llengua de l’expressió o la data de l’expressió. Serveix per diferenciar una expressió d’una altra expressió de la mateixa obra".</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qualsevol font.</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unt d'accés: es dóna al final de l'últim subcamp llevat que es disposi d'un altre subcamp:</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o per a expressions musicals (p. ex., arranjament)</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ubcamp $s per a les versions de la Bíblia, etc.</a:t>
            </a:r>
            <a:endParaRPr b="0" lang="en-US" sz="24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130 0# $aBíblia.$lCatalà.</a:t>
            </a:r>
            <a:r>
              <a:rPr b="1" lang="ca-ES" sz="2000" spc="-1" strike="noStrike" u="sng">
                <a:solidFill>
                  <a:srgbClr val="376092"/>
                </a:solidFill>
                <a:uFillTx/>
                <a:latin typeface="Courier New"/>
                <a:ea typeface="Courier New"/>
              </a:rPr>
              <a:t>$sMontserrat</a:t>
            </a:r>
            <a:r>
              <a:rPr b="1" lang="ca-ES" sz="2000" spc="-1" strike="noStrike">
                <a:solidFill>
                  <a:srgbClr val="376092"/>
                </a:solidFill>
                <a:latin typeface="Courier New"/>
                <a:ea typeface="Courier New"/>
              </a:rPr>
              <a:t>.$f1970</a:t>
            </a:r>
            <a:endParaRPr b="0" lang="en-US" sz="2000" spc="-1" strike="noStrike">
              <a:solidFill>
                <a:srgbClr val="000000"/>
              </a:solidFill>
              <a:latin typeface="Calibri"/>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288FE-ACCA-4EC6-A446-4046212FD15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76482-9B0B-4672-A448-2904B55751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85" name="PlaceHolder 2"/>
          <p:cNvSpPr>
            <a:spLocks noGrp="1"/>
          </p:cNvSpPr>
          <p:nvPr>
            <p:ph/>
          </p:nvPr>
        </p:nvSpPr>
        <p:spPr>
          <a:xfrm>
            <a:off x="990720" y="1557000"/>
            <a:ext cx="7696080" cy="49957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mb RDA s'ha de determinar quan una </a:t>
            </a:r>
            <a:r>
              <a:rPr b="1" lang="ca-ES" sz="2400" spc="-1" strike="noStrike">
                <a:solidFill>
                  <a:srgbClr val="376092"/>
                </a:solidFill>
                <a:latin typeface="Calibri"/>
              </a:rPr>
              <a:t>edició revisada </a:t>
            </a:r>
            <a:r>
              <a:rPr b="0" lang="ca-ES" sz="2400" spc="-1" strike="noStrike">
                <a:solidFill>
                  <a:srgbClr val="000000"/>
                </a:solidFill>
                <a:latin typeface="Calibri"/>
              </a:rPr>
              <a:t>requereix un punt d'accés autoritzat que connecti amb l'edició anterior (els conceptes FRBR d'obra i expressió són determinants).</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L'objectiu</a:t>
            </a:r>
            <a:r>
              <a:rPr b="0" lang="ca-ES" sz="2400" spc="-1" strike="noStrike">
                <a:solidFill>
                  <a:srgbClr val="000000"/>
                </a:solidFill>
                <a:latin typeface="Calibri"/>
              </a:rPr>
              <a:t> és relacionar totes les </a:t>
            </a:r>
            <a:r>
              <a:rPr b="1" lang="ca-ES" sz="2400" spc="-1" strike="noStrike">
                <a:solidFill>
                  <a:srgbClr val="376092"/>
                </a:solidFill>
                <a:latin typeface="Calibri"/>
              </a:rPr>
              <a:t>expressions</a:t>
            </a:r>
            <a:r>
              <a:rPr b="0" lang="ca-ES" sz="2400" spc="-1" strike="noStrike">
                <a:solidFill>
                  <a:srgbClr val="000000"/>
                </a:solidFill>
                <a:latin typeface="Calibri"/>
              </a:rPr>
              <a:t> d'una mateixa </a:t>
            </a:r>
            <a:r>
              <a:rPr b="1" lang="ca-ES" sz="2400" spc="-1" strike="noStrike">
                <a:solidFill>
                  <a:srgbClr val="376092"/>
                </a:solidFill>
                <a:latin typeface="Calibri"/>
              </a:rPr>
              <a:t>obra. </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Useu un "</a:t>
            </a:r>
            <a:r>
              <a:rPr b="0" lang="ca-ES" sz="2400" spc="-1" strike="noStrike" u="sng">
                <a:solidFill>
                  <a:srgbClr val="000000"/>
                </a:solidFill>
                <a:uFillTx/>
                <a:latin typeface="Calibri"/>
              </a:rPr>
              <a:t>Títol uniforme</a:t>
            </a:r>
            <a:r>
              <a:rPr b="0" lang="ca-ES" sz="2400" spc="-1" strike="noStrike">
                <a:solidFill>
                  <a:srgbClr val="000000"/>
                </a:solidFill>
                <a:latin typeface="Calibri"/>
              </a:rPr>
              <a:t>" per connectar-les si el títol propi ha canviat:</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expressió a una altra, o </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una manifestació a una altra.</a:t>
            </a:r>
            <a:endParaRPr b="0" lang="en-US" sz="24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XX/240</a:t>
            </a:r>
            <a:endParaRPr b="0" lang="en-US" sz="24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130 </a:t>
            </a:r>
            <a:endParaRPr b="0" lang="en-US" sz="2400" spc="-1" strike="noStrike">
              <a:solidFill>
                <a:srgbClr val="000000"/>
              </a:solidFill>
              <a:latin typeface="Calibri"/>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olítica: Punts d'accés i catàlegs de referència</a:t>
            </a:r>
            <a:endParaRPr b="0" lang="en-US" sz="3200" spc="-1" strike="noStrike">
              <a:solidFill>
                <a:srgbClr val="000000"/>
              </a:solidFill>
              <a:latin typeface="Calibri"/>
            </a:endParaRPr>
          </a:p>
        </p:txBody>
      </p:sp>
      <p:sp>
        <p:nvSpPr>
          <p:cNvPr id="88"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ANTIC (Catàleg d'autoritats de noms i títols de Cataluny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consulteu: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estatal i internacional: Autoritats de la </a:t>
            </a:r>
            <a:r>
              <a:rPr b="1" lang="ca-ES" sz="2000" spc="-1" strike="noStrike">
                <a:solidFill>
                  <a:srgbClr val="000000"/>
                </a:solidFill>
                <a:latin typeface="Calibri"/>
              </a:rPr>
              <a:t>Library of Congress </a:t>
            </a:r>
            <a:r>
              <a:rPr b="1" lang="ca-ES" sz="2000" spc="-1" strike="noStrike" u="sng">
                <a:solidFill>
                  <a:srgbClr val="0000ff"/>
                </a:solidFill>
                <a:uFillTx/>
                <a:latin typeface="Calibri"/>
                <a:hlinkClick r:id="rId1"/>
              </a:rPr>
              <a:t>http://authorities.loc.gov</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ls títols d’àmbit català: Autoritats de la </a:t>
            </a:r>
            <a:r>
              <a:rPr b="1" lang="ca-ES" sz="2000" spc="-1" strike="noStrike">
                <a:solidFill>
                  <a:srgbClr val="000000"/>
                </a:solidFill>
                <a:latin typeface="Calibri"/>
              </a:rPr>
              <a:t>Biblioteca de Catalunya </a:t>
            </a:r>
            <a:r>
              <a:rPr b="1" lang="ca-ES" sz="2000" spc="-1" strike="noStrike" u="sng">
                <a:solidFill>
                  <a:srgbClr val="0000ff"/>
                </a:solidFill>
                <a:uFillTx/>
                <a:latin typeface="Calibri"/>
                <a:hlinkClick r:id="rId2"/>
              </a:rPr>
              <a:t>http://www.bnc.cat/lenoti/ </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	</a:t>
            </a:r>
            <a:r>
              <a:rPr b="0" i="1" lang="ca-ES" sz="2000" spc="-1" strike="noStrike">
                <a:solidFill>
                  <a:srgbClr val="000000"/>
                </a:solidFill>
                <a:latin typeface="Calibri"/>
              </a:rPr>
              <a:t>(Per a títols la BNE no és catàleg de referència)</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s troba: S'estableix el punt d'accés d'acord amb RDA i les </a:t>
            </a:r>
            <a:r>
              <a:rPr b="0" i="1" lang="ca-ES" sz="2200" spc="-1" strike="noStrike">
                <a:solidFill>
                  <a:srgbClr val="000000"/>
                </a:solidFill>
                <a:latin typeface="Calibri"/>
              </a:rPr>
              <a:t>Concrecions RDA.</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Política a seguir: </a:t>
            </a:r>
            <a:r>
              <a:rPr b="0" lang="ca-ES" sz="2500" spc="-1" strike="noStrike">
                <a:solidFill>
                  <a:srgbClr val="000000"/>
                </a:solidFill>
                <a:latin typeface="Calibri"/>
              </a:rPr>
              <a:t>accepteu un punt d'accés autoritzat CANTIC encara que no estigui d'acord amb RDA. Després de l’estiu de 2017s'iniciarà el procés de canvi i revisió tant del registre d'autoritat com dels bibliogràfics associats.</a:t>
            </a: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200" spc="-1" strike="noStrike" u="sng">
                <a:solidFill>
                  <a:srgbClr val="000000"/>
                </a:solidFill>
                <a:uFillTx/>
                <a:latin typeface="Calibri"/>
              </a:rPr>
              <a:t>No creeu punts d'accés duplicats per adequar-los a RDA.</a:t>
            </a:r>
            <a:endParaRPr b="0" lang="en-US" sz="2200" spc="-1" strike="noStrike">
              <a:solidFill>
                <a:srgbClr val="000000"/>
              </a:solidFill>
              <a:latin typeface="Calibri"/>
            </a:endParaRPr>
          </a:p>
        </p:txBody>
      </p:sp>
      <p:sp>
        <p:nvSpPr>
          <p:cNvPr id="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615A-D5F4-4C71-A2F8-5CF4F3E51BA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8 CuadroTexto"/>
          <p:cNvSpPr/>
          <p:nvPr/>
        </p:nvSpPr>
        <p:spPr>
          <a:xfrm>
            <a:off x="6732720" y="6381720"/>
            <a:ext cx="151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4EF12-F00A-4D3D-9837-4C49CDD178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388" name="PlaceHolder 2"/>
          <p:cNvSpPr>
            <a:spLocks noGrp="1"/>
          </p:cNvSpPr>
          <p:nvPr>
            <p:ph/>
          </p:nvPr>
        </p:nvSpPr>
        <p:spPr>
          <a:xfrm>
            <a:off x="990720" y="1557360"/>
            <a:ext cx="7696080" cy="446400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Què constitueix una nova obra?</a:t>
            </a:r>
            <a:endParaRPr b="0" lang="en-US" sz="2800" spc="-1" strike="noStrike">
              <a:solidFill>
                <a:srgbClr val="000000"/>
              </a:solidFill>
              <a:latin typeface="Calibri"/>
            </a:endParaRPr>
          </a:p>
          <a:p>
            <a:pPr marL="343080" indent="-343080">
              <a:spcBef>
                <a:spcPts val="601"/>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376092"/>
                </a:solidFill>
                <a:latin typeface="Calibri"/>
              </a:rPr>
              <a:t>Un creador diferent </a:t>
            </a:r>
            <a:r>
              <a:rPr b="0" lang="ca-ES" sz="2400" spc="-1" strike="noStrike">
                <a:solidFill>
                  <a:srgbClr val="000000"/>
                </a:solidFill>
                <a:latin typeface="Calibri"/>
              </a:rPr>
              <a:t>(</a:t>
            </a:r>
            <a:r>
              <a:rPr b="0" i="1" lang="ca-ES" sz="2400" spc="-1" strike="noStrike">
                <a:solidFill>
                  <a:srgbClr val="000000"/>
                </a:solidFill>
                <a:latin typeface="Calibri"/>
              </a:rPr>
              <a:t>no un creador addicional</a:t>
            </a:r>
            <a:r>
              <a:rPr b="0" lang="ca-ES" sz="2400" spc="-1" strike="noStrike">
                <a:solidFill>
                  <a:srgbClr val="000000"/>
                </a:solidFill>
                <a:latin typeface="Calibri"/>
              </a:rPr>
              <a:t>): com és el cas d'un responsable d’una adaptació o d'una revisió d’una obra que existia prèviament i que canvia substancialment la natura i el contingut d’aquesta obra. Normalment es presenta com l’obra d’aquest responsable (el títol propi o preferit pot ser el mateix).</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En aquest cas el títol uniforme no és necessari perquè no són la mateixa obra.</a:t>
            </a:r>
            <a:endParaRPr b="0" lang="en-US" sz="2800" spc="-1" strike="noStrike">
              <a:solidFill>
                <a:srgbClr val="000000"/>
              </a:solidFill>
              <a:latin typeface="Calibri"/>
            </a:endParaRPr>
          </a:p>
        </p:txBody>
      </p:sp>
      <p:sp>
        <p:nvSpPr>
          <p:cNvPr id="389" name="Rectangle 2"/>
          <p:cNvSpPr/>
          <p:nvPr/>
        </p:nvSpPr>
        <p:spPr>
          <a:xfrm>
            <a:off x="468360" y="260280"/>
            <a:ext cx="8229600" cy="1417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A90A6-2C5E-4993-B9C0-97899FC899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2" name="PlaceHolder 2"/>
          <p:cNvSpPr>
            <a:spLocks noGrp="1"/>
          </p:cNvSpPr>
          <p:nvPr>
            <p:ph/>
          </p:nvPr>
        </p:nvSpPr>
        <p:spPr>
          <a:xfrm>
            <a:off x="1218960" y="1600200"/>
            <a:ext cx="7313400" cy="60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1f497d"/>
                </a:solidFill>
                <a:latin typeface="Calibri"/>
              </a:rPr>
              <a:t>Nova manifestació</a:t>
            </a:r>
            <a:r>
              <a:rPr b="0" lang="ca-ES" sz="2800" spc="-1" strike="noStrike">
                <a:solidFill>
                  <a:srgbClr val="1f497d"/>
                </a:solidFill>
                <a:latin typeface="Calibri"/>
              </a:rPr>
              <a:t>: </a:t>
            </a:r>
            <a:r>
              <a:rPr b="0" lang="ca-ES" sz="2800" spc="-1" strike="noStrike">
                <a:solidFill>
                  <a:srgbClr val="000000"/>
                </a:solidFill>
                <a:latin typeface="Calibri"/>
              </a:rPr>
              <a:t>240 amb el títol preferit </a:t>
            </a:r>
            <a:endParaRPr b="0" lang="en-US" sz="2800" spc="-1" strike="noStrike">
              <a:solidFill>
                <a:srgbClr val="000000"/>
              </a:solidFill>
              <a:latin typeface="Calibri"/>
            </a:endParaRPr>
          </a:p>
        </p:txBody>
      </p:sp>
      <p:sp>
        <p:nvSpPr>
          <p:cNvPr id="393" name="Text Box 4"/>
          <p:cNvSpPr/>
          <p:nvPr/>
        </p:nvSpPr>
        <p:spPr>
          <a:xfrm>
            <a:off x="611280" y="2349360"/>
            <a:ext cx="7924680" cy="3721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2 $aA </a:t>
            </a:r>
            <a:r>
              <a:rPr b="1" lang="ca-ES" sz="1800" spc="-1" strike="noStrike">
                <a:solidFill>
                  <a:srgbClr val="953735"/>
                </a:solidFill>
                <a:latin typeface="Courier New"/>
                <a:ea typeface="Courier New"/>
              </a:rPr>
              <a:t>Tudor tragedy </a:t>
            </a:r>
            <a:r>
              <a:rPr b="1" lang="ca-ES" sz="1800" spc="-1" strike="noStrike">
                <a:solidFill>
                  <a:srgbClr val="376092"/>
                </a:solidFill>
                <a:latin typeface="Courier New"/>
                <a:ea typeface="Courier New"/>
              </a:rPr>
              <a:t>:$bthe life and times of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Catherine Howa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New York] :$bPantheon Books,$c[196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Títol posterior (no hi ha indicació de 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t>
            </a:r>
            <a:r>
              <a:rPr b="1" lang="ca-ES" sz="1800" spc="-1" strike="noStrike">
                <a:solidFill>
                  <a:srgbClr val="953735"/>
                </a:solidFill>
                <a:latin typeface="Courier New"/>
                <a:ea typeface="Courier New"/>
              </a:rPr>
              <a:t>aSmith, Lacey Baldwin,$d19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953735"/>
                </a:solidFill>
                <a:latin typeface="Courier New"/>
                <a:ea typeface="Courier New"/>
              </a:rPr>
              <a:t>aTudor trage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Catherine Howard /$cLacey Baldwin Smi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Stroud Gloucestershire :$bAmberley,$c[2010]</a:t>
            </a:r>
            <a:r>
              <a:rPr b="1" lang="ca-ES" sz="1800" spc="-1" strike="noStrike">
                <a:solidFill>
                  <a:srgbClr val="376092"/>
                </a:solidFill>
                <a:latin typeface="Courier New"/>
                <a:ea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Originament publicat amb el títol: A Tudor tragedy</a:t>
            </a:r>
            <a:r>
              <a:rPr b="1" lang="ca-ES" sz="2000" spc="-1" strike="noStrike">
                <a:solidFill>
                  <a:srgbClr val="376092"/>
                </a:solidFill>
                <a:latin typeface="Courier New"/>
                <a:ea typeface="Courier New"/>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90300-42D1-49D1-82D8-800DECC401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396"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a:t>
            </a:r>
            <a:r>
              <a:rPr b="1" lang="ca-ES" sz="2800" spc="-1" strike="noStrike">
                <a:solidFill>
                  <a:srgbClr val="000000"/>
                </a:solidFill>
                <a:latin typeface="Calibri"/>
              </a:rPr>
              <a:t> </a:t>
            </a:r>
            <a:r>
              <a:rPr b="0" lang="ca-ES" sz="2800" spc="-1" strike="noStrike">
                <a:solidFill>
                  <a:srgbClr val="000000"/>
                </a:solidFill>
                <a:latin typeface="Calibri"/>
              </a:rPr>
              <a:t>sense 240 </a:t>
            </a:r>
            <a:endParaRPr b="0" lang="en-US" sz="2800" spc="-1" strike="noStrike">
              <a:solidFill>
                <a:srgbClr val="000000"/>
              </a:solidFill>
              <a:latin typeface="Calibri"/>
            </a:endParaRPr>
          </a:p>
        </p:txBody>
      </p:sp>
      <p:sp>
        <p:nvSpPr>
          <p:cNvPr id="397" name="Text Box 4"/>
          <p:cNvSpPr/>
          <p:nvPr/>
        </p:nvSpPr>
        <p:spPr>
          <a:xfrm>
            <a:off x="755640" y="2421000"/>
            <a:ext cx="7924680" cy="36601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 </a:t>
            </a:r>
            <a:r>
              <a:rPr b="1" lang="en-US" sz="1800" spc="-1" strike="noStrike">
                <a:solidFill>
                  <a:srgbClr val="376092"/>
                </a:solidFill>
                <a:latin typeface="Courier New"/>
                <a:ea typeface="Courier New"/>
              </a:rPr>
              <a:t>:$ba guide to research /$c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Gregory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Garland Pub.,$c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00 1# $</a:t>
            </a:r>
            <a:r>
              <a:rPr b="1" lang="en-US" sz="1800" spc="-1" strike="noStrike">
                <a:solidFill>
                  <a:srgbClr val="953735"/>
                </a:solidFill>
                <a:latin typeface="Courier New"/>
                <a:ea typeface="Courier New"/>
              </a:rPr>
              <a:t>aHarwood, Gregory 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t>
            </a:r>
            <a:r>
              <a:rPr b="1" lang="en-US" sz="1800" spc="-1" strike="noStrike">
                <a:solidFill>
                  <a:srgbClr val="953735"/>
                </a:solidFill>
                <a:latin typeface="Courier New"/>
                <a:ea typeface="Courier New"/>
              </a:rPr>
              <a:t>aGiuseppe Verdi</a:t>
            </a:r>
            <a:r>
              <a:rPr b="1" lang="en-US" sz="1800" spc="-1" strike="noStrike">
                <a:solidFill>
                  <a:srgbClr val="000000"/>
                </a:solidFill>
                <a:latin typeface="Courier New"/>
                <a:ea typeface="Courier New"/>
              </a:rPr>
              <a:t> </a:t>
            </a:r>
            <a:r>
              <a:rPr b="1" lang="en-US" sz="1800" spc="-1" strike="noStrike">
                <a:solidFill>
                  <a:srgbClr val="376092"/>
                </a:solidFill>
                <a:latin typeface="Courier New"/>
                <a:ea typeface="Courier New"/>
              </a:rPr>
              <a:t>:$ba research and information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guide /$cGregory W. Harwo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Second e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aAbingdon, Oxon :$bRoutledge,$c 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F07FC-D896-4767-8086-3E09F24B93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0" name="PlaceHolder 2"/>
          <p:cNvSpPr>
            <a:spLocks noGrp="1"/>
          </p:cNvSpPr>
          <p:nvPr>
            <p:ph/>
          </p:nvPr>
        </p:nvSpPr>
        <p:spPr>
          <a:xfrm>
            <a:off x="1219320" y="1599840"/>
            <a:ext cx="7464240" cy="609480"/>
          </a:xfrm>
          <a:prstGeom prst="rect">
            <a:avLst/>
          </a:prstGeom>
          <a:noFill/>
          <a:ln w="0">
            <a:noFill/>
          </a:ln>
        </p:spPr>
        <p:txBody>
          <a:bodyPr anchor="t">
            <a:normAutofit/>
          </a:bodyPr>
          <a:p>
            <a:pPr marL="343080" indent="-343080">
              <a:spcBef>
                <a:spcPts val="700"/>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Nova Expressió: </a:t>
            </a:r>
            <a:r>
              <a:rPr b="0" lang="ca-ES" sz="2800" spc="-1" strike="noStrike">
                <a:solidFill>
                  <a:srgbClr val="000000"/>
                </a:solidFill>
                <a:latin typeface="Calibri"/>
              </a:rPr>
              <a:t>240 amb el títol preferit</a:t>
            </a:r>
            <a:endParaRPr b="0" lang="en-US" sz="2800" spc="-1" strike="noStrike">
              <a:solidFill>
                <a:srgbClr val="000000"/>
              </a:solidFill>
              <a:latin typeface="Calibri"/>
            </a:endParaRPr>
          </a:p>
        </p:txBody>
      </p:sp>
      <p:sp>
        <p:nvSpPr>
          <p:cNvPr id="401" name="Text Box 4"/>
          <p:cNvSpPr/>
          <p:nvPr/>
        </p:nvSpPr>
        <p:spPr>
          <a:xfrm>
            <a:off x="539640" y="2060640"/>
            <a:ext cx="8229600" cy="42087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Origi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a:t>
            </a:r>
            <a:r>
              <a:rPr b="1" lang="ca-ES" sz="1800" spc="-1" strike="noStrike">
                <a:solidFill>
                  <a:srgbClr val="953735"/>
                </a:solidFill>
                <a:latin typeface="Courier New"/>
                <a:ea typeface="Courier New"/>
              </a:rPr>
              <a:t>Disembodied voices </a:t>
            </a:r>
            <a:r>
              <a:rPr b="1" lang="ca-ES" sz="1800" spc="-1" strike="noStrike">
                <a:solidFill>
                  <a:srgbClr val="376092"/>
                </a:solidFill>
                <a:latin typeface="Courier New"/>
                <a:ea typeface="Courier New"/>
              </a:rPr>
              <a:t>:$bmusic and culture in an early modern Italian convent /$cCraig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Berkeley :$bUniversity of California Press,$c 199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100 1# $a</a:t>
            </a:r>
            <a:r>
              <a:rPr b="1" lang="ca-ES" sz="1800" spc="-1" strike="noStrike">
                <a:solidFill>
                  <a:srgbClr val="953735"/>
                </a:solidFill>
                <a:latin typeface="Courier New"/>
                <a:ea typeface="Courier New"/>
              </a:rPr>
              <a:t>Monson, Crai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Courier New"/>
              </a:rPr>
              <a:t>240 10 $</a:t>
            </a:r>
            <a:r>
              <a:rPr b="1" lang="ca-ES" sz="1800" spc="-1" strike="noStrike">
                <a:solidFill>
                  <a:srgbClr val="376092"/>
                </a:solidFill>
                <a:latin typeface="Courier New"/>
                <a:ea typeface="Courier New"/>
              </a:rPr>
              <a:t>a</a:t>
            </a:r>
            <a:r>
              <a:rPr b="1" lang="ca-ES" sz="1800" spc="-1" strike="noStrike">
                <a:solidFill>
                  <a:srgbClr val="953735"/>
                </a:solidFill>
                <a:latin typeface="Courier New"/>
                <a:ea typeface="Courier New"/>
              </a:rPr>
              <a:t>Disembodied voic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45 10 $aDivas in the convent :$bnuns, music, and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defiance in seventeenth-century Italy /$cCraig </a:t>
            </a:r>
            <a:r>
              <a:rPr b="1" lang="ca-ES" sz="1800" spc="-1" strike="noStrike">
                <a:solidFill>
                  <a:srgbClr val="376092"/>
                </a:solidFill>
                <a:latin typeface="Courier New"/>
                <a:ea typeface="Courier New"/>
              </a:rPr>
              <a:t>	</a:t>
            </a:r>
            <a:r>
              <a:rPr b="1" lang="ca-ES" sz="1800" spc="-1" strike="noStrike">
                <a:solidFill>
                  <a:srgbClr val="376092"/>
                </a:solidFill>
                <a:latin typeface="Courier New"/>
                <a:ea typeface="Courier New"/>
              </a:rPr>
              <a:t> A. Mo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264 #1 $aChicago :$bUniversity of Chicago Press,$c20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500 ## $aRevisió de l'autor de la seva obra Disembodied vo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10"/>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C976-0848-454C-AD15-BA12E6EFBC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va obra? Nova expressió?</a:t>
            </a:r>
            <a:br>
              <a:rPr sz="3200"/>
            </a:br>
            <a:r>
              <a:rPr b="1" lang="ca-ES" sz="3200" spc="-1" strike="noStrike">
                <a:solidFill>
                  <a:srgbClr val="000000"/>
                </a:solidFill>
                <a:latin typeface="Calibri"/>
              </a:rPr>
              <a:t> Nova manifestació?</a:t>
            </a:r>
            <a:endParaRPr b="0" lang="en-US" sz="3200" spc="-1" strike="noStrike">
              <a:solidFill>
                <a:srgbClr val="000000"/>
              </a:solidFill>
              <a:latin typeface="Calibri"/>
            </a:endParaRPr>
          </a:p>
        </p:txBody>
      </p:sp>
      <p:sp>
        <p:nvSpPr>
          <p:cNvPr id="404" name="PlaceHolder 2"/>
          <p:cNvSpPr>
            <a:spLocks noGrp="1"/>
          </p:cNvSpPr>
          <p:nvPr>
            <p:ph/>
          </p:nvPr>
        </p:nvSpPr>
        <p:spPr>
          <a:xfrm>
            <a:off x="1142640" y="1752120"/>
            <a:ext cx="7464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va Expressió: </a:t>
            </a:r>
            <a:r>
              <a:rPr b="0" lang="ca-ES" sz="2800" spc="-1" strike="noStrike">
                <a:solidFill>
                  <a:srgbClr val="1f497d"/>
                </a:solidFill>
                <a:latin typeface="Calibri"/>
              </a:rPr>
              <a:t>130 amb el títol preferit</a:t>
            </a:r>
            <a:endParaRPr b="0" lang="en-US" sz="2800" spc="-1" strike="noStrike">
              <a:solidFill>
                <a:srgbClr val="000000"/>
              </a:solidFill>
              <a:latin typeface="Calibri"/>
            </a:endParaRPr>
          </a:p>
        </p:txBody>
      </p:sp>
      <p:sp>
        <p:nvSpPr>
          <p:cNvPr id="405" name="Text Box 4"/>
          <p:cNvSpPr/>
          <p:nvPr/>
        </p:nvSpPr>
        <p:spPr>
          <a:xfrm>
            <a:off x="685800" y="2590920"/>
            <a:ext cx="8229600" cy="33858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Origi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00 $a</a:t>
            </a:r>
            <a:r>
              <a:rPr b="1" lang="en-US" sz="1800" spc="-1" strike="noStrike">
                <a:solidFill>
                  <a:srgbClr val="953735"/>
                </a:solidFill>
                <a:latin typeface="Courier New"/>
                <a:ea typeface="Courier New"/>
              </a:rPr>
              <a:t>Contemporary art and multicultural education </a:t>
            </a:r>
            <a:r>
              <a:rPr b="1" lang="en-US" sz="1800" spc="-1" strike="noStrike">
                <a:solidFill>
                  <a:srgbClr val="376092"/>
                </a:solidFill>
                <a:latin typeface="Courier New"/>
                <a:ea typeface="Courier New"/>
              </a:rPr>
              <a:t>/$c edited by Susan Cahan and Zoya Kucor</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bNew Museum of Contemporary Art :$b</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Routledge,$c1996</a:t>
            </a:r>
            <a:endParaRPr b="0" lang="en-US" sz="1800" spc="-1" strike="noStrike">
              <a:solidFill>
                <a:srgbClr val="000000"/>
              </a:solidFill>
              <a:latin typeface="Arial"/>
            </a:endParaRPr>
          </a:p>
          <a:p>
            <a:pPr marL="343080" indent="-343080">
              <a:lnSpc>
                <a:spcPct val="100000"/>
              </a:lnSpc>
              <a:buClr>
                <a:srgbClr val="000000"/>
              </a:buClr>
              <a:buFont typeface="Courier New"/>
              <a:buAutoNum type="arabicPlain" startAt="26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Arial"/>
              </a:rPr>
              <a:t>Revisió:</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130 0# $a</a:t>
            </a:r>
            <a:r>
              <a:rPr b="1" lang="en-US" sz="1800" spc="-1" strike="noStrike">
                <a:solidFill>
                  <a:srgbClr val="953735"/>
                </a:solidFill>
                <a:latin typeface="Courier New"/>
                <a:ea typeface="Courier New"/>
              </a:rPr>
              <a:t>Contemporary art and multicultural educa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45 10 $aRethinking contemporary art and multicultural </a:t>
            </a:r>
            <a:r>
              <a:rPr b="1" lang="en-US" sz="1800" spc="-1" strike="noStrike">
                <a:solidFill>
                  <a:srgbClr val="376092"/>
                </a:solidFill>
                <a:latin typeface="Courier New"/>
                <a:ea typeface="Courier New"/>
              </a:rPr>
              <a:t>	</a:t>
            </a:r>
            <a:r>
              <a:rPr b="1" lang="en-US" sz="1800" spc="-1" strike="noStrike">
                <a:solidFill>
                  <a:srgbClr val="376092"/>
                </a:solidFill>
                <a:latin typeface="Courier New"/>
                <a:ea typeface="Courier New"/>
              </a:rPr>
              <a:t> education /$cThe New Museum of Contemporary Ar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50 ## $aFully revised second edit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Courier New"/>
              </a:rPr>
              <a:t>264 #1 $aNew York, NY :$bRoutledge,$c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Calibri"/>
              </a:rPr>
              <a:t>Preguntes?</a:t>
            </a:r>
            <a:endParaRPr b="0" lang="en-US" sz="32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94C51-45A6-4CEB-BFA8-EBCEE53C64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02T03:35:53Z</dcterms:created>
  <dc:creator>Biblioteca de Catalunya</dc:creator>
  <dc:description/>
  <dc:language>en-US</dc:language>
  <cp:lastModifiedBy>vilsnb</cp:lastModifiedBy>
  <dcterms:modified xsi:type="dcterms:W3CDTF">2017-04-21T07:47:40Z</dcterms:modified>
  <cp:revision>818</cp:revision>
  <dc:subject/>
  <dc:title>Diapositiva 1</dc:title>
</cp:coreProperties>
</file>