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038F-C938-467B-AF7B-B5D6C59F0FE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5137-F174-42B5-BB56-F42B4E16694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lantilles de catalogac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plantilles de Millennium estaran disponible amb els camps 336, 337, i 338 preestablertes. Podeu escollir la plantilla apropiada per al tipus de contingut del recurs i si es necessita més d'un d'aquests camps, podeu copiar els camps i després enganxar-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F6B0-D749-43E3-B725-FA20512A3CB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 l'extensió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 Useu l’evidència presentada pel recurs mateix (o en qualsevol material d’acompanyament o contenidor) com a base per a enregistrar l’extensió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RDA parla d'"unitat" (p. ex.; un volum) o de subunitats (p. ex., una pàg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A94A-0491-46D5-8991-E8825F4CE30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nregistrament de l'extens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element bàsic nomé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és complet o si se’n sap l’extens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'extensió d'un recurs donant el nombre d'unitats i un terme apropiat per al tipus de suport, d'acord a la llista d'RDA 3.3.1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terme no està a la llista, enregistreu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ces diverse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ropiat, o un terme d'ús comú. (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n aquest cas aviseu a fi de recollir-ho en concreció per a l'ús d'altres institucion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erme en singular o plural segons correspongui. Si el recurs consta de més d'un tipus de suport físic, enregistreu el número corresponent a cada tip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C685-A33A-426B-8CA2-5C5C8DCF8A8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 de recursos específ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2-3.4.6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óna instruccions especials per a materials cartogràfics, música notada, imatges fixes, textos i objectes tridimensionals. No entrarem a comentar cadascuna d'aquestes instruccions, tanmateix fixeu-vos en els exemples que no hi ha abreviatures. Aquest és un dels canvis d'RDA respecte a les AACR2  o ISB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03E4-7DDD-4333-B1A8-2E872D9694B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'extensió està tractada sota cada tipus de recurs. Veurem algun exemples de dels recursos que són "text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8795-68B6-4A7F-97C7-5304ECCC768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de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RDA 3.4.5.2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un recurs d'un sol volum, enregistreu l'extensió en termes de pàgines, fulls o columnes, segons correspongui, aplicant les instruccions gener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paginat (si les pàgines tenen números en ambdós costats dels fulls), enregistreu el nombre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foliat (si els fulls estan numerats en un sol costat), enregistreu el nombre de fu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consta de pàgines amb més d'una columna per pàgina, i les columnes estan numerades, enregistreu el nombre de colum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té seqüències de fulls i pàgines, o pàgines i columnes numerats, o fulls i columnes numerades, enregistreu cada seqüè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5.3 Un volum sol amb les pàgines, els fulls o les columnes no numerat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ot i que RDA dóna tres opcions per a aquestes situacions, 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segueix la pràctica d'aplicar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l mètode c) 1 volum (no paginat)" excepte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 a recursos impreso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ntic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instruccions d'RDA 3.4.5 recullen casuístiques de "extensió", incloent canvis en la forma de la numeració dins d'una seqüència, numeració errònia, volums incomplets, paginació complexa o irregular, fulls o pàgines de làmines, més d'un volum, volums amb paginació contínua, actualització de fulls solts, i altres situac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la paginació complexa o irregular la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Concreció 3.4.5.8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segueix la pràctica d'aplicar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el mètode c)  1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volum (paginació múltiple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6AD5-A409-4A88-B8CB-FD699A336B6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entrarem a comentar cadascun, tanmateix fixeu-vos que no s'utilitzen claudàtors per a les pàgines, etc. no numerades, ni les abreviatures "ca.", "i.e.",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32D5-0A7A-495C-8F5A-B296AF36F05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incipals canvis relacionats amb l'extensi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utitizar abreviatures per als termes com per exemple, "pàgines," "volums", (no "p.", "vol.", "v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aproximadament" (en lloc de "ca.") i "és a dir" (en lloc de "i.e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pàgines no numerades", "fulls no numerats", etc. en lloc de donar els números entre claudà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ambé cal anar amb compte amb els canvis en el vocabulari, ex: "partitura guió" s'usa tant, per a la "partitura guió" com per a la "partitura reduïda". Consulteu RDA 3.3.1.3, 3.4.2 -3.4.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E2C9-1914-4D15-9E77-0C1FAC5AFD2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5 les dimensions són un ELEMENT BÀSIC PER A LA BC I EL CCUC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un altre element de la descripció del suport d'una manifestació. En el cas de publicacions en sèrie és opcional, si es considera es poden don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les mesures del suport físic o dels suports físics i/o del contenidor d’un recurs. Les dimensions inclouen les mesures d’alçada, amplada, profunditat, llargada, format i dià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següent centímetre complet, usant el símbol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(ex., 17,2 centímetre, enregistreu 18 cm) o en mil·límetres, useu el símbol mètri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75BA-3CE8-41F7-8D2A-982F1C9948D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aquesta diapositiva  hi ha exemples que mostren l'extensió al camp 300 subcamp $a i als camps 336-337-3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1r exemple és el mateix que hem vist abans; l'extensió està donada en termes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2n exemple, el terme "disc àudio"  obtingut de la llista que de suports físics (RDA 3.3.1.3), s'utilitza també per a descriure l'extensió de la unitat; per tant, 300 $a i 338 $a porten el mateix term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F283-4A5F-42E8-AC5B-D7B82F5A403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 suports fí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veurem les instruccions relacionades amb l’enregistrament dels atributs del suport físic de les manifestacions. El propòsit d'aquests elements, és ajudar l'usuari a seleccionar el recurs que vol obten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6038-3D37-46E8-AE21-6C77F329115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C303-7B81-4381-9A8E-E5AE57FB8AB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4429-279A-4EEE-BD1E-88BE874B348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cas és un lloc web que conté diversos tipus de continguts: el text es considera el predominant, tanmateix la presència de mapes i fotografies  és considerable i és recomanable informar els camps 336 corresponents a aquest tipus de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8AC5-F1AD-4681-9194-63D30D986EC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mostra l'ús del subcamp $3 en els camps 336-337-338 per identificar les característiques de cada part del recurs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T</a:t>
            </a: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anmateix  l'ús de $3 és op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679D-E514-4B87-B8F0-A2904EB3799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és un recull o  col·lecció de fotografies procedent d'un donant. Cal tractar-lo com un tot i proporcionar els camps 33X d'acord amb el seu contingu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50A7-24B9-412D-BF5C-C1EEF3AD819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nivell de CSUC s'ha decidit utilitzar els nous camps MARC per a donar la característica del so (MARC 344),  la característica vídeo (MARC 346) i la  característica del fitxer digital (MARC 347 i 3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5DAA-0FBD-4811-9A6D-C765B4D7320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del so – MARC 3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del so és una especificació tècnica relativa a la codificació del s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recursos sonors. No anem a tractar aquests elements en detall, doncs la majoria ja eren enregistrats en els registres MARC, però en el camp 300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C0C4-64A4-4FF6-BCBA-463F688129E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vídeo – MARC 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vídeo és una especificació tècnica relativa a la codificació de les imatges de víde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imatges en moviment. No anem a tractar aquests elements en detall, doncs la majoria ja eren enregistrats en els registres MARC, però en el camp 300 $b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D985-4E41-466A-AC04-6EA7B2402A0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continuació es llisten instruccions addicionals que s'han de considerar en el moment de catalogar recursos fitxers digitals. No anem a tractar aquests elements en de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BB47-4D41-429F-8F4D-A71201B14FF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s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8374-2DB3-4DF1-9E16-E78F8B77101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Substitució de la designació general de mater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esignació general de material (DGM) del subcamp $h no existeix a RDA. La DGM era un conjunt de termes inconsistents, que de vegades es referia al contingut i altres vegades al su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Joint Steering Committee, conjuntament amb la comunitat d'editors (ONIX), van desenvolupar tres elements per a “substituir" la DG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nous camps MARC s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contingut - RDA 6.9 (camp MARC 336)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que en realitat és un atribut de l'expressió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- RDA 3.2 (camp MARC 3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físic - RDA 3.3 (camp MARC 3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E0CB-0AFB-4F9E-902F-B8DEEC9E1D1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de ví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BE78-7026-4B42-9C86-8E865FC3F7A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 - 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isposició (RDA 3.11 ) i la característica del fitxer digital (RDA 3.19.8) só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A382-EC4A-4ECD-9EF3-819DE8BCB00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960E-52A6-4E72-B475-32B1B82DA4D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4 les restriccions d'accés són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0CE7-4C02-48E4-A694-39A471683B8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ú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5 les restriccions d'ús són un ELEMENT BÀSIC PER A LA B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ón notes que indiquen a l'usuari les limitacions imposades sobre els usos del recurs, com ara la reproducció, la publicació, l’exposició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3D16-F31E-40FD-8FB7-2590E8135B1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dreça U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6 l'adreça URL és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RL és l'adreça d’un recurs d’accés remot. Les URL inclouen tots els identificadors del recurs, destinats a permetre l'accés en línia a un recurs mitjançant l'ús d'un cercador d'internet normalitz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C553-8F6F-4B7F-93D9-12D69FA25A3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URL: restriccions i 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utilitzada fins ara no canvia amb l'aplicació d'R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7796-078A-4A28-82DB-E94D29BE4F4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Canvis que requereixen l’addició, la revisió o l’eliminació d’una adreça U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Bibliografia nacional de Catalunya i la URL ja no està activa. Es cerca a interne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'informa un $z i $x de la seguent man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856 40 $zAdreça electrònica (http....) no disponible en fer la cerca el 06/03/2015$xBibliografia nacional de Catalu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2413-82D5-4D16-A19C-FDF8C9C0759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E5B9-FD02-44CF-894B-50F3D79A8DF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ixem el capítol 6, que tracta sobre les obres i les expressions per més endavant, i tractarem primer el capítol 7 perquè inclou una sèrie d'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 associats amb el contingut d’un recurs que són enregistrats en un registre bibliogràfic en el camp 300 i en camps d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0478-A94B-4D3C-A283-7CA6EE8094C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dificació MARC de cada un d'aquests c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cada camps conté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terme,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b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codi i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2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$2 identifica el vocabulari d’RDA utilitzat (en un camp 336 ha de ser "rdacontent"; en un camp 337 "rdamedia" i en un camp 338 "rdacarrier"). Aquests són codis registrats i validats per MARC 21, no s'han de traduir mai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s fa servir, si es considera necessari, per identificar parts d'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correspondència entre el terme, el codi i la font de cada element RDA es troben disponibles en tres documents publicats per la B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[Veurem exempl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3547-DADA-452B-B65F-B12B750A0FB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DA divideix els elements de contingut 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o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a distinció no sempre és intuïtiva, però està clarament dividida a les instrucc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analitzarem cada element de contingut d'RDA. Començarem per aquells elements que s'han d'enregistrar en un camp MARC 300 i continuarem pels elements que s'han considerat bàsics o han estat contemplats en els nivells de cataloga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77DA-507D-49BD-97F0-6234347C25F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ARC - 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mp 300 s'han d'enregistrar elements que estan relacionats amb el contingut de les obres i les expressions. És per aquest motiu que es troben en el capítol 7 RDA i no en el capítol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urada, el contingut il·lustratiu, el de color i el sonor són atributs de les obres i/o de l'expressió. Heu de tenir present que en el camp 300 s'hi barregen dades sobre el suport físic i dades d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6BEE-15DD-46A3-B22C-7D9CA269A0F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il·lustrati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5 el contingut il·lustratiu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ontingut il·lustratiu és el contingut concebut per il·lustrar el contingut principal d’un recurs. Les taules que només contenen paraules i/o dades numèriques no es consideren contingut il·lustratiu. Descarteu les portades, etc., il·lustrades i les il·lustracions men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ó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ons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no useu l'abreviatura "i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5F88-38F8-4B8B-B1BC-D09D1941335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del col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7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l contingut del color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. Enregistreu les particularitats del contingut de color si es consideren importants; utilitzeu frases com "(algunes en color)", "(principalment en color)", etc.; no utilitzeu l'abreviatura "co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9BCE-A554-460A-9339-96B76216223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on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8 el contingut sonor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onor" per indicar la presència de so en un recurs que no consisteix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incipalment en so enregistrat.  En el cas d'enregistraments de vídeo, enregistreu: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"so" o "mut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F44C-D5C9-481B-A3CF-5EAA9195CB0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u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2 la durada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s de la música notada, enregistraments d'àudio i de vídeo i si es pot  determinar fàcilment; si no, es pot donar una durada aproximada, o ometre-la si es desconeix. No utilitzeu abreviatures com "ca.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eu els símbols d'unitat de temps de l'apèndix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7887-73C0-463F-93E9-3C8815D3B3F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Informació sobre la tesi o la memò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9 la informació sobre la tesi o la memòria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 subelements s'enregistren en diferents subcamps del camp 502 (sense puntuar). A diferència d'AACR2/ISBD, amb RDA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 es fa constar si es tracta d'una tesi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no es disposa de tots els subelements, o no conté la tesi original, la informació disponible es dóna en un camp 500 $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EC94-69E7-415D-964F-078AF85F9EB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um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0 el resum del contingut és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 dóna una nota de resum com a addició o com a substitut d’una nota de conté 505. Les notes de resum són narratives, de text lliure i normalment són emprades per donar informació sobre l’abast i el contingut del fons o de la col·lecció. El tipus d’informació pot ser: tipus i formes dels materials, ordenació, dates i matèries, persones, llocs o esdeveniments més significat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E85E-1435-4271-AB8B-E76AD423D98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oc  i data de captu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1 el lloc i la data de captura són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FF16-CCCB-40A1-92BA-362926AD777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engua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2 la llengua del contingut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la  posició 008/35-37 es dóna el codi de llengua del recurs. El camp 041 només s'utilitza quan s'han d'enregistrar múltiples llengües incloses en el recurs (primer indicador 0) o perquè es tracta  una traducció (primer indicador 1). Utilitzeu en ambdós camps la llista de codis MARC per a les llengües. La nota 546 s'utilitza per a descriure les llengües del contingut i pot ser utilitzada per a una sola llengua si es considera út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D356-739D-4BFD-923C-D8FA7DA8216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Vocabularis controlats  per al tipus de contingut, suport i suport fí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vocabularis per aquests termes es troben a RDA en llistes "tancades": RDA 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6.9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contingut), 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2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), 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3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 fís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hi ha dues opc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- E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registrar tots els termes apropiats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 Si trieu aquesta opció, repetiu el camp complet, en comptes de repetir el subcamp $a en el mateix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riar el terme que representi el contingut, el suport o el suport físic predominant o substan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desconeix la informació, s’enregistra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ense especifica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cap terme d'aquestes llistes és apropiat, s’enregistr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altre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2B18-9ABD-4681-A30E-11C87378730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Forma de la notac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3 la forma de la notació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l que fa a l'escriptura, utilitzeu els subcamps $a i $b del camp 546. Anoteu el nom de la llengua en el $a i el nom de l’escriptura en un $b en les següents situac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Quan el contingut es troba en una escriptura que no és l’habitual de la llengu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Quan el contingut és en una llengua que pot ser escrita en més d’una escriptu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ciríl·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lla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ixeu-vos també en l'exemple, el nou ús del camp 546 per a la notació musical; amb AACR2 no es donava aquest tipus de notació i altres tipus de notació s'enregistraven en un camp 5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C78D-F947-415A-9B6C-B02A774F7E8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uplementar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6 el contingut suplementari és un ELEMENT BÀSIC PER A LA B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no canvia, tanmateix recordeu que no es poden utilitzar abrevi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FE3E-648A-4DF9-8299-B100AE8494D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úsica not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0-7.21 el format de la música notada i el repartiment de l’execució d’un contingut musical són ELEMENTS BÀSICS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30E1-877B-470F-ABE0-CDC2E4274A5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Són ELEMENTS BÀSICS PER A LA BC I EL CCU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horitzontal (RDA 7.25.3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vertical (RDA 7.25.4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Informació d'escala addicional (RDA 7.25.5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ojecció del contingut cartogràfic (RDA 7.26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E596-1851-4F1C-9803-A519E16979D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e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8 els premis són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8D94-85A1-410F-A787-F88EB708181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del mòdu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53F6-C014-4AF0-B84F-48CC7F3BF2C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 6.9 el tipus de contingut és un ELEMENT BÀS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és una categorització que reflecteix la forma fonamental de comunicació, en què s’expressa el contingut i el sentit humà per mitjà del qual s’ha de percebr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contingut del recurs, usant un o més dels termes de la llista que figura a RDA 6.9 (taula 6.1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té més d'un tipus de contingut, 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6.9.1.3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specifica l'aplicació de l'alternativ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En lloc d'enregistrar-los tots, es pot enregistr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 a la part predominant del recurs (si n'hi ha alguna que sigui predominant),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gui a les parts substancials del recurs (incloent la part predominant, quan hi hagi u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1727-E31F-475E-B745-4503D86458C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tipus de suport físic és un ELEMENT BÀSIC PER A LA BC I EL CCUC.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És una categorització que reflecteix el format del suport d’emmagatzematge i d’allotjament d’un suport físic en combinació amb el tipus d’aparell de mediació requerit per visionar, reproduir, fer funcionar, etc. el contingut d’un recurs (és a dir,  quin tipus d'aparell, si és el cas, es necessita per poder veure, escoltar, etc., el contingut d'un recur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S'aplica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suport utilitzant un o més dels termes de la llista 3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enregistreu el tipus de suport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BB92-9B58-4E53-A6C8-C2E75B91C5B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fís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el tipus de suport físic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és una categorització que reflecteix 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: 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hi ha més d'un terme apropiat enregistreu el tipus de suport físic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dóna informació més específica que el tipus de suport, indica el format, emmagatzematge i tipus d'aparell requeri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3D65-4E59-4658-BBC9-B5576B9740B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r exemple: es tracta d'un llibre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contingut en el camp 336 és "text"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llibre no necessita de cap aparell per poder llegir el seu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n exemple: es tracta d'un llibre principalment il·lustrat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principal en el camp 336 és "text", però té una part substancial d'un altre tipus de contingut: "imatge fitxa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contingut d'un llibre pugui ser llegit no necessita cap apar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r exemple: es tracta d'un CD de música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en el camp 336 és "</a:t>
            </a:r>
            <a:r>
              <a:rPr b="0" lang="pt-BR" sz="12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àudio", és a dir necessita d'un aparell d'àudio (en genèric) per reproduir 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un "disc àudi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Recordeu que els termes del subcamp $a corresponen a un vocabulari control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BC7C-22D2-410E-97F4-7B13D23FE3D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C45-7717-45BA-91E3-7B384C02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6F0B-7897-4B5C-950B-90AD6C54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9659-A719-478E-890B-BF6FB8DD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F55C-FEB6-41F0-B390-4AEF2E11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7F7-A2BA-4B65-92FE-032D90D4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0FA-6F28-4FBC-958E-8053A7F8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C7E-9CCC-4369-AC3C-D394011C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6C1-8E74-4B7F-95FF-C6DD6FC8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3ACD-9C9D-419D-8F68-DD4DCC85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B52A-740A-49B3-BF73-632B88A3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2DB-A61F-4BE8-878B-259EA40A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9E5-D7E0-4C4B-BAEA-87AC6092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121D-DAC0-4839-BE91-27E170EE2534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A35D-D64D-4BFC-B1BE-5951CE89659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nc.cat/sprof/normalitzacio/RDAcontingut.html" TargetMode="External"/><Relationship Id="rId2" Type="http://schemas.openxmlformats.org/officeDocument/2006/relationships/hyperlink" Target="http://www.bnc.cat/sprof/normalitzacio/RDAsuport.html" TargetMode="External"/><Relationship Id="rId3" Type="http://schemas.openxmlformats.org/officeDocument/2006/relationships/hyperlink" Target="http://www.bnc.cat/sprof/normalitzacio/RDAsuport_fis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63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32000" y="263700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2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Informació relativa a l’adquisició i a l’ac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 conting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F7C1-F1DB-4D1C-9EAC-C5A58A21C56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Plantilles Millennium:</a:t>
            </a:r>
            <a:r>
              <a:rPr b="0" lang="ca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Camps MARC 336-337-3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634A-E9A6-4F73-A418-D3ECD26DE49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0" t="47507" r="64662" b="42232"/>
          <a:stretch/>
        </p:blipFill>
        <p:spPr>
          <a:xfrm>
            <a:off x="900000" y="2565360"/>
            <a:ext cx="7128000" cy="23036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6 Rectángulo"/>
          <p:cNvSpPr/>
          <p:nvPr/>
        </p:nvSpPr>
        <p:spPr>
          <a:xfrm>
            <a:off x="1047600" y="20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L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Rectángulo"/>
          <p:cNvSpPr/>
          <p:nvPr/>
        </p:nvSpPr>
        <p:spPr>
          <a:xfrm>
            <a:off x="971640" y="508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(En procés de creaci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(RDA 3.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= "és el nombre i el tipus d’unitats i/o de subunitats que constitueixen un recurs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itat = és un component físic o lògic d’un recurs (ex. un volu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unitat = és una subdivisió física o lògica d’una unitat (per exemple, una pà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 300 $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482C-F772-477D-8BB0-7089FE2A06E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 l'extensió (RDA 3.4.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és si el recurs és complet o si se’n sap l’extens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el nombre d'unitats i el terme apropi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e la llista del tipus de suport físic (RDA 3.3.1.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l terme no està a la llista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les unitats no es poden anomenar concisament (RDA 3.4.1.5) useu "peces diverses"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'ús com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AC62-E227-4F6C-A7C7-A71AE78BA16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recursos específics (RDA3.4.2-3.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0792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3.4.1.3 (general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2 fitxers vídeo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0 carpetes (1.564 docum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2 Extensió d’un recurs cartogrà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 mapes en 1 f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3 Extensió de la música no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 pàg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4 Extensió de les imatges 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aproximadament 1.000 fotograf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5 Extensió del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6 Extensió d’una forma tridimen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trencaclosques (1.000 pe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F227-1D1E-47F9-85D5-D187B4DCBD9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3816360" cy="66675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 redondeado"/>
          <p:cNvSpPr/>
          <p:nvPr/>
        </p:nvSpPr>
        <p:spPr>
          <a:xfrm>
            <a:off x="1258920" y="1700280"/>
            <a:ext cx="2881440" cy="64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Rectángulo redondeado"/>
          <p:cNvSpPr/>
          <p:nvPr/>
        </p:nvSpPr>
        <p:spPr>
          <a:xfrm>
            <a:off x="1258920" y="3357720"/>
            <a:ext cx="288144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9 Conector recto de flecha"/>
          <p:cNvCxnSpPr/>
          <p:nvPr/>
        </p:nvCxnSpPr>
        <p:spPr>
          <a:xfrm flipH="1">
            <a:off x="3563280" y="1125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10 Conector recto de flecha"/>
          <p:cNvCxnSpPr/>
          <p:nvPr/>
        </p:nvCxnSpPr>
        <p:spPr>
          <a:xfrm flipH="1">
            <a:off x="3563280" y="90756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11 Conector recto de flecha"/>
          <p:cNvCxnSpPr/>
          <p:nvPr/>
        </p:nvCxnSpPr>
        <p:spPr>
          <a:xfrm flipH="1">
            <a:off x="3563280" y="1267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12 Conector recto de flecha"/>
          <p:cNvCxnSpPr/>
          <p:nvPr/>
        </p:nvCxnSpPr>
        <p:spPr>
          <a:xfrm flipH="1">
            <a:off x="3851280" y="6453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13 Conector recto de flecha"/>
          <p:cNvCxnSpPr/>
          <p:nvPr/>
        </p:nvCxnSpPr>
        <p:spPr>
          <a:xfrm flipH="1">
            <a:off x="3635280" y="1483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14 Cerrar llave"/>
          <p:cNvSpPr/>
          <p:nvPr/>
        </p:nvSpPr>
        <p:spPr>
          <a:xfrm>
            <a:off x="4716360" y="1700280"/>
            <a:ext cx="432000" cy="4537080"/>
          </a:xfrm>
          <a:custGeom>
            <a:avLst/>
            <a:gdLst>
              <a:gd name="textAreaLeft" fmla="*/ 0 w 432000"/>
              <a:gd name="textAreaRight" fmla="*/ 155880 w 43200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5 CuadroTexto"/>
          <p:cNvSpPr/>
          <p:nvPr/>
        </p:nvSpPr>
        <p:spPr>
          <a:xfrm>
            <a:off x="52927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E70D-3041-4CE2-86AD-11F48965BF9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del text (RDA 3.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o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no pagin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Paginació, etc., complexa o irregular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8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paginació múlti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0220-2667-4C2D-B1AC-F11E30C3FF0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no numer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504 pàgines, aproximadament 500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estimació de làmines no numerad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3 fulls, 31 fulls no numer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 volums (XX, 800 pàgin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29, és a dir, 392 pàgi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hi ha un erro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2 fulls pleg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E367-1E80-483C-A307-5B323634F97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nvi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lacionats amb l'extens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 fer servir abreviatures  (Ex., "pàgines", "volums", 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"p.", "vol.", "v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aproximadament" (en lloc de "ca.") i "és a dir" (en lloc de"i.e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pàgines no numerades"/ "fulls no numerats" en lloc de donar els números entre claudà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Cal anar amb compte amb els canvis dels termes per a certs tipus de materials (ex., "partitura guió" s'usa tant, per a la "partitura guió" com per a la "partitura reduïda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A290-5D45-4DEF-B456-3B961586C9E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mensions (RDA 3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mesures del suport físic o dels suports físics i/o del contenidor d’un recurs"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es dimensions inclouen les mesures d’alçada, amplada, profunditat, llargada, format i diàmet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centímetre superior i useu el </a:t>
            </a:r>
            <a:r>
              <a:rPr b="0" lang="ca-ES" sz="2700" spc="-1" strike="noStrike" u="sng">
                <a:solidFill>
                  <a:srgbClr val="000000"/>
                </a:solidFill>
                <a:uFillTx/>
                <a:latin typeface="Calibri"/>
              </a:rPr>
              <a:t>símb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 mètric 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cm" (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o és una abreviatura), o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mm"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egons el tipus de recu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 300 $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849D-DF6F-4162-8654-7710F8FF996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3 pàgines, 28 pàgines no numera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CD de músic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7926-1289-4FDD-AF08-09608B56DA7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D234-1FE0-461D-BBED-E6B17D8E631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DV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en moviment bidimensiona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d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ídeo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ideodis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d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DF en lí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39 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634B-A5FF-44A5-8E81-1661F726EF6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ur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notad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t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ap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6 mapes en 1 fu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AFC0-3800-42B1-B635-904C59701E7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oc Web amb text, mapes i fotografi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</a:t>
            </a:r>
            <a:r>
              <a:rPr b="0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A4C6-ED92-4894-999A-C6CEFAE1021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69992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 acompanyat d'un CD no musical (xerra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4 pàgines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+$e1 C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paraula parlada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pw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nc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L'ús de $3 és opcio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2B4A-5632-4C6F-9ADF-2B154A965B0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84428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·lecció de fotografies (recul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pçalera/06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k</a:t>
            </a: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apçalera/07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8 fotograf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D5C2-F12C-463F-8FA9-4C470DE125A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 del suport fí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341360"/>
            <a:ext cx="3600360" cy="460872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6: Material de bas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7: Material aplic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8: Muntur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9: Mètode de pro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0: Genera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1: Disposi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2: Format de llibr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3: Mida de la fon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4: Polarit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5: Escala de re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1341000"/>
            <a:ext cx="4619520" cy="45356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6: Característica del s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7: Característica de projecció d’una pel·lícula cinematogràfic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8: Característica víde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9: Característica del fitxer digital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7,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52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0: Equipament o sistema requeri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3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1: Nota sobre el suport físic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6890-8ED8-4E95-82A3-8A805905013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Característica del so (MARC 34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a: Tipus de d’enregistrament - 3.16.2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analògic, digit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b: Suport d’enregistrament - 3.16.3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agnètic, magnetoòptic, òpt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c: Velocitat de reproducció - 3.16.4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rpm,  m/s, cm/s, f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d: Característiques del solc - 3.16.5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icrosolc, solc gruixut, fi, estànda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e: Configuració de la pista - 3.16.6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pista central, pista later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f: Configuració de la cinta - 3.16.7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(nombre de pist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g: Configuració dels canals de reproducció - 3.16.8.3 = 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ono, estèreo, quadrifònic, so envolt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h: Característica especial de reproducció - 3.16.9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codificació CX, Dolby, LPCM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7D6B-C249-4DFE-8091-4666712C1A4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racterística vídeo (MARC 34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Format vídeo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només analògic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eta, U-matic, VH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Estàndard d’emissió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per televisió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HDTV, NTSC, PAL, SE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C35F-BFED-4020-AAFF-86DE0160725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itxer digital (MARC 3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Tipus de fitxer - 3.19.2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fitxer àudio, fitxer de vídeo, fitxer d’imatg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Format de codificació - 3.19.3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CD àudio, DVD vídeo, JPE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c: Mida del fitxer - 3.19.4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KB,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B, GB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d: Resolució - 3.19.5 =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pí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e: Codi de regió - 3.19.6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regió 4, totes les reg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f: Velocitat de transmissió - 3.19.7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= kb/s, Mb/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55AD-E548-4F4D-825A-736374A3514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907920"/>
            <a:ext cx="843408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4 discs àudio (aproximadament 16 h) ;$c12 c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$2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BEA1-9074-41FB-B2A9-57E5D4A6D42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24000" y="2565360"/>
            <a:ext cx="8434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324000" y="4221000"/>
            <a:ext cx="84340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set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casset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dificació Dolby-B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324000" y="5489640"/>
            <a:ext cx="8434080" cy="11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3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3 1/3 rpm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Substitució de la designació general de material (DGM)-245 $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Tres nous camps MARC , desenvolupats amb la comunitat d’editors ONI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ipus de contingut (RD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6.9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7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 de suport (RDA 3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8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 de suport físic (RDA 3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94C8-A8F9-4850-8A36-D6AAF17490F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F90E-AF34-47D8-B980-093CE8C7CD1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324000" y="1341360"/>
            <a:ext cx="8434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casset (77 min) :$bblanc i negre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magnè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VHS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 Marcador de contenido"/>
          <p:cNvSpPr/>
          <p:nvPr/>
        </p:nvSpPr>
        <p:spPr>
          <a:xfrm>
            <a:off x="324000" y="3284640"/>
            <a:ext cx="8434080" cy="18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color, so ;$c 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lby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NTS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egió 1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5573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2 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Disposició - RDA 3.11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00 $b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 mapes en 1 full :$bcara i c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aracterística del fitxer digital - RDA 3.19.8      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52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0EC3-12AE-42B5-AD11-7BE44992401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 Marcador de contenido"/>
          <p:cNvSpPr/>
          <p:nvPr/>
        </p:nvSpPr>
        <p:spPr>
          <a:xfrm>
            <a:off x="611280" y="4005360"/>
            <a:ext cx="813600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mapa: imatge digital en lí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1 mapa) :$b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d’imatges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7.413 KB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52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Trama :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íxel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(5.381 x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6.105) ;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q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1DFD-D8C6-47EC-8C8C-BC0C5C97EA7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formació relativa a l’adquisició i a l’acc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accés (RDA 4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’accés a 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accé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6 ##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$aAccés restringit:$ces requereix permís escrit del don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C55C-ED9D-4A12-A91F-4C60EFC6755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ús (RDA 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'ús d'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ú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4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40 ## $aRestringit: reproducció permesa només a organitzacions sense ànim de luc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50BD-EDF9-47F1-9258-099C111C91A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dreça URL (RDA 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= "és l’adreça d’un recurs d’accés remot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ont: obtingueu la informació de qualsevol f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8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alibri"/>
              </a:rPr>
              <a:t>Concreció 4.6.1.3.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 Si hi ha més d'una URL per al recurs, enregistreu-les totes. S’informen, quan sigui apropiat, els subcamps: $3, $z, $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 856 42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umar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E654-84B0-4D53-8508-412E169B9F2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URL: restriccions i accés ($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o una de les URL's tingui un accés restringit indiqueu-ho en un $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la URL no sigui accessible per IP i es necessiti usuari i/o contrasenya, etc., afegiu les indicacions apropi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. Cal codi d'usuari i contraseny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sigui d'accés lliure, indiqueu-ho en un subcamp $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lliure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 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359E-11F9-4382-9043-598F7A69E8B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anvis que requereixen l’addició, la revisió o l’eliminació d’una adreça URL (RDA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4.6.1.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Bibliografia nacional de Catalunya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 i la URL ja no està activa. Es cerca a Interne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'informa un $z i $x de la següent maner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Adreça electrònica (http....) no disponible en fer la cerca el 06/03/2015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x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Bibliografia nacional de Catalun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16F3-448A-460D-9557-A9A078E95F1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 7</a:t>
            </a:r>
            <a:br>
              <a:rPr sz="3200"/>
            </a:b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824F-F398-48FF-B57D-914C0AE38B2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quest capítol proporciona les directrius generals i les instruccions sobre l'enregistrament dels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 associats amb el contingut intel·lectual o artístic d’un re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ls elements del capítol 7 s’usen normalment per seleccionar un recurs que satisfaci les necessitats de l’usuari en termes del seu contingut (per exemple, contingut il·lustratiu, sonor, informació sobre la tesi, llengu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DBD7-8E62-4EAD-86ED-4A2CB5C5FD3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: 336, 337, 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341360"/>
            <a:ext cx="88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Cada camp conté els següents subcamp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6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content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[= Capçalera/06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7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me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8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 rdacarrie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lista de termes i codis per als tipus de contingu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lista de termes i codis per als tipus de supor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Llista de termes i codis per als tipus de suports físics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ls codis del $2 són enregistrats i validats per MARC 21, no s'han de traduir ma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BC69-A59F-40CE-9F29-80ED5FE6CA5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DA divideix els elements de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ob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628640"/>
            <a:ext cx="3456000" cy="2952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2: Natura del contingut</a:t>
            </a:r>
            <a:r>
              <a:rPr b="0" lang="ca-ES" sz="1600" spc="-1" strike="noStrike">
                <a:solidFill>
                  <a:srgbClr val="376092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3: Cobertura del contingut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4: Coordenades d’un contingut cartogràfic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5: Equinocci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6: Èpoc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7: Destinataris previstos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21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8: Sistema d’organització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3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9: Informació sobre la tesi o la memòri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66920" y="1052280"/>
            <a:ext cx="40417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24360" y="1557360"/>
            <a:ext cx="4751280" cy="4464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0: Resum del contingut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 5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1: Lloc i data de la captur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033, 5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2: Llengua del contingut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3</a:t>
            </a:r>
            <a:r>
              <a:rPr b="0" lang="ca-ES" sz="1300" spc="-1" strike="noStrike">
                <a:solidFill>
                  <a:srgbClr val="00b050"/>
                </a:solidFill>
                <a:latin typeface="Calibri"/>
              </a:rPr>
              <a:t>:</a:t>
            </a: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 Forma de la notac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4: Contingut accessibl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, 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5: Contingut il·lustratiu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6: Contingut suplementari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7: Contingut de col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8: Contingut son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9: Relació d’aspect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0: Format de la música not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48, 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1: Repartiment de l’execució d’un contingut musical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22: Dur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3: Intèrpret, narrador i/o presentador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1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4: Crèdit artístic i/o tècnic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0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5: Escal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6: Projecció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7: Altres particularitats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8: Premis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9: Nota sobre l’express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6 CuadroTexto"/>
          <p:cNvSpPr/>
          <p:nvPr/>
        </p:nvSpPr>
        <p:spPr>
          <a:xfrm>
            <a:off x="1258920" y="458136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76092"/>
                </a:solidFill>
                <a:latin typeface="Calibri"/>
              </a:rPr>
              <a:t>*diversos c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5BCB-0065-43AF-92BE-04849A456D5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- 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MARC 3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aquest camp s'han d'enregistrar elements que estan relacionats amb el contingut de les obres i les expressions. És per aquest motiu que es troben en el capítol 7 RDA i no en el capítol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il·lustratiu (7.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de color (7.1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sonor (7.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urada (7.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l camp 300 s'hi barregen dades sobre el suport físic com dades del conting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1312-6ED0-43E5-8270-939CB8FD5AC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il·lustratiu (RDA 7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Àmbit = "és el contingut concebut per il·lustrar el contingut principal d’un recurs.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ont: Obtingueu la informació de qualsevol fo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ó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5 Alternativa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En general, no s’aplica.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No és necessari especificar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específics (per ex.: gràfics, mapes, retrats, formularis, plànols, etc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7 Addició opcional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. És opcional donar el nombre d'il·lustrac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 300 $b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666B-F6F8-46AB-A872-0F965DB8251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del color (RDA 7.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Àmbit = "és la presència de color, de tonalitat, etc., en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7.17 Alternativ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.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el contingut de color usant un o més dels termes alternatius a monocrom, policrom: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lanc i negre, color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les particularitats del contingut de color si es consideren import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300## … :$bil·lustracions (algunes en col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F4B3-4190-4ED6-8081-EBB95C7273B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sonor (RDA 7.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és la presència de so en un recurs que no consisteix principalment en so enregistrat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2700" spc="-1" strike="noStrike">
                <a:solidFill>
                  <a:srgbClr val="376092"/>
                </a:solidFill>
                <a:latin typeface="Calibri"/>
              </a:rPr>
              <a:t>sonor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 per indicar la presència de so en un recurs que no consisteix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rincipalment en so enregistrat (p. ex.: c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onjunt de diapositives amb so integrat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Excepció. Per a recursos d’imatges en moviment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p. ex.: els</a:t>
            </a: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aments de vídeo), enregistreu: 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s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mut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921C-4057-4C5C-8876-B03F5439CCB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urada (RDA 7.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628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 "es el temps de reproducció, de projecció, d’execució, etc., d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sobre la durada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nregistrament de la dur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registreu el temps exacte si es pot determin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temps aproximat si es pot estimar precedit de "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  <a:ea typeface="Courier New"/>
              </a:rPr>
              <a:t>aproximadament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no es pot determinar o estimar fàcilment, ometeu-l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Useu els símbols de l'apendix B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lista B.7, que s’apliquin a les unitats de temp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00 $a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/ 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300 ## $a1 disc àudio(45 m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Duració: aproximadament 30 m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s tracta d'un recurs de música not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BD36-F562-44B3-BEFF-D3EF9B3E8E1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sobre la tesi o la memòria (RDA 7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és una informació sobre una obra presentada com a part dels requisits formals per a l’obtenció d’un títol acadèmic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btingueu la informació sobre la tesi o la memòria de 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a informació següen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) el títol per al qual l’autor era candida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b) el nom de la institució o la facultat en la qual es va presentar la tesi,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) l’any d’obtenció del tít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2 $b, $c, $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02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ctora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Universitat de Barcelon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E926-0A25-442D-A149-32B5E62DAC7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um del contingut (RDA 7.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 "és una síntesi, un sumari, una sinopsi, etc., del contingut del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que s’ha d’usar en resumir el contingut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roporcioneu un resum breu i objectiu del contingut del recurs si aquesta informació es considera important per a la identificació o la selecció i no s’ha enregistrat informació suficient en una altra part de la descripci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520 ## $aActes, llistes de membres i de cotitzacions, periòdics, llibres d’entrades i sortides, formularis, circulars i correspondència d’un grup local del sindicat de fusters de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3ACE-F97B-441E-B62A-B102942569A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loc i data de captura (RD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7.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=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ón el lloc i la data associats amb la captura (és a dir, l’enregistrament, la filmació, etc.) del contingut d’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oc: l’estudi concret, la sala del concert, etc., quan s’aplica i es pot determinar fàcilment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a ciuta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ata: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’any, el mes, el dia i l’hora quan s’apliq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033, 5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033 20 $a20081020$a20081022$b6564$cB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  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18 ## $aEnregistrat en directe: 20-22 d'octubre de 2008, Sala Luz de Gas, Barcelon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7F66-CD86-4DE6-9990-38AC91A0560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l contingut (RDA 7.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"és la llengua usada per expressar el contingut d’un recurs.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registreu les particularitats de la llengua o les llengües usades per expressar el contingut del recurs si es consideren importants per a la identificació o la selecci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008/35-37, 041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546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(segons el c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B623-49F1-4570-BD25-1EAAD2C0B46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Vocabularis controlats per</a:t>
            </a:r>
            <a:r>
              <a:rPr b="0" lang="ca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l</a:t>
            </a:r>
            <a:br>
              <a:rPr sz="3600"/>
            </a:b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ipus de contingut, suport i suport fís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listes tancades: RDA 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6.9.1.3, 3.2.1.3, 3.3.1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hi ha més d'un terme apropiat, hi ha dues opc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r-los tots. Repetiu el camp com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ollir el terme que representi el contingut, suport o suport físic predominant o substan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s desconeix la informació s'enregistra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no especific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cap terme és apropi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s’enregistra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altre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6EF9-AE43-4F9F-A4D3-094091F7B44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a de la notació (RDA 7.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Abast = "és un conjunt de caràcters i/o de símbols usat per expressar el contingut d’un recurs.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registreu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) l’escrip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) la forma de la notació musical usada per expressar el contingut musical (p. ex., notació alfabèt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) la forma de la notació tàctil (per ex., brail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) la forma de la notació del moviment (p. ex., notació de dansa per traços d’acció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546 ## $bNotació en pentagr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0687-81AB-4AB0-9077-11A399898A9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ontingut suplementari (RDA 7.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és un contingut (per exemple, un índex, una bibliografia, un apèndix) concebut per complementar el contingut principal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504 i 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Inclou 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 $aBibliografia: pàgines 859-9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$aInclou bibliografies i 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5B18-0C06-4F2A-90D4-7DE18551475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úsica not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ormat de la música notada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RDA 7.20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partitura vo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Repartiment de l’execució d’un contingut musical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 RDA 7.21 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reducció per a clarinet i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00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CE87-938C-46C8-A26B-DCA3BD1229A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280" y="1341000"/>
            <a:ext cx="8147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horitzontal (RDA 7.25.3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vertical (RDA 7.25.4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Informació d'escala addicional (RDA 7.25.5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rojecció del contingut cartogràfic (RDA 7.26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RC 2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076A-FCBF-4948-9A09-75D4568EADC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CuadroTexto"/>
          <p:cNvSpPr/>
          <p:nvPr/>
        </p:nvSpPr>
        <p:spPr>
          <a:xfrm>
            <a:off x="6588000" y="638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gener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emis (RDA 7.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"és un reconeixement formal d’excel·lència, etc., del contingut d’un recurs, concedit per un organisme amb capacitat de concedir premi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la informació sobre els premis si es considera important per a la identificació o la selecc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86 8# $aOscar al millor documental 20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3F7A-25BD-4AF0-8568-ABFEB1A5F47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F7CC-D661-4756-BC24-A5434CECE2B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contingut (RDA 6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98100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... forma fonamental de comunicació en què s’expressa el contingut i el sentit humà per mitjà del qual s’ha de percebre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Termes de la Taula 6.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4360" y="2932200"/>
            <a:ext cx="73818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C12F-7CAC-47E0-B82E-51082AEC88A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95280" y="5013360"/>
            <a:ext cx="828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</a:rPr>
              <a:t>Concreció 6.9.1.3 Alternativa: </a:t>
            </a:r>
            <a:r>
              <a:rPr b="0" i="1" lang="ca-ES" sz="2000" spc="-1" strike="noStrike">
                <a:solidFill>
                  <a:srgbClr val="000000"/>
                </a:solidFill>
                <a:latin typeface="Arial"/>
              </a:rPr>
              <a:t>S'aplica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. Si hi ha més d'un terme apropiat, enregistreu el tipus de contingut que correspongui a la part predominant o parts substancials del re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ARC 336 $a $b $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(RDA 3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05264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.. reflecteix el tipus general de l’aparell d’intermediació requerit per visionar, reproduir, fer funcionar, etc.,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ermes de la Taula 3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CDFE-9A64-4997-8ABA-728F1AA8F04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321840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Rectángulo"/>
          <p:cNvSpPr/>
          <p:nvPr/>
        </p:nvSpPr>
        <p:spPr>
          <a:xfrm>
            <a:off x="68436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que correspongui a la part predominant o parts substancials del re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337 $a $b 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físic (RDA 3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= "... 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ermes de la llista en 3.3.1.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9FB4-8B95-4750-A067-00AE71583D1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314784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611280" y="4724280"/>
            <a:ext cx="792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físic que correspongui a la part predominant o parts substancials del rec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38 $a $b $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mps MARC 336-337-33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66D6-5798-4879-9706-5C05970879A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1187280" y="1225440"/>
            <a:ext cx="65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 principalment il·lu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16:06:38Z</dcterms:created>
  <dc:creator>Biblioteca de Catalunya</dc:creator>
  <dc:description/>
  <dc:language>en-US</dc:language>
  <cp:lastModifiedBy>vilsnb</cp:lastModifiedBy>
  <dcterms:modified xsi:type="dcterms:W3CDTF">2017-04-21T07:27:31Z</dcterms:modified>
  <cp:revision>490</cp:revision>
  <dc:subject/>
  <dc:title>Mòdul 2:  Descripció de Suports i Identificació d'Obres</dc:title>
</cp:coreProperties>
</file>