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02120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90360" y="766440"/>
            <a:ext cx="5118120" cy="3838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A0870-855A-4F79-BD50-897C0EC90E91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1888E-3B16-434A-A4B3-287216E09220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Plantilles de catalogaci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Les plantilles de Millennium estaran disponible amb els camps 336, 337, i 338 preestablertes. Podeu escollir la plantilla apropiada per al tipus de contingut del recurs i si es necessita més d'un d'aquests camps, podeu copiar els camps i després enganxar-lo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A6B65-F74D-4DFC-8D48-4FF50F077F8D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Extensi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3.4 l'extensió és un ELEMENT BÀSI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Fonts: Useu l’evidència presentada pel recurs mateix (o en qualsevol material d’acompanyament o contenidor) com a base per a enregistrar l’extensió del recu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RDA parla d'"unitat" (p. ex.; un volum) o de subunitats (p. ex., una pàgina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B3AF3-D494-433D-8BE5-8FB2425B89BD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Enregistrament de l'extensió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L’extensió és un </a:t>
            </a:r>
            <a:r>
              <a:rPr b="1" i="1" lang="ca-ES" sz="1200" spc="-1" strike="noStrike">
                <a:solidFill>
                  <a:srgbClr val="000000"/>
                </a:solidFill>
                <a:latin typeface="Calibri"/>
              </a:rPr>
              <a:t>element bàsic només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i el recurs és complet o si se’n sap l’extensi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nregistreu l'extensió d'un recurs donant el nombre d'unitats i un terme apropiat per al tipus de suport, d'acord a la llista d'RDA 3.3.1.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i el terme no està a la llista, enregistreu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peces diverses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i és apropiat, o un terme d'ús comú. (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En aquest cas aviseu a fi de recollir-ho en concreció per a l'ús d'altres institucions) 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nregistreu el terme en singular o plural segons correspongui. Si el recurs consta de més d'un tipus de suport físic, enregistreu el número corresponent a cada tip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1DAEB-B8A8-4715-A242-9DB928BE76D2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Extensió  de recursos específic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3.4.2-3.4.6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dóna instruccions especials per a materials cartogràfics, música notada, imatges fixes, textos i objectes tridimensionals. No entrarem a comentar cadascuna d'aquestes instruccions, tanmateix fixeu-vos en els exemples que no hi ha abreviatures. Aquest és un dels canvis d'RDA respecte a les AACR2  o ISB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EE3BA-3196-4F66-BA9D-6CB4D3671AC1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L'extensió està tractada sota cada tipus de recurs. Veurem algun exemples de dels recursos que són "text"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9F0EA-D438-4C67-A1B3-67C09AB6FB5A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Extensió del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200" spc="-1" strike="noStrike">
                <a:solidFill>
                  <a:srgbClr val="000000"/>
                </a:solidFill>
                <a:latin typeface="Calibri"/>
              </a:rPr>
              <a:t>RDA 3.4.5.2 </a:t>
            </a: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Un volum sol amb les pàgines, els fulls o les columnes numerat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Per a un recurs d'un sol volum, enregistreu l'extensió en termes de pàgines, fulls o columnes, segons correspongui, aplicant les instruccions general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- Si el volum està paginat (si les pàgines tenen números en ambdós costats dels fulls), enregistreu el nombre de pàgin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- Si el volum està foliat (si els fulls estan numerats en un sol costat), enregistreu el nombre de ful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- Si el volum consta de pàgines amb més d'una columna per pàgina, i les columnes estan numerades, enregistreu el nombre de column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- Si el volum té seqüències de fulls i pàgines, o pàgines i columnes numerats, o fulls i columnes numerades, enregistreu cada seqüènci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3.4.5.3 Un volum sol amb les pàgines, els fulls o les columnes no numerats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(RDA 3.4.5.3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Tot i que RDA dóna tres opcions per a aquestes situacions, la </a:t>
            </a:r>
            <a:r>
              <a:rPr b="1" i="1" lang="ca-ES" sz="1200" spc="-1" strike="noStrike">
                <a:solidFill>
                  <a:srgbClr val="000000"/>
                </a:solidFill>
                <a:latin typeface="Calibri"/>
              </a:rPr>
              <a:t>Concreció 3.4.5.3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 segueix la pràctica d'aplicar "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el mètode c) 1 volum (no paginat)" excepte 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per a recursos impresos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antics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Les instruccions d'RDA 3.4.5 recullen casuístiques de "extensió", incloent canvis en la forma de la numeració dins d'una seqüència, numeració errònia, volums incomplets, paginació complexa o irregular, fulls o pàgines de làmines, més d'un volum, volums amb paginació contínua, actualització de fulls solts, i altres situac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Per a la paginació complexa o irregular la</a:t>
            </a:r>
            <a:r>
              <a:rPr b="1" i="1" lang="ca-ES" sz="1200" spc="-1" strike="noStrike">
                <a:solidFill>
                  <a:srgbClr val="000000"/>
                </a:solidFill>
                <a:latin typeface="Calibri"/>
              </a:rPr>
              <a:t> Concreció 3.4.5.8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segueix la pràctica d'aplicar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"el mètode c)  1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  <a:ea typeface="Courier New"/>
              </a:rPr>
              <a:t> volum (paginació múltiple)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C53E2-621E-4049-A68A-3E9B99AA4357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Exemp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No entrarem a comentar cadascun, tanmateix fixeu-vos que no s'utilitzen claudàtors per a les pàgines, etc. no numerades, ni les abreviatures "ca.", "i.e.", 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EAFFB-1EA6-4603-B4D5-15CF9A2775BF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Principals canvis relacionats amb l'extensió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No utitizar abreviatures per als termes com per exemple, "pàgines," "volums", (no "p.", "vol.", "v."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Utilitzar "aproximadament" (en lloc de "ca.") i "és a dir" (en lloc de "i.e."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Utilitzar "pàgines no numerades", "fulls no numerats", etc. en lloc de donar els números entre claudàto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També cal anar amb compte amb els canvis en el vocabulari, ex: "partitura guió" s'usa tant, per a la "partitura guió" com per a la "partitura reduïda". Consulteu RDA 3.3.1.3, 3.4.2 -3.4.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C47F9-7200-4E9B-A5B5-91D08D33438D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Dimen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3.5 les dimensions són un ELEMENT BÀSIC PER A LA BC I EL CCUC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excepte en el cas de publicacions en sèrie i recursos en líni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Les dimensions són un altre element de la descripció del suport d'una manifestació. En el cas de publicacions en sèrie és opcional, si es considera es poden dona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Les dimensions són les mesures del suport físic o dels suports físics i/o del contenidor d’un recurs. Les dimensions inclouen les mesures d’alçada, amplada, profunditat, llargada, format i diàmet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nregistreu les dimensions en centímetres arrodonits al següent centímetre complet, usant el símbol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cm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(ex., 17,2 centímetre, enregistreu 18 cm) o en mil·límetres, useu el símbol mètric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m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3CC87-1C2A-46E2-9528-5672AB474EDB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Exemp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n aquesta diapositiva  hi ha exemples que mostren l'extensió al camp 300 subcamp $a i als camps 336-337-338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1r exemple és el mateix que hem vist abans; l'extensió està donada en termes de pàgin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n el 2n exemple, el terme "disc àudio"  obtingut de la llista que de suports físics (RDA 3.3.1.3), s'utilitza també per a descriure l'extensió de la unitat; per tant, 300 $a i 338 $a porten el mateix terme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36FAB-15FC-4ED1-96BA-711D9B3270A0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Descripció de suports fís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Ara veurem les instruccions relacionades amb l’enregistrament dels atributs del suport físic de les manifestacions. El propòsit d'aquests elements, és ajudar l'usuari a seleccionar el recurs que vol obteni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BA798-15A4-4834-8717-89492D30103F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Pràctica conjun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D5167-B0B8-4DF6-9D66-AE23931A246F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Pràctica conjun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F42E6-1157-4DD8-8E40-5F434C9E2345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Exe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Aquest cas és un lloc web que conté diversos tipus de continguts: el text es considera el predominant, tanmateix la presència de mapes i fotografies  és considerable i és recomanable informar els camps 336 corresponents a aquest tipus de contingu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1B2B4-3574-41A2-AAD1-74AF8F5346BF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Exempl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Aquest exemple mostra l'ús del subcamp $3 en els camps 336-337-338 per identificar les característiques de cada part del recurs.</a:t>
            </a:r>
            <a:r>
              <a:rPr b="1" i="1" lang="ca-ES" sz="1200" spc="-1" strike="noStrike">
                <a:solidFill>
                  <a:srgbClr val="000000"/>
                </a:solidFill>
                <a:latin typeface="Calibri"/>
                <a:ea typeface="Courier New"/>
              </a:rPr>
              <a:t>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  <a:ea typeface="Courier New"/>
              </a:rPr>
              <a:t>T</a:t>
            </a: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  <a:ea typeface="Courier New"/>
              </a:rPr>
              <a:t>anmateix  l'ús de $3 és opcion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771EA-5916-4D86-A3E0-B6B99250B4BD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Exempl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Aquest exemple és un recull o  col·lecció de fotografies procedent d'un donant. Cal tractar-lo com un tot i proporcionar els camps 33X d'acord amb el seu contingu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68B3F-F715-4067-8E89-3521E4F78DB3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A nivell de CSUC s'ha decidit utilitzar els nous camps MARC per a donar la característica del so (MARC 344),  la característica vídeo (MARC 346) i la  característica del fitxer digital (MARC 347 i 35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00D9C-B806-4AAE-B02F-43C2107FB0A4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Característica del so – MARC 34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Una característica del so és una especificació tècnica relativa a la codificació del so d’un recu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Aquí es llisten les instruccions addicionals que s'han de considerar en el moment de catalogar recursos sonors. No anem a tractar aquests elements en detall, doncs la majoria ja eren enregistrats en els registres MARC, però en el camp 300 o en not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D6587-76D3-4726-9515-F2030A89C27A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Característica vídeo – MARC 34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Una característica vídeo és una especificació tècnica relativa a la codificació de les imatges de vídeo d’un recu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Aquí es llisten les instruccions addicionals que s'han de considerar en el moment de catalogar imatges en moviment. No anem a tractar aquests elements en detall, doncs la majoria ja eren enregistrats en els registres MARC, però en el camp 300 $b o en not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B1EF1-E9B2-4742-9585-8B50FB0ACC90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Altres característiqu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A continuació es llisten instruccions addicionals que s'han de considerar en el moment de catalogar recursos fitxers digitals. No anem a tractar aquests elements en deta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6B821-97EF-413E-A452-CD45613160EC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Exemples d'enregistraments son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6A8D2-E58D-4BEF-8F9C-5BE1F1316AFE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Substitució de la designació general de materia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La designació general de material (DGM) del subcamp $h no existeix a RDA. La DGM era un conjunt de termes inconsistents, que de vegades es referia al contingut i altres vegades al supor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Joint Steering Committee, conjuntament amb la comunitat d'editors (ONIX), van desenvolupar tres elements per a “substituir" la DG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s nous camps MARC só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Tipus de contingut - RDA 6.9 (camp MARC 336)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(que en realitat és un atribut de l'expressió!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Tipus de suport - RDA 3.2 (camp MARC 33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Tipus de suport físic - RDA 3.3 (camp MARC 338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0B48F-C607-4CCD-9E73-4B8080C4CC3F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Exemples d'enregistraments de víde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880B8-6437-409F-84A9-9A81D0AFA22B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Altres característiques - Recursos cartogràf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La disposició (RDA 3.11 ) i la característica del fitxer digital (RDA 3.19.8) són </a:t>
            </a: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ELEMENTS BÀSICS PER A LA BC I EL CCU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60A04-9B44-4B84-8D88-D08A9E31D498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EA7A5-5528-481F-A091-0582087E26EC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Restriccions d'accé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4.4 les restriccions d'accés són un ELEMENT BÀSIC PER A LA BC I EL CCUC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per a materials d'arxiu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E2E8A-4EDE-47C5-8293-FD2BEB9E4C4E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Restriccions d'ú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4.5 les restriccions d'ús són un ELEMENT BÀSIC PER A LA BC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per a materials d'arxiu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ón notes que indiquen a l'usuari les limitacions imposades sobre els usos del recurs, com ara la reproducció, la publicació, l’exposició, et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DD280-944C-4A6E-B8A8-55855E5EFB88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Adreça UR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4.6 l'adreça URL és un ELEMENT BÀSIC PER A LA BC I EL CCU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URL és l'adreça d’un recurs d’accés remot. Les URL inclouen tots els identificadors del recurs, destinats a permetre l'accés en línia a un recurs mitjançant l'ús d'un cercador d'internet normalitza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A3B43-E9D6-4BC5-833A-621F3B52A020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URL: restriccions i accé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La pràctica utilitzada fins ara no canvia amb l'aplicació d'RD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64575-F2BA-4577-82F5-93358579A64D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 u="sng">
                <a:solidFill>
                  <a:srgbClr val="000000"/>
                </a:solidFill>
                <a:uFillTx/>
                <a:latin typeface="Calibri"/>
              </a:rPr>
              <a:t>Canvis que requereixen l’addició, la revisió o l’eliminació d’una adreça UR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200" spc="-1" strike="noStrike">
                <a:solidFill>
                  <a:srgbClr val="000000"/>
                </a:solidFill>
                <a:latin typeface="Calibri"/>
              </a:rPr>
              <a:t>Concreció 4.6.1.4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 mostra la pràctica de la BC per a recursos que pertanyen a la Bibliografia nacional de Catalunya i la URL ja no està activa. Es cerca a interne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i es troba l'adreça, s'actualitza al regist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i no es troba i es considera important de mantenir el recurs a la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BnC,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'informa un $z i $x de la seguent manera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  <a:ea typeface="Courier New"/>
              </a:rPr>
              <a:t>856 40 $zAdreça electrònica (http....) no disponible en fer la cerca el 06/03/2015$xBibliografia nacional de Cataluny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B7705-736C-4FA5-B2B8-4718A85098DD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2CC71-22A9-4D72-B148-7D4048F5703F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Descripció del conting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Deixem el capítol 6, que tracta sobre les obres i les expressions per més endavant, i tractarem primer el capítol 7 perquè inclou una sèrie d'</a:t>
            </a:r>
            <a:r>
              <a:rPr b="0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atributs de les obres i les expression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 associats amb el contingut d’un recurs que són enregistrats en un registre bibliogràfic en el camp 300 i en camps de not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F6763-D771-4813-8E33-E0C7ABCFDC45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Codificació MARC de cada un d'aquests cam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n cada camps conté: </a:t>
            </a: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$a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terme, </a:t>
            </a: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$b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codi i </a:t>
            </a: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$2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fo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subcamp $2 identifica el vocabulari d’RDA utilitzat (en un camp 336 ha de ser "rdacontent"; en un camp 337 "rdamedia" i en un camp 338 "rdacarrier"). Aquests són codis registrats i validats per MARC 21, no s'han de traduir mai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subcamp </a:t>
            </a: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$3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es fa servir, si es considera necessari, per identificar parts d'un recu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La correspondència entre el terme, el codi i la font de cada element RDA es troben disponibles en tres documents publicats per la B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[Veurem exemples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017EC-750E-4416-95F4-537ACBBCF7FD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lvl="2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RDA divideix els elements de contingut e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Atributs de l'ob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Atributs de l'expressi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Aquesta distinció no sempre és intuïtiva, però està clarament dividida a les instruccion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No analitzarem cada element de contingut d'RDA. Començarem per aquells elements que s'han d'enregistrar en un camp MARC 300 i continuarem pels elements que s'han considerat bàsics o han estat contemplats en els nivells de catalogaci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2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E17BE-B8A1-4987-BD89-CBF0DA8E44BC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lvl="1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MARC - Descripció del conting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n el camp 300 s'han d'enregistrar elements que estan relacionats amb el contingut de les obres i les expressions. És per aquest motiu que es troben en el capítol 7 RDA i no en el capítol 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La durada, el contingut il·lustratiu, el de color i el sonor són atributs de les obres i/o de l'expressió. Heu de tenir present que en el camp 300 s'hi barregen dades sobre el suport físic i dades del contingu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8B1CC-68E5-4F9C-A130-01E802F826CF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lvl="1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Contingut il·lustratiu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7.15 el contingut il·lustratiu és un ELEMENT BÀSIC PER A LA BC I EL CCUC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i és aplicab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contingut il·lustratiu és el contingut concebut per il·lustrar el contingut principal d’un recurs. Les taules que només contenen paraules i/o dades numèriques no es consideren contingut il·lustratiu. Descarteu les portades, etc., il·lustrades i les il·lustracions meno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nregistreu: </a:t>
            </a:r>
            <a:r>
              <a:rPr b="1" lang="ca-ES" sz="1200" spc="-1" strike="noStrike">
                <a:solidFill>
                  <a:srgbClr val="000000"/>
                </a:solidFill>
                <a:latin typeface="Calibri"/>
                <a:ea typeface="Courier New"/>
              </a:rPr>
              <a:t>il·lustració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o </a:t>
            </a:r>
            <a:r>
              <a:rPr b="1" lang="ca-ES" sz="1200" spc="-1" strike="noStrike">
                <a:solidFill>
                  <a:srgbClr val="000000"/>
                </a:solidFill>
                <a:latin typeface="Calibri"/>
                <a:ea typeface="Courier New"/>
              </a:rPr>
              <a:t>il·lustracions,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  <a:ea typeface="Courier New"/>
              </a:rPr>
              <a:t>no useu l'abreviatura "il.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D8A01-9BF8-4CFC-AD6A-2A7DC1F6B38C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Contingut del colo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7.17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el contingut del color és un </a:t>
            </a: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ELEMENT BÀSIC PER A LA BC I EL CCUC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i és aplicable i si es considera important per a la identificació o la selecció.. Enregistreu les particularitats del contingut de color si es consideren importants; utilitzeu frases com "(algunes en color)", "(principalment en color)", etc.; no utilitzeu l'abreviatura "col.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CA62C-C4C0-4196-9764-91AEE2A674F4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Contingut sono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7.18 el contingut sonor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és un </a:t>
            </a: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ELEMENT BÀSIC PER A LA BC I EL CCUC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i és aplicable i si es considera important per a la identificació o la selecci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nregistreu "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sonor" per indicar la presència de so en un recurs que no consisteix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principalment en so enregistrat.  En el cas d'enregistraments de vídeo, enregistreu: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 "so" o "mut"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0DCF1-4E8B-4D21-AB68-63D99CBBE07D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lvl="1" marL="98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Durad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8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7.22 la durada és un ELEMENT BÀSIC PER A LA BC I EL CCUC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n el cas de la música notada, enregistraments d'àudio i de vídeo i si es pot  determinar fàcilment; si no, es pot donar una durada aproximada, o ometre-la si es desconeix. No utilitzeu abreviatures com "ca."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8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Utilitzeu els símbols d'unitat de temps de l'apèndix 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9B402-2AE3-4AE3-932B-85D2CD964175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Informació sobre la tesi o la memòri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7.9 la informació sobre la tesi o la memòria és un ELEMENT BÀSIC PER A LA BC I EL CCU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s  subelements s'enregistren en diferents subcamps del camp 502 (sense puntuar). A diferència d'AACR2/ISBD, amb RDA </a:t>
            </a:r>
            <a:r>
              <a:rPr b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no</a:t>
            </a:r>
            <a:r>
              <a:rPr b="0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 es fa constar si es tracta d'una tesi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. Si no es disposa de tots els subelements, o no conté la tesi original, la informació disponible es dóna en un camp 500 $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AC5E6-ECC9-4A41-816D-7B17C9D86F85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Resum del contingu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7.10 el resum del contingut és un ELEMENT BÀSIC PER A LA BC I EL CCUC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per a materials d'arxiu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s dóna una nota de resum com a addició o com a substitut d’una nota de conté 505. Les notes de resum són narratives, de text lliure i normalment són emprades per donar informació sobre l’abast i el contingut del fons o de la col·lecció. El tipus d’informació pot ser: tipus i formes dels materials, ordenació, dates i matèries, persones, llocs o esdeveniments més significatiu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DA510-7333-4489-A75E-31F01C161261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Lloc  i data de captur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7.11 el lloc i la data de captura són un ELEMENT BÀSIC PER A LA BC I EL CCU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7EBF2-B322-498E-A211-FE8B1A766A00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Llengua del contingu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7.12 la llengua del contingut és un ELEMENT BÀSIC PER A LA BC I EL CCU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A la  posició 008/35-37 es dóna el codi de llengua del recurs. El camp 041 només s'utilitza quan s'han d'enregistrar múltiples llengües incloses en el recurs (primer indicador 0) o perquè es tracta  una traducció (primer indicador 1). Utilitzeu en ambdós camps la llista de codis MARC per a les llengües. La nota 546 s'utilitza per a descriure les llengües del contingut i pot ser utilitzada per a una sola llengua si es considera úti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16549-370F-419D-A7E3-9B08852B07A9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Vocabularis controlats  per al tipus de contingut, suport i suport fís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s vocabularis per aquests termes es troben a RDA en llistes "tancades": RDA </a:t>
            </a: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6.9.1.3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 (Tipus de contingut), RDA </a:t>
            </a: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3.2.1.3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 (Tipus de suport), RDA </a:t>
            </a: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3.3.1.3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 (Tipus de suport físic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i hi ha més d'un terme apropiat, hi ha dues opcion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1- E</a:t>
            </a:r>
            <a:r>
              <a:rPr b="0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nregistrar tots els termes apropiats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. Si trieu aquesta opció, repetiu el camp complet, en comptes de repetir el subcamp $a en el mateix camp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2- </a:t>
            </a:r>
            <a:r>
              <a:rPr b="0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Triar el terme que representi el contingut, el suport o el suport físic predominant o substanci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i es desconeix la informació, s’enregistra "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sense especificar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i cap terme d'aquestes llistes és apropiat, s’enregistra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"altre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1A92F-3A82-4544-8FC0-452CD8F78A3F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Forma de la notació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7.13 la forma de la notació és un ELEMENT BÀSIC PER A LA BC I EL CCU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Pel que fa a l'escriptura, utilitzeu els subcamps $a i $b del camp 546. Anoteu el nom de la llengua en el $a i el nom de l’escriptura en un $b en les següents situacions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- Quan el contingut es troba en una escriptura que no és l’habitual de la llengu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Quan el contingut és en una llengua que pot ser escrita en més d’una escriptur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xempl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564 ## $aSerbi;$bAlfabet ciríl·l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564 ## $aSerbi;$bAlfabet llatí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Fixeu-vos també en l'exemple, el nou ús del camp 546 per a la notació musical; amb AACR2 no es donava aquest tipus de notació i altres tipus de notació s'enregistraven en un camp 50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7F93F-2678-4318-BAF2-00E95E4A7BE1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Contingut suplementari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7.16 el contingut suplementari és un ELEMENT BÀSIC PER A LA BC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(no per al CCUC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La pràctica no canvia, tanmateix recordeu que no es poden utilitzar abreviatur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89988-AADF-4622-9165-827779AD01EE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Música notad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7.20-7.21 el format de la música notada i el repartiment de l’execució d’un contingut musical són ELEMENTS BÀSICS PER A LA BC I EL CCU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CB3B4-FD2A-409C-8605-5DDC62B0A5E8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Recursos cartogràf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Són ELEMENTS BÀSICS PER A LA BC I EL CCUC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279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scala horitzontal (RDA 7.25.3 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279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scala vertical (RDA 7.25.4 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279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Informació d'escala addicional (RDA 7.25.5 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279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Projecció del contingut cartogràfic (RDA 7.26 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D0517-8454-4FAF-B12A-AF29429ADF1D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Prem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7.28 els premis són un ELEMENT BÀSIC PER A LA BC I EL CCU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59BAF-5F09-47CB-BCC7-AFEE19F466A5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Fi del mòdul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5FD99-4415-422E-B0C8-BD698A5C066A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Tipus de contingu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 6.9 el tipus de contingut és un ELEMENT BÀSIC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tipus de contingut és una categorització que reflecteix la forma fonamental de comunicació, en què s’expressa el contingut i el sentit humà per mitjà del qual s’ha de percebre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nregistreu el tipus de contingut del recurs, usant un o més dels termes de la llista que figura a RDA 6.9 (taula 6.1)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i el recurs té més d'un tipus de contingut, la </a:t>
            </a:r>
            <a:r>
              <a:rPr b="1" i="1" lang="ca-ES" sz="1200" spc="-1" strike="noStrike">
                <a:solidFill>
                  <a:srgbClr val="000000"/>
                </a:solidFill>
                <a:latin typeface="Calibri"/>
              </a:rPr>
              <a:t>Concreció 6.9.1.3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especifica l'aplicació de l'alternativa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. En lloc d'enregistrar-los tots, es pot enregistra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tipus de contingut que correspon a la part predominant del recurs (si n'hi ha alguna que sigui predominant), 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tipus de contingut que correspongui a les parts substancials del recurs (incloent la part predominant, quan hi hagi una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552BE-15AC-4425-949E-3C27A41D7B04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Tipus de supor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3.3 tipus de suport físic és un ELEMENT BÀSIC PER A LA BC I EL CCUC.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És una categorització que reflecteix el format del suport d’emmagatzematge i d’allotjament d’un suport físic en combinació amb el tipus d’aparell de mediació requerit per visionar, reproduir, fer funcionar, etc. el contingut d’un recurs (és a dir,  quin tipus d'aparell, si és el cas, es necessita per poder veure, escoltar, etc., el contingut d'un recurs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Fonts:</a:t>
            </a: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Useu l’evidència presentada pel recurs mateix (o en qualsevol material d’acompanyament o contenidor) com a base per enregistrar el tipus de suport físic. Obtingueu l’evidència addicional de qualsevol altra fo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200" spc="-1" strike="noStrike">
                <a:solidFill>
                  <a:srgbClr val="000000"/>
                </a:solidFill>
                <a:latin typeface="Calibri"/>
              </a:rPr>
              <a:t>Concreció 3.2 Alternativa: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 S'aplica.</a:t>
            </a:r>
            <a:r>
              <a:rPr b="1" i="1" lang="ca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nregistreu el tipus de suport utilitzant un o més dels termes de la llista 3.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i hi ha més d'un terme apropiat, enregistreu el tipus de suport que correspongui a la part predominant o parts substancials del recu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450CA-1D56-41B6-9650-BD9DEA8DC747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Tipus de suport físic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3.3 el tipus de suport físic és un ELEMENT BÀSI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tipus de suport físic és una categorització que reflecteix el format del suport d’emmagatzematge i d’allotjament d’un suport físic en combinació amb el tipus d’aparell de mediació requerit per visionar, reproduir, fer funcionar, etc. el contingut d’un recurs.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Font: Useu l’evidència presentada pel recurs mateix (o en qualsevol material d’acompanyament o contenidor) com a base per enregistrar el tipus de suport físic. Obtingueu l’evidència addicional de qualsevol altra fo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200" spc="-1" strike="noStrike">
                <a:solidFill>
                  <a:srgbClr val="000000"/>
                </a:solidFill>
                <a:latin typeface="Calibri"/>
              </a:rPr>
              <a:t>Concreció 3.3 Alternativa: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S'aplica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. Si hi ha més d'un terme apropiat enregistreu el tipus de suport físic que correspongui a la part predominant o parts substancials del recu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tipus de suport físic dóna informació més específica que el tipus de suport, indica el format, emmagatzematge i tipus d'aparell requerit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A5B6E-BF17-4DD0-AD89-F6D9E49C54B4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Exemp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1r exemple: es tracta d'un llibre, per tan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- El tipus de contingut en el camp 336 és "text" 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- El tipus de suport en el camp 337 és "sense mediació" perquè el llibre no necessita de cap aparell per poder llegir el seu contingu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tipus de supor físic és "volum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2n exemple: es tracta d'un llibre principalment il·lustrat, per tan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tipus de contingut principal en el camp 336 és "text", però té una part substancial d'un altre tipus de contingut: "imatge fitxa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- El tipus de suport en el camp 337 és "sense mediació" perquè el contingut d'un llibre pugui ser llegit no necessita cap apare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tipus de supor físic és "volum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3r exemple: es tracta d'un CD de música, per tan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tipus de contingut en el camp 336 és "</a:t>
            </a:r>
            <a:r>
              <a:rPr b="0" lang="pt-BR" sz="1200" spc="-1" strike="noStrike">
                <a:solidFill>
                  <a:srgbClr val="376092"/>
                </a:solidFill>
                <a:latin typeface="Courier New"/>
                <a:ea typeface="Courier New"/>
              </a:rPr>
              <a:t>música executada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- El tipus de suport en el camp 337 és "àudio", és a dir necessita d'un aparell d'àudio (en genèric) per reproduir el contingu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tipus de supor físic és un "disc àudio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(Recordeu que els termes del subcamp $a corresponen a un vocabulari controla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D75A6-9732-45C4-B4AB-069B5DB0ED9A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EF0D-45BA-449B-8DF7-69AC475FD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068F-F1BB-4F0A-9B47-631A6B20B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ECDD-412A-446F-A57A-FB03661CE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CE7D-6CBB-4041-A36D-57634127F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A18A-FDB7-49ED-A9A1-22FB0D48C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29F5-372C-4AAD-A73D-54098C925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729D-E5F4-4395-8962-6A8E1F73C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B77E-FE4D-4703-826F-F04141837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23A4-7E73-4C18-9CBD-CD73371CB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7950-324F-439B-8D0C-7D527E1B4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5C00-4A88-43CB-856F-5C812B676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BA7C-5AD1-4E67-B640-FA118E854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78BB8-4710-4598-B720-6671F78C7D72}" type="datetime">
              <a:rPr b="0" lang="ca-ES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0724C-BAF4-438C-ADB9-B616253BAF54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nc.cat/sprof/normalitzacio/RDAcontingut.html" TargetMode="External"/><Relationship Id="rId2" Type="http://schemas.openxmlformats.org/officeDocument/2006/relationships/hyperlink" Target="http://www.bnc.cat/sprof/normalitzacio/RDAsuport.html" TargetMode="External"/><Relationship Id="rId3" Type="http://schemas.openxmlformats.org/officeDocument/2006/relationships/hyperlink" Target="http://www.bnc.cat/sprof/normalitzacio/RDAsuport_fisic.html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611280" y="333360"/>
            <a:ext cx="8153280" cy="18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|RDA|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Recursos, descripció i acc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763640" y="4436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898989"/>
                </a:solidFill>
                <a:latin typeface="Calibri"/>
              </a:rPr>
              <a:t>Biblioteca de Cataluny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898989"/>
                </a:solidFill>
                <a:latin typeface="Calibri"/>
              </a:rPr>
              <a:t>201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1332000" y="2637000"/>
            <a:ext cx="68580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898989"/>
                </a:solidFill>
                <a:latin typeface="Calibri"/>
              </a:rPr>
              <a:t>Mòdul 2:</a:t>
            </a:r>
            <a:r>
              <a:rPr b="1" lang="ca-ES" sz="24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1" lang="ca-ES" sz="2400" spc="-1" strike="noStrike">
                <a:solidFill>
                  <a:srgbClr val="376092"/>
                </a:solidFill>
                <a:latin typeface="Calibri"/>
              </a:rPr>
              <a:t>Descripció dels suports fí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376092"/>
                </a:solidFill>
                <a:latin typeface="Calibri"/>
              </a:rPr>
              <a:t>Informació relativa a l’adquisició i a l’acc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376092"/>
                </a:solidFill>
                <a:latin typeface="Calibri"/>
              </a:rPr>
              <a:t>Descripció del contingu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775F9-28C1-4302-AA5F-FB41432D4FE2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000000"/>
                </a:solidFill>
                <a:latin typeface="Calibri"/>
              </a:rPr>
              <a:t>Plantilles Millennium:</a:t>
            </a:r>
            <a:r>
              <a:rPr b="0" lang="ca-ES" sz="40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000"/>
            </a:br>
            <a:r>
              <a:rPr b="1" lang="ca-ES" sz="4000" spc="-1" strike="noStrike">
                <a:solidFill>
                  <a:srgbClr val="000000"/>
                </a:solidFill>
                <a:latin typeface="Calibri"/>
              </a:rPr>
              <a:t>Camps MARC 336-337-338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FCC6F-7D67-4BEA-B87B-FC28401B2ED4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"/>
          <p:cNvPicPr/>
          <p:nvPr/>
        </p:nvPicPr>
        <p:blipFill>
          <a:blip r:embed="rId1"/>
          <a:srcRect l="0" t="47507" r="64662" b="42232"/>
          <a:stretch/>
        </p:blipFill>
        <p:spPr>
          <a:xfrm>
            <a:off x="900000" y="2565360"/>
            <a:ext cx="7128000" cy="2303640"/>
          </a:xfrm>
          <a:prstGeom prst="rect">
            <a:avLst/>
          </a:prstGeom>
          <a:ln w="9360">
            <a:solidFill>
              <a:srgbClr val="376092"/>
            </a:solidFill>
            <a:miter/>
          </a:ln>
        </p:spPr>
      </p:pic>
      <p:sp>
        <p:nvSpPr>
          <p:cNvPr id="84" name="6 Rectángulo"/>
          <p:cNvSpPr/>
          <p:nvPr/>
        </p:nvSpPr>
        <p:spPr>
          <a:xfrm>
            <a:off x="1047600" y="20606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Llib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7 Rectángulo"/>
          <p:cNvSpPr/>
          <p:nvPr/>
        </p:nvSpPr>
        <p:spPr>
          <a:xfrm>
            <a:off x="971640" y="508464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800" spc="-1" strike="noStrike">
                <a:solidFill>
                  <a:srgbClr val="000000"/>
                </a:solidFill>
                <a:latin typeface="Calibri"/>
                <a:ea typeface="MS PGothic"/>
              </a:rPr>
              <a:t>(En procés de creació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xtensió (RDA 3.4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LEMENT BÀS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Abast= "és el nombre i el tipus d’unitats i/o de subunitats que constitueixen un recurs."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Unitat = és un component físic o lògic d’un recurs (ex. un volum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Subunitat = és una subdivisió física o lògica d’una unitat (per exemple, una pàgina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MARC 300 $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FF294-AC91-4392-BEC4-2EEFA3DEFB61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nregistrament de l'extensió (RDA 3.4.1.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6840" y="1412640"/>
            <a:ext cx="84358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L’extensió és un 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ELEMENT BÀSIC 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només si el recurs és complet o si se’n sap l’extensió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nregistreu el nombre d'unitats i el terme apropia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Un terme de la llista del tipus de suport físic (RDA 3.3.1.3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Si el terme no està a la llista 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si les unitats no es poden anomenar concisament (RDA 3.4.1.5) useu "peces diverses" o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un terme d'ús comú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87A0C-7E3F-4FD3-A939-F7A5B02662FB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xtensió recursos específics (RDA3.4.2-3.4.6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95280" y="907920"/>
            <a:ext cx="842472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3.4.1.3 (general 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</a:t>
            </a: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recurs en línia (2 fitxers vídeo</a:t>
            </a: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videodis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60 carpetes (1.564 document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Calibri"/>
              </a:rPr>
              <a:t>3.4.2 Extensió d’un recurs cartogràfi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6 mapes en 1 ful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Calibri"/>
              </a:rPr>
              <a:t>3.4.3 Extensió de la música notad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partitura (23 pàgine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Calibri"/>
              </a:rPr>
              <a:t>3.4.4 Extensió de les imatges fix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aproximadament 1.000 fotograf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Calibri"/>
              </a:rPr>
              <a:t>3.4.5 Extensió del tex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246 pàgines, 32 pàgines de làmin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Calibri"/>
              </a:rPr>
              <a:t>3.4.6 Extensió d’una forma tridimension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trencaclosques (1.000 pece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2548E-27B9-4BFC-9AF0-F5CD64711835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395280" y="0"/>
            <a:ext cx="3816360" cy="6667560"/>
          </a:xfrm>
          <a:prstGeom prst="rect">
            <a:avLst/>
          </a:prstGeom>
          <a:ln w="0">
            <a:noFill/>
          </a:ln>
        </p:spPr>
      </p:pic>
      <p:sp>
        <p:nvSpPr>
          <p:cNvPr id="96" name="5 Rectángulo redondeado"/>
          <p:cNvSpPr/>
          <p:nvPr/>
        </p:nvSpPr>
        <p:spPr>
          <a:xfrm>
            <a:off x="1258920" y="1700280"/>
            <a:ext cx="2881440" cy="6490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6 Rectángulo redondeado"/>
          <p:cNvSpPr/>
          <p:nvPr/>
        </p:nvSpPr>
        <p:spPr>
          <a:xfrm>
            <a:off x="1258920" y="3357720"/>
            <a:ext cx="2881440" cy="431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8" name="9 Conector recto de flecha"/>
          <p:cNvCxnSpPr/>
          <p:nvPr/>
        </p:nvCxnSpPr>
        <p:spPr>
          <a:xfrm flipH="1">
            <a:off x="3563280" y="1125000"/>
            <a:ext cx="216108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10 Conector recto de flecha"/>
          <p:cNvCxnSpPr/>
          <p:nvPr/>
        </p:nvCxnSpPr>
        <p:spPr>
          <a:xfrm flipH="1">
            <a:off x="3563280" y="907560"/>
            <a:ext cx="216108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11 Conector recto de flecha"/>
          <p:cNvCxnSpPr/>
          <p:nvPr/>
        </p:nvCxnSpPr>
        <p:spPr>
          <a:xfrm flipH="1">
            <a:off x="3563280" y="1267920"/>
            <a:ext cx="216108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12 Conector recto de flecha"/>
          <p:cNvCxnSpPr/>
          <p:nvPr/>
        </p:nvCxnSpPr>
        <p:spPr>
          <a:xfrm flipH="1">
            <a:off x="3851280" y="6453000"/>
            <a:ext cx="216108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2" name="13 Conector recto de flecha"/>
          <p:cNvCxnSpPr/>
          <p:nvPr/>
        </p:nvCxnSpPr>
        <p:spPr>
          <a:xfrm flipH="1">
            <a:off x="3635280" y="1483920"/>
            <a:ext cx="216108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3" name="14 Cerrar llave"/>
          <p:cNvSpPr/>
          <p:nvPr/>
        </p:nvSpPr>
        <p:spPr>
          <a:xfrm>
            <a:off x="4716360" y="1700280"/>
            <a:ext cx="432000" cy="4537080"/>
          </a:xfrm>
          <a:custGeom>
            <a:avLst/>
            <a:gdLst>
              <a:gd name="textAreaLeft" fmla="*/ 0 w 432000"/>
              <a:gd name="textAreaRight" fmla="*/ 155880 w 432000"/>
              <a:gd name="textAreaTop" fmla="*/ 0 h 4537080"/>
              <a:gd name="textAreaBottom" fmla="*/ 4537440 h 453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800"/>
                </a:lnTo>
                <a:cubicBezTo>
                  <a:pt x="10800" y="10800"/>
                  <a:pt x="16200" y="10800"/>
                  <a:pt x="21600" y="10800"/>
                </a:cubicBezTo>
                <a:cubicBezTo>
                  <a:pt x="16200" y="10800"/>
                  <a:pt x="10800" y="10800"/>
                  <a:pt x="10800" y="10800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15 CuadroTexto"/>
          <p:cNvSpPr/>
          <p:nvPr/>
        </p:nvSpPr>
        <p:spPr>
          <a:xfrm>
            <a:off x="5292720" y="378936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15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C835D-4C33-4281-98BA-F8F83A7F3F37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xtensió del text (RDA 3.4.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Un volum sol amb les pàgines, els fulls o les columnes numerats 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(RDA 3.4.5.2)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Un volum sol amb les pàgines, els fulls o les columnes no numerats 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(RDA 3.4.5.3)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74304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RDA dóna tres opcions, </a:t>
            </a: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per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alibri"/>
              </a:rPr>
              <a:t>Concreció 3.4.5.3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En general s’aplica el mètode c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volum (no paginat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Paginació, etc., complexa o irregular 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(RDA 3.4.5.8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RDA dóna tres opcions, </a:t>
            </a: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però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alibri"/>
              </a:rPr>
              <a:t>Concreció 3.4.5.8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En general s’aplica el mètode c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volum (paginació múltipl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D3958-571D-4381-8F34-CE1FCC231B30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Exemp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246 pàgines, 32 pàgines de làmin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246 pàgines, 32 pàgines de làmines no numerad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504 pàgines, aproximadament 500 pàgines de làmin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i="1" lang="ca-E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(Comentari: estimació de làmines no numerades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33 fulls, 31 fulls no numera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3 volums (XX, 800 pàgin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329, és a dir, 392 pàgine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i="1" lang="ca-E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(Comentari: hi ha un error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22 fulls plega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F2510-B54F-4D59-B129-7BE9AE4247D4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Canvis 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relacionats amb l'extensi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No fer servir abreviatures  (Ex., "pàgines", "volums", </a:t>
            </a:r>
            <a:r>
              <a:rPr b="0" i="1" lang="ca-ES" sz="3000" spc="-1" strike="noStrike">
                <a:solidFill>
                  <a:srgbClr val="000000"/>
                </a:solidFill>
                <a:latin typeface="Calibri"/>
              </a:rPr>
              <a:t>no</a:t>
            </a: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 "p.", "vol.", "v."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Utilitzar "aproximadament" (en lloc de "ca.") i "és a dir" (en lloc de"i.e."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Utilitzar "pàgines no numerades"/ "fulls no numerats" en lloc de donar els números entre claudàtor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Cal anar amb compte amb els canvis dels termes per a certs tipus de materials (ex., "partitura guió" s'usa tant, per a la "partitura guió" com per a la "partitura reduïda"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06742-9B4B-4B4F-BCBE-4950C2ECE386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Dimensions (RDA 3.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ELEMENT BÀSIC PER A LA BC I EL CCUC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a-ES" sz="2700" spc="-1" strike="noStrike">
                <a:solidFill>
                  <a:srgbClr val="000000"/>
                </a:solidFill>
                <a:latin typeface="Calibri"/>
              </a:rPr>
              <a:t>Excepte en el cas de publicacions en sèrie i recursos en línia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Abast = "mesures del suport físic o dels suports físics i/o del contenidor d’un recurs"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Les dimensions inclouen les mesures d’alçada, amplada, profunditat, llargada, format i diàmetre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Enregistreu les dimensions en centímetres arrodonits al centímetre superior i useu el </a:t>
            </a:r>
            <a:r>
              <a:rPr b="0" lang="ca-ES" sz="2700" spc="-1" strike="noStrike" u="sng">
                <a:solidFill>
                  <a:srgbClr val="000000"/>
                </a:solidFill>
                <a:uFillTx/>
                <a:latin typeface="Calibri"/>
              </a:rPr>
              <a:t>símbo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l mètric "</a:t>
            </a:r>
            <a:r>
              <a:rPr b="0" i="1" lang="ca-ES" sz="2700" spc="-1" strike="noStrike">
                <a:solidFill>
                  <a:srgbClr val="000000"/>
                </a:solidFill>
                <a:latin typeface="Calibri"/>
              </a:rPr>
              <a:t>cm" (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no és una abreviatura), o </a:t>
            </a:r>
            <a:r>
              <a:rPr b="0" i="1" lang="ca-ES" sz="2700" spc="-1" strike="noStrike">
                <a:solidFill>
                  <a:srgbClr val="000000"/>
                </a:solidFill>
                <a:latin typeface="Calibri"/>
              </a:rPr>
              <a:t>"mm" 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segons el tipus de recurs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MARC 300 $c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0C7BB-0678-40DA-B2A5-3C9AFF782D6B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xemples: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MARC 300 $a, 336-337-33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Llibre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23 pàgines, 28 pàgines no numerade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MS PGothic"/>
              </a:rPr>
              <a:t>336 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text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txt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MS PGothic"/>
              </a:rPr>
              <a:t>337 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sense mediació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n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MS PGothic"/>
              </a:rPr>
              <a:t>338 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MS PGothic"/>
              </a:rPr>
              <a:t>$</a:t>
            </a:r>
            <a:r>
              <a:rPr b="1" lang="it-IT" sz="2500" spc="-1" strike="noStrike">
                <a:solidFill>
                  <a:srgbClr val="000000"/>
                </a:solidFill>
                <a:latin typeface="Courier New"/>
                <a:ea typeface="MS PGothic"/>
              </a:rPr>
              <a:t>a</a:t>
            </a:r>
            <a:r>
              <a:rPr b="1" lang="it-IT" sz="2500" spc="-1" strike="noStrike">
                <a:solidFill>
                  <a:srgbClr val="376092"/>
                </a:solidFill>
                <a:latin typeface="Courier New"/>
                <a:ea typeface="MS PGothic"/>
              </a:rPr>
              <a:t>volum</a:t>
            </a:r>
            <a:r>
              <a:rPr b="1" lang="it-IT" sz="2500" spc="-1" strike="noStrike">
                <a:solidFill>
                  <a:srgbClr val="000000"/>
                </a:solidFill>
                <a:latin typeface="Courier New"/>
                <a:ea typeface="MS PGothic"/>
              </a:rPr>
              <a:t>$b</a:t>
            </a:r>
            <a:r>
              <a:rPr b="1" lang="it-IT" sz="2500" spc="-1" strike="noStrike">
                <a:solidFill>
                  <a:srgbClr val="376092"/>
                </a:solidFill>
                <a:latin typeface="Courier New"/>
                <a:ea typeface="MS PGothic"/>
              </a:rPr>
              <a:t>nc</a:t>
            </a:r>
            <a:r>
              <a:rPr b="1" lang="it-IT" sz="2500" spc="-1" strike="noStrike">
                <a:solidFill>
                  <a:srgbClr val="000000"/>
                </a:solidFill>
                <a:latin typeface="Courier New"/>
                <a:ea typeface="MS PGothic"/>
              </a:rPr>
              <a:t>$2</a:t>
            </a:r>
            <a:r>
              <a:rPr b="1" lang="it-IT" sz="2500" spc="-1" strike="noStrike">
                <a:solidFill>
                  <a:srgbClr val="376092"/>
                </a:solidFill>
                <a:latin typeface="Courier New"/>
                <a:ea typeface="MS PGothic"/>
              </a:rPr>
              <a:t>rdacarrie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CD de música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disc àudio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MS PGothic"/>
              </a:rPr>
              <a:t>336 ## </a:t>
            </a:r>
            <a:r>
              <a:rPr b="1" lang="pt-BR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pt-BR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música executada</a:t>
            </a:r>
            <a:r>
              <a:rPr b="1" lang="pt-BR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pt-BR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prm</a:t>
            </a:r>
            <a:r>
              <a:rPr b="1" lang="pt-BR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pt-BR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MS PGothic"/>
              </a:rPr>
              <a:t>337 ## </a:t>
            </a:r>
            <a:r>
              <a:rPr b="1" lang="pt-BR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pt-BR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àudio</a:t>
            </a:r>
            <a:r>
              <a:rPr b="1" lang="pt-BR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pt-BR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s</a:t>
            </a:r>
            <a:r>
              <a:rPr b="1" lang="pt-BR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pt-BR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MS PGothic"/>
              </a:rPr>
              <a:t>338 ## </a:t>
            </a:r>
            <a:r>
              <a:rPr b="1" lang="pt-BR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it-IT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it-IT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disc àudio</a:t>
            </a:r>
            <a:r>
              <a:rPr b="1" lang="it-IT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it-IT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sd</a:t>
            </a:r>
            <a:r>
              <a:rPr b="1" lang="it-IT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it-IT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arrie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FFEE4-D5CB-4B59-8D45-0356E4E503A0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Capítol 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376092"/>
                </a:solidFill>
                <a:latin typeface="Calibri"/>
              </a:rPr>
              <a:t>Descripció dels suports fís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376092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C0224-740B-4F82-A134-2C670DA84CEC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xemples: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MARC 300 $a, 336-337-33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68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DVD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videodisc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6 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imatge en moviment bidimensional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tdi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7 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vídeo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v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8 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videodisc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vd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arrie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PDF en línia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recurs en línia (39 pàgines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6 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text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txt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7 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informàtic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c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8 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ecurs en línia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cr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arrie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4E44C-E627-4ECE-8178-510330FAAA50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xemples: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MARC 300 $a, 336-337-33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Partitura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partitura (23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pàgines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6 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música notada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ntm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7 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sense mediació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n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8 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volum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nc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arrie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Mapa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6 mapes en 1 ful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6 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imatge cartogràfica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cri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 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7 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sense mediació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n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8 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full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nb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arrie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44112-4209-4368-B14C-EE722494096C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xemples: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MARC 300 $a, 336-337-33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Lloc Web amb text, mapes i fotografies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recurs en líni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6 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text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txt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6</a:t>
            </a:r>
            <a:r>
              <a:rPr b="0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 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imatge cartogràfica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cri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6 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imatge fixa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sti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7 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informàtic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c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8 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ecurs en línia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cr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arrie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911ED-6136-4EC0-9450-45E281E00882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xemples: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MARC 300 $a, 336-337-33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94920" y="1699920"/>
            <a:ext cx="8435880" cy="41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libre acompanyat d'un CD no musical (xerrada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244 pàgines 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r>
              <a:rPr b="0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 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+$e1 C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336 ## 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3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llibre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text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txt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336 ## 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3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CD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paraula parlada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spw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337 ## 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3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llibre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sense mediació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n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337 ## 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3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CD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àudio</a:t>
            </a:r>
            <a:r>
              <a:rPr b="1" lang="pt-BR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pt-BR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s</a:t>
            </a:r>
            <a:r>
              <a:rPr b="1" lang="pt-BR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pt-BR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338 ## 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3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llibre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volum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bnc$2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arri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338 ## 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3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CD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disc àudio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0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 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arri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(comentari: L'ús de $3 és opcional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523F7-5992-4911-8A80-0E28BEC1E21B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xemples: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MARC 300 $a, 336-337-33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68360" y="1844280"/>
            <a:ext cx="8229600" cy="36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ol·lecció de fotografies (recull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apçalera/06 = </a:t>
            </a:r>
            <a:r>
              <a:rPr b="1" i="1" lang="es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k</a:t>
            </a:r>
            <a:r>
              <a:rPr b="1" i="1" lang="es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capçalera/07 = </a:t>
            </a:r>
            <a:r>
              <a:rPr b="1" i="1" lang="es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68 fotograf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336 ## </a:t>
            </a:r>
            <a:r>
              <a:rPr b="1" lang="ca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imatge fixa</a:t>
            </a:r>
            <a:r>
              <a:rPr b="1" lang="ca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sti</a:t>
            </a:r>
            <a:r>
              <a:rPr b="1" lang="ca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337 ## </a:t>
            </a:r>
            <a:r>
              <a:rPr b="1" lang="ca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sense mediació</a:t>
            </a:r>
            <a:r>
              <a:rPr b="1" lang="ca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n</a:t>
            </a:r>
            <a:r>
              <a:rPr b="1" lang="ca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338 ## </a:t>
            </a:r>
            <a:r>
              <a:rPr b="1" lang="ca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full</a:t>
            </a:r>
            <a:r>
              <a:rPr b="1" lang="ca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nb</a:t>
            </a:r>
            <a:r>
              <a:rPr b="1" lang="ca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arri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E123C-62C0-4F59-8574-DE984CE055C1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ltres característiques del suport fís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23640" y="1341360"/>
            <a:ext cx="3600360" cy="4608720"/>
          </a:xfrm>
          <a:prstGeom prst="rect">
            <a:avLst/>
          </a:prstGeom>
          <a:noFill/>
          <a:ln w="9360">
            <a:solidFill>
              <a:srgbClr val="c6d9f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3.6: Material de base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300 $b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3.7: Material aplicat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300 $b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3.8: Muntura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300 $b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3.9: Mètode de producció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300 $b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3.10: Generació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50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3.11: Disposició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300 $b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3.12: Format de llibre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300 $c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3.13: Mida de la font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300 $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3.14: Polaritat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300 $b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3.15: Escala de reducció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300 $b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067280" y="1341000"/>
            <a:ext cx="4619520" cy="4535640"/>
          </a:xfrm>
          <a:prstGeom prst="rect">
            <a:avLst/>
          </a:prstGeom>
          <a:noFill/>
          <a:ln w="9360">
            <a:solidFill>
              <a:srgbClr val="c6d9f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3.16: Característica del so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344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3.17: Característica de projecció d’una pel·lícula cinematogràfica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300 $b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3.18: Característica vídeo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346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3.19: Característica del fitxer digital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347,</a:t>
            </a: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352</a:t>
            </a: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3.20: Equipament o sistema requerit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538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3.21: Nota sobre el suport físic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50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E0577-81CD-4363-983E-235C5EE7204A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Nous camps MAR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Característica del so (MARC 344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$a: Tipus de d’enregistrament - 3.16.2.3 = </a:t>
            </a:r>
            <a:r>
              <a:rPr b="0" lang="ca-ES" sz="2200" spc="-1" strike="noStrike">
                <a:solidFill>
                  <a:srgbClr val="376092"/>
                </a:solidFill>
                <a:latin typeface="Calibri"/>
              </a:rPr>
              <a:t>analògic, digital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$b: Suport d’enregistrament - 3.16.3.3 = </a:t>
            </a:r>
            <a:r>
              <a:rPr b="0" lang="ca-ES" sz="2200" spc="-1" strike="noStrike">
                <a:solidFill>
                  <a:srgbClr val="376092"/>
                </a:solidFill>
                <a:latin typeface="Calibri"/>
              </a:rPr>
              <a:t>magnètic, magnetoòptic, òptic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$c: Velocitat de reproducció - 3.16.4.3 = </a:t>
            </a:r>
            <a:r>
              <a:rPr b="0" i="1" lang="ca-ES" sz="2200" spc="-1" strike="noStrike">
                <a:solidFill>
                  <a:srgbClr val="376092"/>
                </a:solidFill>
                <a:latin typeface="Calibri"/>
              </a:rPr>
              <a:t>rpm,  m/s, cm/s, fp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$d: Característiques del solc - 3.16.5.3 = </a:t>
            </a:r>
            <a:r>
              <a:rPr b="0" lang="ca-ES" sz="2200" spc="-1" strike="noStrike">
                <a:solidFill>
                  <a:srgbClr val="376092"/>
                </a:solidFill>
                <a:latin typeface="Calibri"/>
              </a:rPr>
              <a:t>microsolc, solc gruixut, fi, estàndard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$e: Configuració de la pista - 3.16.6.3 = </a:t>
            </a:r>
            <a:r>
              <a:rPr b="0" lang="ca-ES" sz="2200" spc="-1" strike="noStrike">
                <a:solidFill>
                  <a:srgbClr val="376092"/>
                </a:solidFill>
                <a:latin typeface="Calibri"/>
              </a:rPr>
              <a:t>pista central, pista lateral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$f: Configuració de la cinta - 3.16.7.3 = </a:t>
            </a:r>
            <a:r>
              <a:rPr b="0" i="1" lang="ca-ES" sz="2200" spc="-1" strike="noStrike">
                <a:solidFill>
                  <a:srgbClr val="376092"/>
                </a:solidFill>
                <a:latin typeface="Calibri"/>
              </a:rPr>
              <a:t>(nombre de pistes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$g: Configuració dels canals de reproducció - 3.16.8.3 =  </a:t>
            </a:r>
            <a:r>
              <a:rPr b="0" lang="ca-ES" sz="2200" spc="-1" strike="noStrike">
                <a:solidFill>
                  <a:srgbClr val="376092"/>
                </a:solidFill>
                <a:latin typeface="Calibri"/>
              </a:rPr>
              <a:t>mono, estèreo, quadrifònic, so envoltan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$h: Característica especial de reproducció - 3.16.9.3 = </a:t>
            </a:r>
            <a:r>
              <a:rPr b="0" lang="ca-ES" sz="2200" spc="-1" strike="noStrike">
                <a:solidFill>
                  <a:srgbClr val="376092"/>
                </a:solidFill>
                <a:latin typeface="Calibri"/>
              </a:rPr>
              <a:t>codificació CX, Dolby, LPCM, etc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DC040-DBBD-443C-A891-978457EEC296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Nous camps MARC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Característica vídeo (MARC 346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$a: Format vídeo (</a:t>
            </a:r>
            <a:r>
              <a:rPr b="0" i="1" lang="ca-ES" sz="2800" spc="-1" strike="noStrike">
                <a:solidFill>
                  <a:srgbClr val="000000"/>
                </a:solidFill>
                <a:latin typeface="Calibri"/>
              </a:rPr>
              <a:t>només analògic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) - 3.18.2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37609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76092"/>
                </a:solidFill>
                <a:latin typeface="Calibri"/>
              </a:rPr>
              <a:t>Beta, U-matic, VHS, etc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$b: Estàndard d’emissió (</a:t>
            </a:r>
            <a:r>
              <a:rPr b="0" i="1" lang="ca-ES" sz="2800" spc="-1" strike="noStrike">
                <a:solidFill>
                  <a:srgbClr val="000000"/>
                </a:solidFill>
                <a:latin typeface="Calibri"/>
              </a:rPr>
              <a:t>per televisió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) - 3.18.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37609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76092"/>
                </a:solidFill>
                <a:latin typeface="Calibri"/>
              </a:rPr>
              <a:t>HDTV, NTSC, PAL, SEC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E326E-03B0-4894-B5DB-83E61434781A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ltres característiq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Fitxer digital (MARC 347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$a: Tipus de fitxer - 3.19.2 = </a:t>
            </a:r>
            <a:r>
              <a:rPr b="0" lang="ca-ES" sz="2800" spc="-1" strike="noStrike">
                <a:solidFill>
                  <a:srgbClr val="376092"/>
                </a:solidFill>
                <a:latin typeface="Calibri"/>
              </a:rPr>
              <a:t>fitxer àudio, fitxer de vídeo, fitxer d’imatges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$b: Format de codificació - 3.19.3 = </a:t>
            </a:r>
            <a:r>
              <a:rPr b="0" lang="ca-ES" sz="2800" spc="-1" strike="noStrike">
                <a:solidFill>
                  <a:srgbClr val="376092"/>
                </a:solidFill>
                <a:latin typeface="Calibri"/>
              </a:rPr>
              <a:t>CD àudio, DVD vídeo, JPEG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$c: Mida del fitxer - 3.19.4 = </a:t>
            </a:r>
            <a:r>
              <a:rPr b="0" lang="ca-ES" sz="2800" spc="-1" strike="noStrike">
                <a:solidFill>
                  <a:srgbClr val="376092"/>
                </a:solidFill>
                <a:latin typeface="Calibri"/>
              </a:rPr>
              <a:t>KB, </a:t>
            </a:r>
            <a:r>
              <a:rPr b="0" lang="pt-BR" sz="2800" spc="-1" strike="noStrike">
                <a:solidFill>
                  <a:srgbClr val="376092"/>
                </a:solidFill>
                <a:latin typeface="Calibri"/>
              </a:rPr>
              <a:t>MB, GB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$d: Resolució - 3.19.5 =</a:t>
            </a:r>
            <a:r>
              <a:rPr b="0" lang="ca-ES" sz="2800" spc="-1" strike="noStrike">
                <a:solidFill>
                  <a:srgbClr val="376092"/>
                </a:solidFill>
                <a:latin typeface="Calibri"/>
              </a:rPr>
              <a:t> píxel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$e: Codi de regió - 3.19.6 = </a:t>
            </a:r>
            <a:r>
              <a:rPr b="0" lang="ca-ES" sz="2800" spc="-1" strike="noStrike">
                <a:solidFill>
                  <a:srgbClr val="376092"/>
                </a:solidFill>
                <a:latin typeface="Calibri"/>
              </a:rPr>
              <a:t>regió 4, totes les regions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$f: Velocitat de transmissió - 3.19.7 </a:t>
            </a:r>
            <a:r>
              <a:rPr b="0" lang="ca-ES" sz="2800" spc="-1" strike="noStrike">
                <a:solidFill>
                  <a:srgbClr val="376092"/>
                </a:solidFill>
                <a:latin typeface="Calibri"/>
              </a:rPr>
              <a:t>= kb/s, Mb/s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4C45E-33C8-41D0-A463-AE2D396DC798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Exemp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24000" y="907920"/>
            <a:ext cx="8434080" cy="144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C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4 discs àudio (aproximadament 16 h) ;$c12 c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44 ##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digital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òptic$2rd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47 ##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fitxer àudio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CD àudio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rd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EAB79-D607-4A01-B5CD-800E06BDB2BB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2 Marcador de contenido"/>
          <p:cNvSpPr/>
          <p:nvPr/>
        </p:nvSpPr>
        <p:spPr>
          <a:xfrm>
            <a:off x="324000" y="2565360"/>
            <a:ext cx="8434080" cy="144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DVD àud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disc àudio ;$c12 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44 ##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digital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g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estèreo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g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so envoltant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r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47 ##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fitxer àudio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DVD àudio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r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2 Marcador de contenido"/>
          <p:cNvSpPr/>
          <p:nvPr/>
        </p:nvSpPr>
        <p:spPr>
          <a:xfrm>
            <a:off x="324000" y="4221000"/>
            <a:ext cx="8434080" cy="107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asset àud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casset àudio ;$c12 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44 ##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analògic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g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estèreo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h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codificació Dolby-B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rd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2 Marcador de contenido"/>
          <p:cNvSpPr/>
          <p:nvPr/>
        </p:nvSpPr>
        <p:spPr>
          <a:xfrm>
            <a:off x="324000" y="5489640"/>
            <a:ext cx="8434080" cy="110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is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disc àudio ;$c30 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44 ##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analògic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c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3 1/3 rpm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g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estèreo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rd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Substitució de la designació general de material (DGM)-245 $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Tres nous camps MARC , desenvolupats amb la comunitat d’editors ONIX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 </a:t>
            </a:r>
            <a:r>
              <a:rPr b="1" lang="ca-ES" sz="2800" spc="-1" strike="noStrike">
                <a:solidFill>
                  <a:srgbClr val="376092"/>
                </a:solidFill>
                <a:latin typeface="Calibri"/>
              </a:rPr>
              <a:t>336 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Tipus de contingut (RDA </a:t>
            </a:r>
            <a:r>
              <a:rPr b="0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6.9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 </a:t>
            </a:r>
            <a:r>
              <a:rPr b="1" lang="ca-ES" sz="2800" spc="-1" strike="noStrike">
                <a:solidFill>
                  <a:srgbClr val="376092"/>
                </a:solidFill>
                <a:latin typeface="Calibri"/>
              </a:rPr>
              <a:t>337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 Tipus de suport (RDA 3.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 </a:t>
            </a:r>
            <a:r>
              <a:rPr b="1" lang="ca-ES" sz="2800" spc="-1" strike="noStrike">
                <a:solidFill>
                  <a:srgbClr val="376092"/>
                </a:solidFill>
                <a:latin typeface="Calibri"/>
              </a:rPr>
              <a:t>338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 Tipus de suport físic (RDA 3.3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D00E4-1C24-4FC9-8176-9CCA8FF2B728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xemp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D01EF-6559-4E5F-960A-C411B5AC6C21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2 Marcador de contenido"/>
          <p:cNvSpPr/>
          <p:nvPr/>
        </p:nvSpPr>
        <p:spPr>
          <a:xfrm>
            <a:off x="324000" y="1341360"/>
            <a:ext cx="8434080" cy="15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V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videocasset (77 min) :$bblanc i negre, 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44 ##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analògic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magnètic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r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46 ##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VHS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PAL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r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2 Marcador de contenido"/>
          <p:cNvSpPr/>
          <p:nvPr/>
        </p:nvSpPr>
        <p:spPr>
          <a:xfrm>
            <a:off x="324000" y="3284640"/>
            <a:ext cx="8434080" cy="187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DVD víde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videodisc (100 min) :$bcolor, so ;$c 12 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44 </a:t>
            </a: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##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digital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òptic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g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so envoltant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h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Dolby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rd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46 </a:t>
            </a: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##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NTSC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r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47 </a:t>
            </a: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##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fitxer vídeo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DVD vídeo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e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regió 1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r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ltres característiques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Recursos cartogràf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539640" y="155736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2 ELEMENTS BÀSICS PER A LA BC I EL CCU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61800" indent="-361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Disposició - RDA 3.11 (MARC 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300 $b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61800" indent="-361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2 mapes en 1 full :$bcara i car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61800" indent="-361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Característica del fitxer digital - RDA 3.19.8       (MARC 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352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A6B0F-FCCD-4A5B-897A-4E7107C00D8B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2 Marcador de contenido"/>
          <p:cNvSpPr/>
          <p:nvPr/>
        </p:nvSpPr>
        <p:spPr>
          <a:xfrm>
            <a:off x="611280" y="4005360"/>
            <a:ext cx="8136000" cy="165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 mapa: imatge digital en lí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recurs en línia (1 mapa) :$bco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47 ## </a:t>
            </a:r>
            <a:r>
              <a:rPr b="1" lang="en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fitxer d’imatges</a:t>
            </a:r>
            <a:r>
              <a:rPr b="1" lang="en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en-CA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JPEG</a:t>
            </a:r>
            <a:r>
              <a:rPr b="1" lang="en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c</a:t>
            </a:r>
            <a:r>
              <a:rPr b="1" lang="en-CA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7.413 KB</a:t>
            </a:r>
            <a:r>
              <a:rPr b="1" lang="en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en-CA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r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52 ## </a:t>
            </a:r>
            <a:r>
              <a:rPr b="1" lang="en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en-CA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Trama :</a:t>
            </a:r>
            <a:r>
              <a:rPr b="1" lang="en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en-CA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píxel</a:t>
            </a:r>
            <a:r>
              <a:rPr b="1" lang="en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d</a:t>
            </a:r>
            <a:r>
              <a:rPr b="1" lang="en-CA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(5.381 x</a:t>
            </a:r>
            <a:r>
              <a:rPr b="1" lang="en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e</a:t>
            </a:r>
            <a:r>
              <a:rPr b="1" lang="en-CA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 6.105) ;</a:t>
            </a:r>
            <a:r>
              <a:rPr b="1" lang="en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q</a:t>
            </a:r>
            <a:r>
              <a:rPr b="1" lang="en-CA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JPE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9689E-F744-4E09-9898-1C038AFB1045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Capítol 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376092"/>
                </a:solidFill>
                <a:latin typeface="Calibri"/>
              </a:rPr>
              <a:t>Informació relativa a l’adquisició i a l’accé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Restriccions d'accés (RDA 4.4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ELEMENT BÀSIC PER A LA BC I EL CCUC </a:t>
            </a:r>
            <a:r>
              <a:rPr b="0" i="1" lang="ca-ES" sz="2700" spc="-1" strike="noStrike">
                <a:solidFill>
                  <a:srgbClr val="000000"/>
                </a:solidFill>
                <a:latin typeface="Calibri"/>
              </a:rPr>
              <a:t>per a materials d'arxiu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Abast = "són les limitacions imposades sobre l’accés a un recurs."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Enregistreu totes les restriccions d'accés al recurs, incloent la naturalesa i durada de la restricció, en la forma més específica que sigui possible. També es pot indicar l'absència de restriccions si es considera important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MARC 506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fr-FR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506 ##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$aAccés restringit:$ces requereix permís escrit del dona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42D25-A76F-4F29-8658-2AE618CBE315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Restriccions d'ús (RDA 4.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ELEMENT BÀSIC PER A LA BC </a:t>
            </a:r>
            <a:r>
              <a:rPr b="0" i="1" lang="ca-ES" sz="2700" spc="-1" strike="noStrike">
                <a:solidFill>
                  <a:srgbClr val="000000"/>
                </a:solidFill>
                <a:latin typeface="Calibri"/>
              </a:rPr>
              <a:t>per a materials d'arxiu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Abast = "són les limitacions imposades sobre l'ús d'un recurs."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Enregistreu totes les restriccions d'ús al recurs, incloent la naturalesa i durada de la restricció, en la forma més específica que sigui possible. També es pot indicar l'absència de restriccions si es considera important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MARC 540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540 ## $aRestringit: reproducció permesa només a organitzacions sense ànim de lucr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B5D12-672F-4AF1-AB6D-DC09A5A332EE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dreça URL (RDA 4.6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68360" y="1267920"/>
            <a:ext cx="8229600" cy="471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ELEMENT BÀSIC PER A LA BC I EL CCU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Abast= "és l’adreça d’un recurs d’accés remot"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Font: obtingueu la informació de qualsevol fon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85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800" spc="-1" strike="noStrike">
                <a:solidFill>
                  <a:srgbClr val="000000"/>
                </a:solidFill>
                <a:latin typeface="Calibri"/>
              </a:rPr>
              <a:t>Concreció 4.6.1.3.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 Si hi ha més d'una URL per al recurs, enregistreu-les totes. S’informen, quan sigui apropiat, els subcamps: $3, $z, $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 856 42 </a:t>
            </a:r>
            <a:r>
              <a:rPr b="1" lang="ca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$3</a:t>
            </a: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Sumari</a:t>
            </a:r>
            <a:r>
              <a:rPr b="1" lang="ca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$u</a:t>
            </a: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http://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178BF-33CF-4408-BDEF-E7011FDE3459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URL: restriccions i accés ($z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n cas que el recurs o una de les URL's tingui un accés restringit indiqueu-ho en un $z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856 40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z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Accés restringit als usuaris de la [institució/s]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u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http://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n cas que la URL no sigui accessible per IP i es necessiti usuari i/o contrasenya, etc., afegiu les indicacions apropiad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856 40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z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Accés restringit als usuaris de la [institució/s]. Cal codi d'usuari i contrasenya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u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http://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n cas que el recurs sigui d'accés lliure, indiqueu-ho en un subcamp $z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856 40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z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Accés lliure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u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http:// ..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C4540-8F5C-4405-964F-302E39BD6231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Canvis que requereixen l’addició, la revisió o l’eliminació d’una adreça URL (RDA 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4.6.1.4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3000" spc="-1" strike="noStrike">
                <a:solidFill>
                  <a:srgbClr val="000000"/>
                </a:solidFill>
                <a:latin typeface="Calibri"/>
              </a:rPr>
              <a:t>Concreció 4.6.1.4</a:t>
            </a: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 mostra la pràctica de la BC per a recursos que pertanyen a la </a:t>
            </a:r>
            <a:r>
              <a:rPr b="0" i="1" lang="ca-ES" sz="3000" spc="-1" strike="noStrike">
                <a:solidFill>
                  <a:srgbClr val="000000"/>
                </a:solidFill>
                <a:latin typeface="Calibri"/>
              </a:rPr>
              <a:t>Bibliografia nacional de Catalunya</a:t>
            </a: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 i la URL ja no està activa. Es cerca a Internet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Si es troba l'adreça, s'actualitza al registr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Si no es troba i es considera important de mantenir el recurs a la </a:t>
            </a:r>
            <a:r>
              <a:rPr b="0" i="1" lang="ca-ES" sz="2600" spc="-1" strike="noStrike">
                <a:solidFill>
                  <a:srgbClr val="000000"/>
                </a:solidFill>
                <a:latin typeface="Calibri"/>
              </a:rPr>
              <a:t>BnC, 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s'informa un $z i $x de la següent manera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856 40 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z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Adreça electrònica (http....) no disponible en fer la cerca el 06/03/2015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x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Bibliografia nacional de Cataluny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389D4-9000-4C59-90A9-A5D1F552D6C4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Capítol 7</a:t>
            </a:r>
            <a:br>
              <a:rPr sz="3200"/>
            </a:br>
            <a:r>
              <a:rPr b="1" lang="ca-ES" sz="3200" spc="-1" strike="noStrike">
                <a:solidFill>
                  <a:srgbClr val="376092"/>
                </a:solidFill>
                <a:latin typeface="Calibri"/>
              </a:rPr>
              <a:t>Descripció del conting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182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DFDC8-46B6-47E8-ACDA-B1FED3F3C7D8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Descripció del conting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Aquest capítol proporciona les directrius generals i les instruccions sobre l'enregistrament dels </a:t>
            </a:r>
            <a:r>
              <a:rPr b="0" lang="ca-ES" sz="3200" spc="-1" strike="noStrike" u="sng">
                <a:solidFill>
                  <a:srgbClr val="000000"/>
                </a:solidFill>
                <a:uFillTx/>
                <a:latin typeface="Calibri"/>
              </a:rPr>
              <a:t>atributs de les obres i les expression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s associats amb el contingut intel·lectual o artístic d’un recu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Els elements del capítol 7 s’usen normalment per seleccionar un recurs que satisfaci les necessitats de l’usuari en termes del seu contingut (per exemple, contingut il·lustratiu, sonor, informació sobre la tesi, llengua, etc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6FD42-DC01-4874-9C42-EB00B9F1A494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MARC: 336, 337, 33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50560" y="1341360"/>
            <a:ext cx="88930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Cada camp conté els següents subcamps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336 </a:t>
            </a:r>
            <a:r>
              <a:rPr b="1" lang="ca-ES" sz="2700" spc="-1" strike="noStrike">
                <a:solidFill>
                  <a:srgbClr val="376092"/>
                </a:solidFill>
                <a:latin typeface="Calibri"/>
              </a:rPr>
              <a:t>$a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 terme </a:t>
            </a:r>
            <a:r>
              <a:rPr b="1" lang="ca-ES" sz="2700" spc="-1" strike="noStrike">
                <a:solidFill>
                  <a:srgbClr val="376092"/>
                </a:solidFill>
                <a:latin typeface="Calibri"/>
              </a:rPr>
              <a:t>$b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 codi </a:t>
            </a:r>
            <a:r>
              <a:rPr b="1" lang="ca-ES" sz="2700" spc="-1" strike="noStrike">
                <a:solidFill>
                  <a:srgbClr val="376092"/>
                </a:solidFill>
                <a:latin typeface="Calibri"/>
              </a:rPr>
              <a:t>$2 rdacontent </a:t>
            </a:r>
            <a:r>
              <a:rPr b="0" i="1" lang="ca-ES" sz="2700" spc="-1" strike="noStrike">
                <a:solidFill>
                  <a:srgbClr val="000000"/>
                </a:solidFill>
                <a:latin typeface="Calibri"/>
              </a:rPr>
              <a:t>[= Capçalera/06]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337 </a:t>
            </a:r>
            <a:r>
              <a:rPr b="1" lang="ca-ES" sz="2700" spc="-1" strike="noStrike">
                <a:solidFill>
                  <a:srgbClr val="376092"/>
                </a:solidFill>
                <a:latin typeface="Calibri"/>
              </a:rPr>
              <a:t>$a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 terme </a:t>
            </a:r>
            <a:r>
              <a:rPr b="1" lang="ca-ES" sz="2700" spc="-1" strike="noStrike">
                <a:solidFill>
                  <a:srgbClr val="376092"/>
                </a:solidFill>
                <a:latin typeface="Calibri"/>
              </a:rPr>
              <a:t>$b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 codi </a:t>
            </a:r>
            <a:r>
              <a:rPr b="1" lang="ca-ES" sz="2700" spc="-1" strike="noStrike">
                <a:solidFill>
                  <a:srgbClr val="376092"/>
                </a:solidFill>
                <a:latin typeface="Calibri"/>
              </a:rPr>
              <a:t>$2 rdamedi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338 </a:t>
            </a:r>
            <a:r>
              <a:rPr b="1" lang="ca-ES" sz="2700" spc="-1" strike="noStrike">
                <a:solidFill>
                  <a:srgbClr val="376092"/>
                </a:solidFill>
                <a:latin typeface="Calibri"/>
              </a:rPr>
              <a:t>$a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 terme </a:t>
            </a:r>
            <a:r>
              <a:rPr b="1" lang="ca-ES" sz="2700" spc="-1" strike="noStrike">
                <a:solidFill>
                  <a:srgbClr val="376092"/>
                </a:solidFill>
                <a:latin typeface="Calibri"/>
              </a:rPr>
              <a:t>$b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 codi </a:t>
            </a:r>
            <a:r>
              <a:rPr b="1" lang="ca-ES" sz="2700" spc="-1" strike="noStrike">
                <a:solidFill>
                  <a:srgbClr val="376092"/>
                </a:solidFill>
                <a:latin typeface="Calibri"/>
              </a:rPr>
              <a:t>$2 rdacarrier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Llista de termes i codis per als tipus de contingut d'RD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Llista de termes i codis per als tipus de suport d'RD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Llista de termes i codis per als tipus de suports físics d'RD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ca-ES" sz="17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ca-ES" sz="2000" spc="-1" strike="noStrike">
                <a:solidFill>
                  <a:srgbClr val="000000"/>
                </a:solidFill>
                <a:latin typeface="Calibri"/>
              </a:rPr>
              <a:t>Els codis del $2 són enregistrats i validats per MARC 21, no s'han de traduir mai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6A6E2-F3EA-45A1-9B61-0A5AD320E895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RDA divideix els elements de conting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3456000" cy="43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3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Atributs de l'obr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24000" y="1628640"/>
            <a:ext cx="3456000" cy="2952720"/>
          </a:xfrm>
          <a:prstGeom prst="rect">
            <a:avLst/>
          </a:prstGeom>
          <a:noFill/>
          <a:ln w="9360">
            <a:solidFill>
              <a:srgbClr val="1f497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7.2: Natura del contingut</a:t>
            </a:r>
            <a:r>
              <a:rPr b="0" lang="ca-ES" sz="1600" spc="-1" strike="noStrike">
                <a:solidFill>
                  <a:srgbClr val="376092"/>
                </a:solidFill>
                <a:latin typeface="Calibri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7.3: Cobertura del contingut*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7.4: Coordenades d’un contingut cartogràfic </a:t>
            </a:r>
            <a:r>
              <a:rPr b="1" lang="ca-ES" sz="1600" spc="-1" strike="noStrike">
                <a:solidFill>
                  <a:srgbClr val="376092"/>
                </a:solidFill>
                <a:latin typeface="Calibri"/>
              </a:rPr>
              <a:t>255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7.5: Equinocci </a:t>
            </a:r>
            <a:r>
              <a:rPr b="1" lang="ca-ES" sz="1600" spc="-1" strike="noStrike">
                <a:solidFill>
                  <a:srgbClr val="376092"/>
                </a:solidFill>
                <a:latin typeface="Calibri"/>
              </a:rPr>
              <a:t>255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7.6: Època </a:t>
            </a:r>
            <a:r>
              <a:rPr b="1" lang="ca-ES" sz="1600" spc="-1" strike="noStrike">
                <a:solidFill>
                  <a:srgbClr val="376092"/>
                </a:solidFill>
                <a:latin typeface="Calibri"/>
              </a:rPr>
              <a:t>255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7.7: Destinataris previstos </a:t>
            </a:r>
            <a:r>
              <a:rPr b="1" lang="ca-ES" sz="1600" spc="-1" strike="noStrike">
                <a:solidFill>
                  <a:srgbClr val="376092"/>
                </a:solidFill>
                <a:latin typeface="Calibri"/>
              </a:rPr>
              <a:t>521</a:t>
            </a: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7.8: Sistema d’organització </a:t>
            </a:r>
            <a:r>
              <a:rPr b="1" lang="ca-ES" sz="1600" spc="-1" strike="noStrike">
                <a:solidFill>
                  <a:srgbClr val="376092"/>
                </a:solidFill>
                <a:latin typeface="Calibri"/>
              </a:rPr>
              <a:t>35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7.9: Informació sobre la tesi o la memòria </a:t>
            </a:r>
            <a:r>
              <a:rPr b="1" lang="ca-ES" sz="1600" spc="-1" strike="noStrike">
                <a:solidFill>
                  <a:srgbClr val="376092"/>
                </a:solidFill>
                <a:latin typeface="Calibri"/>
              </a:rPr>
              <a:t>50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066920" y="1052280"/>
            <a:ext cx="4041720" cy="45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Atributs de l'expressi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924360" y="1557360"/>
            <a:ext cx="4751280" cy="4464000"/>
          </a:xfrm>
          <a:prstGeom prst="rect">
            <a:avLst/>
          </a:prstGeom>
          <a:noFill/>
          <a:ln w="9360">
            <a:solidFill>
              <a:srgbClr val="1f497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10: Resum del contingut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 52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11: Lloc i data de la captura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033, 518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12: Llengua del contingut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54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13</a:t>
            </a:r>
            <a:r>
              <a:rPr b="0" lang="ca-ES" sz="1300" spc="-1" strike="noStrike">
                <a:solidFill>
                  <a:srgbClr val="00b050"/>
                </a:solidFill>
                <a:latin typeface="Calibri"/>
              </a:rPr>
              <a:t>:</a:t>
            </a: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 Forma de la notació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54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14: Contingut accessible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500, 54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300" spc="-1" strike="noStrike">
                <a:solidFill>
                  <a:srgbClr val="000000"/>
                </a:solidFill>
                <a:latin typeface="Calibri"/>
              </a:rPr>
              <a:t>7.15: Contingut il·lustratiu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300 $b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16: Contingut suplementari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50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300" spc="-1" strike="noStrike">
                <a:solidFill>
                  <a:srgbClr val="000000"/>
                </a:solidFill>
                <a:latin typeface="Calibri"/>
              </a:rPr>
              <a:t>7.17: Contingut de color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300 $b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300" spc="-1" strike="noStrike">
                <a:solidFill>
                  <a:srgbClr val="000000"/>
                </a:solidFill>
                <a:latin typeface="Calibri"/>
              </a:rPr>
              <a:t>7.18: Contingut sonor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300 $b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19: Relació d’aspecte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5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20: Format de la música notada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348, 5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21: Repartiment de l’execució d’un contingut musical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5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300" spc="-1" strike="noStrike">
                <a:solidFill>
                  <a:srgbClr val="000000"/>
                </a:solidFill>
                <a:latin typeface="Calibri"/>
              </a:rPr>
              <a:t>7.22: Durada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300 $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23: Intèrpret, narrador i/o presentador </a:t>
            </a:r>
            <a:r>
              <a:rPr b="1" lang="ca-ES" sz="1300" spc="-1" strike="noStrike">
                <a:solidFill>
                  <a:srgbClr val="376092"/>
                </a:solidFill>
                <a:latin typeface="Calibri"/>
              </a:rPr>
              <a:t>511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24: Crèdit artístic i/o tècnic </a:t>
            </a:r>
            <a:r>
              <a:rPr b="1" lang="ca-ES" sz="1300" spc="-1" strike="noStrike">
                <a:solidFill>
                  <a:srgbClr val="376092"/>
                </a:solidFill>
                <a:latin typeface="Calibri"/>
              </a:rPr>
              <a:t>508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25: Escala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25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26: Projecció del contingut cartogràfic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25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27: Altres particularitats del contingut cartogràfic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5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28: Premis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58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29: Nota sobre l’expressió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5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6 CuadroTexto"/>
          <p:cNvSpPr/>
          <p:nvPr/>
        </p:nvSpPr>
        <p:spPr>
          <a:xfrm>
            <a:off x="1258920" y="4581360"/>
            <a:ext cx="252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600" spc="-1" strike="noStrike">
                <a:solidFill>
                  <a:srgbClr val="376092"/>
                </a:solidFill>
                <a:latin typeface="Calibri"/>
              </a:rPr>
              <a:t>*diversos cam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8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15D3C-5ADA-4390-8295-A6963A16A2B5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MARC - Descripció del conting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000" spc="-1" strike="noStrike">
                <a:solidFill>
                  <a:srgbClr val="000000"/>
                </a:solidFill>
                <a:latin typeface="Calibri"/>
              </a:rPr>
              <a:t>MARC 30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En aquest camp s'han d'enregistrar elements que estan relacionats amb el contingut de les obres i les expressions. És per aquest motiu que es troben en el capítol 7 RDA i no en el capítol 3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Contingut il·lustratiu (7.15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Contingut de color (7.17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Contingut sonor (7.18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Durada (7.22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El camp 300 s'hi barregen dades sobre el suport físic com dades del contingut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511CC-8483-4035-B137-A22D94662E6B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Contingut il·lustratiu (RDA 7.1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5400" indent="-95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ELEMENT BÀSIC PER A LA BC I EL CCUC</a:t>
            </a: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Àmbit = "és el contingut concebut per il·lustrar el contingut principal d’un recurs."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5400" indent="-954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Font: Obtingueu la informació de qualsevol font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5400" indent="-954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Enregistreu: </a:t>
            </a:r>
            <a:r>
              <a:rPr b="1" lang="ca-ES" sz="2600" spc="-1" strike="noStrike">
                <a:solidFill>
                  <a:srgbClr val="376092"/>
                </a:solidFill>
                <a:latin typeface="Courier New"/>
                <a:ea typeface="Courier New"/>
              </a:rPr>
              <a:t>il·lustració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 o </a:t>
            </a:r>
            <a:r>
              <a:rPr b="1" lang="ca-ES" sz="2600" spc="-1" strike="noStrike">
                <a:solidFill>
                  <a:srgbClr val="376092"/>
                </a:solidFill>
                <a:latin typeface="Courier New"/>
                <a:ea typeface="Courier New"/>
              </a:rPr>
              <a:t>il·lustrac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5400" indent="-954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600" spc="-1" strike="noStrike">
                <a:solidFill>
                  <a:srgbClr val="000000"/>
                </a:solidFill>
                <a:latin typeface="Calibri"/>
              </a:rPr>
              <a:t>Concreció 7.15 Alternativa: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a-ES" sz="2600" spc="-1" strike="noStrike">
                <a:solidFill>
                  <a:srgbClr val="000000"/>
                </a:solidFill>
                <a:latin typeface="Calibri"/>
              </a:rPr>
              <a:t>En general, no s’aplica. 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No és necessari especificar</a:t>
            </a:r>
            <a:r>
              <a:rPr b="0" i="1" lang="ca-E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tipus específics (per ex.: gràfics, mapes, retrats, formularis, plànols, etc.)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5400" indent="-954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600" spc="-1" strike="noStrike">
                <a:solidFill>
                  <a:srgbClr val="000000"/>
                </a:solidFill>
                <a:latin typeface="Calibri"/>
              </a:rPr>
              <a:t>Concreció 7.17 Addició opcional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. És opcional donar el nombre d'il·lustracion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5400" indent="-954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MARC 300 $b 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63C43-899B-4962-82E1-88670645D330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Contingut del color (RDA 7.17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ELEMENT BÀSIC PER A LA BC I EL CCU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Àmbit = "és la presència de color, de tonalitat, etc., en el contingut d’un recurs."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Font: Useu l’evidència presentada pel recurs mateix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alibri"/>
              </a:rPr>
              <a:t>Concreció 7.17 Alternativa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S'aplica. 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Enregistreu el contingut de color usant un o més dels termes alternatius a monocrom, policrom: </a:t>
            </a:r>
            <a:r>
              <a:rPr b="0" lang="ca-ES" sz="2400" spc="-1" strike="noStrike">
                <a:solidFill>
                  <a:srgbClr val="376092"/>
                </a:solidFill>
                <a:latin typeface="Calibri"/>
              </a:rPr>
              <a:t>blanc i negre, color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Enregistreu les particularitats del contingut de color si es consideren importan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 300 $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Ex.: 300## … :$bil·lustracions (algunes en color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2D18C-D6B0-4A49-89B4-31383D0E8746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Contingut sonor (RDA 7.18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483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ELEMENT BÀSIC PER A LA BC I EL CCUC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Abast = "és la presència de so en un recurs que no consisteix principalment en so enregistrat."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Font: Useu l’evidència presentada pel recurs mateix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Enregistreu "</a:t>
            </a:r>
            <a:r>
              <a:rPr b="0" i="1" lang="ca-ES" sz="2700" spc="-1" strike="noStrike">
                <a:solidFill>
                  <a:srgbClr val="376092"/>
                </a:solidFill>
                <a:latin typeface="Calibri"/>
              </a:rPr>
              <a:t>sonor</a:t>
            </a:r>
            <a:r>
              <a:rPr b="0" i="1" lang="ca-ES" sz="2700" spc="-1" strike="noStrike">
                <a:solidFill>
                  <a:srgbClr val="000000"/>
                </a:solidFill>
                <a:latin typeface="Calibri"/>
              </a:rPr>
              <a:t>" per indicar la presència de so en un recurs que no consisteix 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principalment en so enregistrat (p. ex.: c</a:t>
            </a:r>
            <a:r>
              <a:rPr b="0" i="1" lang="ca-ES" sz="2700" spc="-1" strike="noStrike">
                <a:solidFill>
                  <a:srgbClr val="000000"/>
                </a:solidFill>
                <a:latin typeface="Calibri"/>
              </a:rPr>
              <a:t>onjunt de diapositives amb so integrat)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700" spc="-1" strike="noStrike">
                <a:solidFill>
                  <a:srgbClr val="000000"/>
                </a:solidFill>
                <a:latin typeface="Calibri"/>
              </a:rPr>
              <a:t>Excepció. Per a recursos d’imatges en moviment 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(p. ex.: els</a:t>
            </a:r>
            <a:r>
              <a:rPr b="1" i="1" lang="ca-E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enregistraments de vídeo), enregistreu: "</a:t>
            </a:r>
            <a:r>
              <a:rPr b="0" lang="ca-ES" sz="2700" spc="-1" strike="noStrike">
                <a:solidFill>
                  <a:srgbClr val="376092"/>
                </a:solidFill>
                <a:latin typeface="Calibri"/>
                <a:ea typeface="Courier New"/>
              </a:rPr>
              <a:t>so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  <a:ea typeface="Courier New"/>
              </a:rPr>
              <a:t>"</a:t>
            </a:r>
            <a:r>
              <a:rPr b="0" i="1" lang="ca-E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i="1" lang="ca-E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  <a:ea typeface="Courier New"/>
              </a:rPr>
              <a:t>"</a:t>
            </a:r>
            <a:r>
              <a:rPr b="0" lang="ca-ES" sz="2700" spc="-1" strike="noStrike">
                <a:solidFill>
                  <a:srgbClr val="376092"/>
                </a:solidFill>
                <a:latin typeface="Calibri"/>
                <a:ea typeface="Courier New"/>
              </a:rPr>
              <a:t>mut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  <a:ea typeface="Courier New"/>
              </a:rPr>
              <a:t>"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MARC 300 $b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videodisc (100 min) :$bs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F9694-F9A0-4F0C-A020-5816A951E404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Durada (RDA 7.2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836280"/>
            <a:ext cx="829152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5400" indent="-954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ELEMENT BÀSIC PER A LA BC I EL CCUC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Abast = "es el temps de reproducció, de projecció, d’execució, etc., del contingut d’un recurs."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Font: Obtingueu la informació sobre la durada de qualsevol fon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Enregistrament de la durad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5400" indent="-954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Enregistreu el temps exacte si es pot determinar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5400" indent="-954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Un temps aproximat si es pot estimar precedit de "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  <a:ea typeface="Courier New"/>
              </a:rPr>
              <a:t>aproximadament</a:t>
            </a:r>
            <a:r>
              <a:rPr b="1" lang="ca-ES" sz="2200" spc="-1" strike="noStrike">
                <a:solidFill>
                  <a:srgbClr val="000000"/>
                </a:solidFill>
                <a:latin typeface="Calibri"/>
                <a:ea typeface="Courier New"/>
              </a:rPr>
              <a:t>"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5400" indent="-954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Si no es pot determinar o estimar fàcilment, ometeu-lo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Useu els símbols de l'apendix B, 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llista B.7, que s’apliquin a les unitats de temps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MARC 300 $a</a:t>
            </a: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/ 50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 300 ## $a1 disc àudio(45 min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500 ## $aDuració: aproximadament 30 mi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: es tracta d'un recurs de música notad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C156D-3279-456C-8670-5EAC6BD10FEE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Informació sobre la tesi o la memòria (RDA 7.9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25056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ELEMENT BÀSIC PER A LA BC I EL CCU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Abast =</a:t>
            </a: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 "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és una informació sobre una obra presentada com a part dels requisits formals per a l’obtenció d’un títol acadèmic."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Obtingueu la informació sobre la tesi o la memòria de qualsevol font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Enregistreu la informació següent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a) el títol per al qual l’autor era candidat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b) el nom de la institució o la facultat en la qual es va presentar la tesi, 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c) l’any d’obtenció del títol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MARC 502 $b, $c, $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502 ##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Doctorat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c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Universitat de Barcelona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d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197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CC543-45B6-470B-9B10-452AE812C368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Resum del contingut (RDA 7.1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ELEMENT BÀSIC PER A LA BC I EL CCUC </a:t>
            </a:r>
            <a:r>
              <a:rPr b="0" i="1" lang="ca-ES" sz="2200" spc="-1" strike="noStrike">
                <a:solidFill>
                  <a:srgbClr val="000000"/>
                </a:solidFill>
                <a:latin typeface="Calibri"/>
              </a:rPr>
              <a:t>per a materials d'arxiu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Abast = "és una síntesi, un sumari, una sinopsi, etc., del contingut del recurs."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Font: Obtingueu la informació que s’ha d’usar en resumir el contingut de qualsevol fon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Proporcioneu un resum breu i objectiu del contingut del recurs si aquesta informació es considera important per a la identificació o la selecció i no s’ha enregistrat informació suficient en una altra part de la descripció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MARC 52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520 ## $aActes, llistes de membres i de cotitzacions, periòdics, llibres d’entrades i sortides, formularis, circulars i correspondència d’un grup local del sindicat de fusters de 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27EC5-FCD9-4DE8-BC79-F6A1130B00AF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Lloc i data de captura (RDA </a:t>
            </a: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7.1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ELEMENT BÀSIC PER A LA BC I EL CCU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Abast</a:t>
            </a: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 = "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són el lloc i la data associats amb la captura (és a dir, l’enregistrament, la filmació, etc.) del contingut d’un recurs."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Font</a:t>
            </a: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qualsevol font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Enregistreu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Lloc: l’estudi concret, la sala del concert, etc., quan s’aplica i es pot determinar fàcilment </a:t>
            </a:r>
            <a:r>
              <a:rPr b="1" i="1" lang="ca-ES" sz="2400" spc="-1" strike="noStrike">
                <a:solidFill>
                  <a:srgbClr val="000000"/>
                </a:solidFill>
                <a:latin typeface="Calibri"/>
              </a:rPr>
              <a:t>i 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la ciutat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Data:</a:t>
            </a: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l’any, el mes, el dia i l’hora quan s’apliqu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MARC 033, 518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Ex.: 033 20 $a20081020$a20081022$b6564$cB3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    </a:t>
            </a:r>
            <a:r>
              <a:rPr b="1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518 ## $aEnregistrat en directe: 20-22 d'octubre de 2008, Sala Luz de Gas, Barcelona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3E7FE-067C-4D47-A435-CE8AAE64C97D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Llengua del contingut (RDA 7.1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600" spc="-1" strike="noStrike">
                <a:solidFill>
                  <a:srgbClr val="000000"/>
                </a:solidFill>
                <a:latin typeface="Calibri"/>
              </a:rPr>
              <a:t>ELEMENT BÀSIC PER A LA BC I EL CCU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Abast = "és la llengua usada per expressar el contingut d’un recurs."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Font: qualsevol fon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Enregistreu les particularitats de la llengua o les llengües usades per expressar el contingut del recurs si es consideren importants per a la identificació o la selecció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MARC</a:t>
            </a:r>
            <a:r>
              <a:rPr b="0" lang="ca-ES" sz="3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008/35-37, 041</a:t>
            </a:r>
            <a:r>
              <a:rPr b="0" lang="ca-ES" sz="33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ca-ES" sz="33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546</a:t>
            </a:r>
            <a:r>
              <a:rPr b="0" lang="ca-ES" sz="33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(segons el cas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17A2E-C438-4424-BB74-E10E14807049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600" spc="-1" strike="noStrike">
                <a:solidFill>
                  <a:srgbClr val="000000"/>
                </a:solidFill>
                <a:latin typeface="Calibri"/>
              </a:rPr>
              <a:t>Vocabularis controlats per</a:t>
            </a:r>
            <a:r>
              <a:rPr b="0" lang="ca-E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a-ES" sz="3600" spc="-1" strike="noStrike">
                <a:solidFill>
                  <a:srgbClr val="000000"/>
                </a:solidFill>
                <a:latin typeface="Calibri"/>
              </a:rPr>
              <a:t>al</a:t>
            </a:r>
            <a:br>
              <a:rPr sz="3600"/>
            </a:br>
            <a:r>
              <a:rPr b="1" lang="ca-ES" sz="3600" spc="-1" strike="noStrike">
                <a:solidFill>
                  <a:srgbClr val="000000"/>
                </a:solidFill>
                <a:latin typeface="Calibri"/>
              </a:rPr>
              <a:t>tipus de contingut, suport i suport físic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24000" y="1600200"/>
            <a:ext cx="8820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Llistes tancades: RDA 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6.9.1.3, 3.2.1.3, 3.3.1.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Si hi ha més d'un terme apropiat, hi ha dues opcion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nregistrar-los tots. Repetiu el camp comple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scollir el terme que representi el contingut, suport o suport físic predominant o substancia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Si es desconeix la informació s'enregistra</a:t>
            </a:r>
            <a:r>
              <a:rPr b="0" i="1" lang="ca-ES" sz="2800" spc="-1" strike="noStrike">
                <a:solidFill>
                  <a:srgbClr val="000000"/>
                </a:solidFill>
                <a:latin typeface="Calibri"/>
              </a:rPr>
              <a:t>"</a:t>
            </a:r>
            <a:r>
              <a:rPr b="1" i="1" lang="ca-ES" sz="2800" spc="-1" strike="noStrike">
                <a:solidFill>
                  <a:srgbClr val="376092"/>
                </a:solidFill>
                <a:latin typeface="Calibri"/>
              </a:rPr>
              <a:t>no especificat</a:t>
            </a:r>
            <a:r>
              <a:rPr b="0" i="1" lang="ca-ES" sz="2800" spc="-1" strike="noStrike">
                <a:solidFill>
                  <a:srgbClr val="000000"/>
                </a:solidFill>
                <a:latin typeface="Calibri"/>
              </a:rPr>
              <a:t>"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Si cap terme és apropiat</a:t>
            </a:r>
            <a:r>
              <a:rPr b="0" i="1" lang="ca-ES" sz="2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 s’enregistra </a:t>
            </a:r>
            <a:r>
              <a:rPr b="0" i="1" lang="ca-ES" sz="2800" spc="-1" strike="noStrike">
                <a:solidFill>
                  <a:srgbClr val="000000"/>
                </a:solidFill>
                <a:latin typeface="Calibri"/>
              </a:rPr>
              <a:t>"</a:t>
            </a:r>
            <a:r>
              <a:rPr b="1" i="1" lang="ca-ES" sz="2800" spc="-1" strike="noStrike">
                <a:solidFill>
                  <a:srgbClr val="376092"/>
                </a:solidFill>
                <a:latin typeface="Calibri"/>
              </a:rPr>
              <a:t>altre</a:t>
            </a:r>
            <a:r>
              <a:rPr b="0" i="1" lang="ca-ES" sz="2800" spc="-1" strike="noStrike">
                <a:solidFill>
                  <a:srgbClr val="000000"/>
                </a:solidFill>
                <a:latin typeface="Calibri"/>
              </a:rPr>
              <a:t>"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F1DD0-9448-4EAA-A8E1-4FCDA7166817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Forma de la notació (RDA 7.1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ELEMENT BÀSIC PER A LA BC I EL CCUC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Abast = "és un conjunt de caràcters i/o de símbols usat per expressar el contingut d’un recurs."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Font: qualsevol font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Enregistreu 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a) l’escriptur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b) la forma de la notació musical usada per expressar el contingut musical (p. ex., notació alfabètica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c) la forma de la notació tàctil (per ex., braille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d) la forma de la notació del moviment (p. ex., notació de dansa per traços d’acció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MARC 546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Ex.: 546 ## $bNotació en pentagram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68363-598C-4A3A-A783-6397FC291C10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4 CuadroTexto"/>
          <p:cNvSpPr/>
          <p:nvPr/>
        </p:nvSpPr>
        <p:spPr>
          <a:xfrm>
            <a:off x="6804000" y="6381720"/>
            <a:ext cx="151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Calibri"/>
              </a:rPr>
              <a:t>Act. abril 20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600" spc="-1" strike="noStrike">
                <a:solidFill>
                  <a:srgbClr val="000000"/>
                </a:solidFill>
                <a:latin typeface="Calibri"/>
              </a:rPr>
              <a:t>Contingut suplementari (RDA 7.16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ELEMENT BÀSIC PER A LA BC 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(no per al CCUC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Abast = "és un contingut (per exemple, un índex, una bibliografia, un apèndix) concebut per complementar el contingut principal d’un recurs."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Font: qualsevol fo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 504 i 5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500 ## $aInclou índex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	</a:t>
            </a:r>
            <a:r>
              <a:rPr b="1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504 ## $aBibliografia: pàgines 859-910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	</a:t>
            </a:r>
            <a:r>
              <a:rPr b="1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504 ##</a:t>
            </a:r>
            <a:r>
              <a:rPr b="1" lang="ca-ES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$aInclou bibliografies i índex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0C151-3BF8-4102-9F03-3B36E5388D74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Música notad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ELEMENTS BÀSICS PER A LA BC I EL CCU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Format de la música notada 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(RDA 7.20 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p. ex., partitura voca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Repartiment de l’execució d’un contingut musical 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( RDA 7.21 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p. ex., reducció per a clarinet i pian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500</a:t>
            </a:r>
            <a:br>
              <a:rPr sz="2800"/>
            </a:b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87C6C-877E-4F55-9BCE-EFA575159724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Recursos cartogràf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539280" y="1341000"/>
            <a:ext cx="81471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ELEMENTS BÀSICS PER A LA BC I EL CCU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68200" indent="-268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scala horitzontal (RDA 7.25.3 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68200" indent="-268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scala vertical (RDA 7.25.4 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68200" indent="-268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Informació d'escala addicional (RDA 7.25.5 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68200" indent="-268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Projecció del contingut cartogràfic (RDA 7.26 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MARC 25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3CE52-48DE-4742-BAD9-19CCBDADE7A4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5 CuadroTexto"/>
          <p:cNvSpPr/>
          <p:nvPr/>
        </p:nvSpPr>
        <p:spPr>
          <a:xfrm>
            <a:off x="6588000" y="6381720"/>
            <a:ext cx="165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Calibri"/>
              </a:rPr>
              <a:t>Act. gener 20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Premis (RDA 7.28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ELEMENT BÀSIC PER A LA BC I EL CCU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Abast = "és un reconeixement formal d’excel·lència, etc., del contingut d’un recurs, concedit per un organisme amb capacitat de concedir premis."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nregistreu la informació sobre els premis si es considera important per a la identificació o la selecció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58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586 8# $aOscar al millor documental 2010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AC529-3164-4361-9613-71B4EB068753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3200" spc="-1" strike="noStrike">
                <a:solidFill>
                  <a:srgbClr val="000000"/>
                </a:solidFill>
                <a:latin typeface="Calibri"/>
              </a:rPr>
              <a:t>Pregunt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649E5-44E6-4B1F-B2C9-9DE7BFCBB140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Tipus de contingut (RDA 6.9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68000" y="981000"/>
            <a:ext cx="828036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ELEMENT BÀSIC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Abast = "... forma fonamental de comunicació en què s’expressa el contingut i el sentit humà per mitjà del qual s’ha de percebre."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Termes de la Taula 6.1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684360" y="2932200"/>
            <a:ext cx="7381800" cy="1892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Ex.llibr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Capçalera/06 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6 ## 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text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txt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. CD de músic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Capçalera/06 = 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6 ##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pt-BR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música executada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pt-BR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prm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pt-BR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7FC70-A0D0-40A0-A181-7BD11B9EA811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5 CuadroTexto"/>
          <p:cNvSpPr/>
          <p:nvPr/>
        </p:nvSpPr>
        <p:spPr>
          <a:xfrm>
            <a:off x="395280" y="5013360"/>
            <a:ext cx="8280360" cy="14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00000"/>
                </a:solidFill>
                <a:latin typeface="Arial"/>
              </a:rPr>
              <a:t>Concreció 6.9.1.3 Alternativa: </a:t>
            </a:r>
            <a:r>
              <a:rPr b="0" i="1" lang="ca-ES" sz="2000" spc="-1" strike="noStrike">
                <a:solidFill>
                  <a:srgbClr val="000000"/>
                </a:solidFill>
                <a:latin typeface="Arial"/>
              </a:rPr>
              <a:t>S'aplica</a:t>
            </a:r>
            <a:r>
              <a:rPr b="0" lang="ca-ES" sz="2000" spc="-1" strike="noStrike">
                <a:solidFill>
                  <a:srgbClr val="000000"/>
                </a:solidFill>
                <a:latin typeface="Arial"/>
              </a:rPr>
              <a:t>. Si hi ha més d'un terme apropiat, enregistreu el tipus de contingut que correspongui a la part predominant o parts substancials del recu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28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Arial"/>
              </a:rPr>
              <a:t>MARC 336 $a $b $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41280"/>
            <a:ext cx="8229600" cy="78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Tipus de suport (RDA 3.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611280" y="1052640"/>
            <a:ext cx="8229600" cy="208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ELEMENT BÀSIC PER A LA BC I EL CCU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Abast = ".. reflecteix el tipus general de l’aparell d’intermediació requerit per visionar, reproduir, fer funcionar, etc., el contingut d’un recurs."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Termes de la Taula 3.1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D3A24-8F82-491F-A65E-F4F58E5F3BA9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900000" y="3218400"/>
            <a:ext cx="73821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Ex.llibr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7 ## 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sense mediació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n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. CD de músic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7 ##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pt-BR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àudio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pt-BR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s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pt-BR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6 Rectángulo"/>
          <p:cNvSpPr/>
          <p:nvPr/>
        </p:nvSpPr>
        <p:spPr>
          <a:xfrm>
            <a:off x="684360" y="4724280"/>
            <a:ext cx="792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alibri"/>
              </a:rPr>
              <a:t>Concreció 3.2 Alternativa: </a:t>
            </a: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S'aplica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. Si hi ha més d'un terme apropiat, enregistreu el tipus de suport que correspongui a la part predominant o parts substancials del recu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 337 $a $b $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Tipus de suport físic (RDA 3.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268280"/>
            <a:ext cx="822960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ELEMENT BÀSIC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Abast= "... el format del suport d’emmagatzematge i d’allotjament d’un suport físic en combinació amb el tipus d’aparell de mediació requerit per visionar, reproduir, fer funcionar, etc. el contingut d’un recurs."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Termes de la llista en 3.3.1.3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1FD47-5713-4D05-9AC9-4A617F307B00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826920" y="3147840"/>
            <a:ext cx="73821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Ex.llibr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8 ## 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$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a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volum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$b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nc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$2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rdacarr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. CD de músic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8 ##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disc àudio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sd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arr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5 Rectángulo"/>
          <p:cNvSpPr/>
          <p:nvPr/>
        </p:nvSpPr>
        <p:spPr>
          <a:xfrm>
            <a:off x="611280" y="4724280"/>
            <a:ext cx="792144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alibri"/>
              </a:rPr>
              <a:t>Concreció 3.3 Alternativa: </a:t>
            </a:r>
            <a:r>
              <a:rPr b="0" i="1" lang="ca-ES" sz="2200" spc="-1" strike="noStrike">
                <a:solidFill>
                  <a:srgbClr val="000000"/>
                </a:solidFill>
                <a:latin typeface="Calibri"/>
              </a:rPr>
              <a:t>S'aplica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. Si hi ha més d'un terme apropiat, enregistreu el tipus de suport físic que correspongui a la part predominant o parts substancials del recur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MARC 338 $a $b $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xemples: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Camps MARC 336-337-338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285A6-B47E-407B-9A85-E296C2E1D9EB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5 Rectángulo"/>
          <p:cNvSpPr/>
          <p:nvPr/>
        </p:nvSpPr>
        <p:spPr>
          <a:xfrm>
            <a:off x="1187280" y="1225440"/>
            <a:ext cx="65516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Ex.llibr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Capçalera/06 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6 ## 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text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txt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7 ## 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sense mediació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n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8 ## 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$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a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volum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$b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nc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$2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rdacarr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Ex.llibre principalment il·lustra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Capçalera/06 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6 ## 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text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txt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336 ## 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imatge fixa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sti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7 ## 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sense mediació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n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8 ## 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$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a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volum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$b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nc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$2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rdacarr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. CD músic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Capçalera/06 = 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6 ##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pt-BR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música executada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pt-BR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prm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pt-BR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7 ##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pt-BR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àudio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pt-BR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s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pt-BR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8 ##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disc àudio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sd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arr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7-21T16:06:38Z</dcterms:created>
  <dc:creator>Biblioteca de Catalunya</dc:creator>
  <dc:description/>
  <dc:language>en-US</dc:language>
  <cp:lastModifiedBy>vilsnb</cp:lastModifiedBy>
  <dcterms:modified xsi:type="dcterms:W3CDTF">2017-04-21T07:27:31Z</dcterms:modified>
  <cp:revision>490</cp:revision>
  <dc:subject/>
  <dc:title>Mòdul 2:  Descripció de Suports i Identificació d'Obres</dc:title>
</cp:coreProperties>
</file>